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1.wmf" ContentType="image/x-wmf"/>
  <Override PartName="/ppt/media/image20.gif" ContentType="image/gif"/>
  <Override PartName="/ppt/media/image18.gif" ContentType="image/gif"/>
  <Override PartName="/ppt/media/image22.png" ContentType="image/png"/>
  <Override PartName="/ppt/media/image17.gif" ContentType="image/gif"/>
  <Override PartName="/ppt/media/image14.png" ContentType="image/png"/>
  <Override PartName="/ppt/media/image1.png" ContentType="image/png"/>
  <Override PartName="/ppt/media/image25.wmf" ContentType="image/x-wmf"/>
  <Override PartName="/ppt/media/image29.gif" ContentType="image/gif"/>
  <Override PartName="/ppt/media/image27.png" ContentType="image/png"/>
  <Override PartName="/ppt/media/image12.wmf" ContentType="image/x-wmf"/>
  <Override PartName="/ppt/media/image16.png" ContentType="image/png"/>
  <Override PartName="/ppt/media/image13.gif" ContentType="image/gif"/>
  <Override PartName="/ppt/media/image38.png" ContentType="image/png"/>
  <Override PartName="/ppt/media/image31.gif" ContentType="image/gif"/>
  <Override PartName="/ppt/media/image34.png" ContentType="image/png"/>
  <Override PartName="/ppt/media/image39.png" ContentType="image/png"/>
  <Override PartName="/ppt/media/image9.png" ContentType="image/png"/>
  <Override PartName="/ppt/media/image30.gif" ContentType="image/gif"/>
  <Override PartName="/ppt/media/image33.wmf" ContentType="image/x-wmf"/>
  <Override PartName="/ppt/media/image40.png" ContentType="image/png"/>
  <Override PartName="/ppt/media/image8.wmf" ContentType="image/x-wmf"/>
  <Override PartName="/ppt/media/image37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19.jpeg" ContentType="image/jpeg"/>
  <Override PartName="/ppt/media/image32.gif" ContentType="image/gif"/>
  <Override PartName="/ppt/media/image36.png" ContentType="image/png"/>
  <Override PartName="/ppt/media/image6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3.png" ContentType="image/png"/>
  <Override PartName="/ppt/media/image26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5C75-F731-4E78-972A-7BF241BD3D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D9CA-2E43-414A-9480-0B2693251C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99C2-F30D-40E6-9A3A-251E771275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мину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42B7-5C7D-4E74-B62B-8BDE6AA8E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79FA-D4ED-48CF-B5F8-6BB4E345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0C0B-D985-4524-AE72-925813503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9326-318F-4A75-8FE1-E1FDB2649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8992-E128-45AF-8C03-740D57102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4D0F-10C2-4D06-B448-F6E86280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217A-18CC-47BB-A274-1D3F83B9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64AF-9FDF-4423-9DCC-51D8F62A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D27D-0728-497E-A808-E1A2E9FA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16D2-B5BB-42AC-8C1E-91742BAD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172C-F63B-4A2E-896B-9603CE9D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59B8-B143-44A8-8585-1624D889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BAE5-D413-4999-895D-23AC8E6F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31D5-2F62-41C1-878C-6FF60E43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3EC8-21C8-405B-8C80-3514922E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9150-0A62-4425-B2BF-851E9182C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5CC1-9A75-4734-A65D-E37D4708A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BC8A-9357-4C03-B30C-111BA437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CEDB-1B8D-4926-9DB7-90948D7B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C16B-F6B9-40EF-96F9-03E44F2C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06CC-3146-43F2-B0B8-D55F1638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8775-D781-4A73-A17E-19585808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666D-9F50-4CB6-A4E5-6D84D2D9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C263-21D0-4D60-A71A-9905DFD8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B7B6-AE61-44E1-8A99-77F1BBE12FF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EF7B-562A-449B-AE40-265E09FFC4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26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27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28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29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4F33-4534-4119-9435-EB76A269858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610D-A4F8-4457-923A-C7D021FBA8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31.gif"/><Relationship Id="rId5" Type="http://schemas.openxmlformats.org/officeDocument/2006/relationships/image" Target="../media/image32.gi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33.wm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6.png"/><Relationship Id="rId3" Type="http://schemas.openxmlformats.org/officeDocument/2006/relationships/hyperlink" Target="file:///C:/Users/uzer/Desktop/&#1042;&#1089;&#1077;&#1088;&#1086;&#1089;&#1089;&#1080;&#1081;&#1089;&#1082;&#1080;&#1081;%20&#1082;&#1086;&#1085;&#1082;&#1091;&#1088;&#1089;%20&#1076;&#1083;&#1103;%20&#1087;&#1077;&#1076;&#1072;&#1075;&#1086;&#1075;&#1086;&#1074;%20&#1060;&#1086;&#1085;&#1076;%2021%20&#1074;&#1077;&#1082;&#1072;/&#1044;&#1086;&#1084;&#1072;&#1096;&#1085;&#1077;&#1077;%20&#1079;&#1072;&#1076;&#1072;&#1085;&#1080;&#1077;.pptx" TargetMode="Externa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4385-040D-4BB7-8B0A-4A115F2655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Прямоугольник 5" descr=""/>
          <p:cNvPicPr/>
          <p:nvPr/>
        </p:nvPicPr>
        <p:blipFill>
          <a:blip r:embed="rId1"/>
          <a:stretch/>
        </p:blipFill>
        <p:spPr>
          <a:xfrm>
            <a:off x="633240" y="1000080"/>
            <a:ext cx="8407440" cy="3175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6072120" y="4286160"/>
            <a:ext cx="2551320" cy="210024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6"/>
          <p:cNvSpPr/>
          <p:nvPr/>
        </p:nvSpPr>
        <p:spPr>
          <a:xfrm>
            <a:off x="1071720" y="4286160"/>
            <a:ext cx="514332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фанова Вера Алексеевн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итель математ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У СШ №2 п.Селижарово Тверской области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21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Сформулируйте</a:t>
            </a: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определение квадратного уравн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Объясните, в чём                     заключается смысл ограничения в определении квадратного уравнения (а ≠ 0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E74B-E457-4750-BE71-E15C40448F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6" descr="C:\Documents and Settings\Учитель\Рабочий стол\8 класс\i0006rp.jpg"/>
          <p:cNvPicPr/>
          <p:nvPr/>
        </p:nvPicPr>
        <p:blipFill>
          <a:blip r:embed="rId1"/>
          <a:stretch/>
        </p:blipFill>
        <p:spPr>
          <a:xfrm>
            <a:off x="6500880" y="5000760"/>
            <a:ext cx="1954080" cy="151452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6"/>
          <p:cNvSpPr/>
          <p:nvPr/>
        </p:nvSpPr>
        <p:spPr>
          <a:xfrm>
            <a:off x="928800" y="500040"/>
            <a:ext cx="7358040" cy="785880"/>
          </a:xfrm>
          <a:prstGeom prst="rect">
            <a:avLst/>
          </a:prstGeom>
          <a:gradFill rotWithShape="0">
            <a:gsLst>
              <a:gs pos="0">
                <a:srgbClr val="bebeaf"/>
              </a:gs>
              <a:gs pos="100000">
                <a:srgbClr val="fafae6"/>
              </a:gs>
            </a:gsLst>
            <a:lin ang="16200000"/>
          </a:gradFill>
          <a:ln w="9360">
            <a:solidFill>
              <a:srgbClr val="f9f9e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Times New Roman"/>
              </a:rPr>
              <a:t>Знаю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204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Times New Roman"/>
              </a:rPr>
              <a:t>Как вы думаете, почему квадратные уравнения бывают разными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66320" y="2714400"/>
            <a:ext cx="7620120" cy="31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ассифицируйте уравн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²+8х+3=0                     5х² 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х+6х²+7=0                    6х²+9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²-3х=0                          -х²+3х+4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Дата 3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5C5D-F3D8-46CC-ACFE-2543E19270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7429680" y="5214960"/>
            <a:ext cx="19206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213920" y="785520"/>
            <a:ext cx="74725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вляется ли уравнением выраж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х + 1)(х – 4) = 0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м наиболее рациональным способом мы можем его решить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12" descr="D:\Организатор клипов (Microsoft)\картинки на школьныю тему\картинки на школьныю тему\Рисунок13.png"/>
          <p:cNvPicPr/>
          <p:nvPr/>
        </p:nvPicPr>
        <p:blipFill>
          <a:blip r:embed="rId1"/>
          <a:stretch/>
        </p:blipFill>
        <p:spPr>
          <a:xfrm>
            <a:off x="4714920" y="3357720"/>
            <a:ext cx="3500280" cy="291132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53" name="Picture 16" descr="j0432645"/>
          <p:cNvPicPr/>
          <p:nvPr/>
        </p:nvPicPr>
        <p:blipFill>
          <a:blip r:embed="rId2"/>
          <a:stretch/>
        </p:blipFill>
        <p:spPr>
          <a:xfrm>
            <a:off x="928800" y="4643280"/>
            <a:ext cx="1714320" cy="1714680"/>
          </a:xfrm>
          <a:prstGeom prst="rect">
            <a:avLst/>
          </a:prstGeom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785880"/>
            <a:ext cx="7620120" cy="73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1304"/>
                </a:solidFill>
                <a:latin typeface="Times New Roman"/>
              </a:rPr>
              <a:t>Имеют ли</a:t>
            </a: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21304"/>
                </a:solidFill>
                <a:latin typeface="Times New Roman"/>
              </a:rPr>
              <a:t>уравнения</a:t>
            </a: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21304"/>
                </a:solidFill>
                <a:latin typeface="Times New Roman"/>
              </a:rPr>
              <a:t>корни, если имеют, то сколько?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71720" y="178596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  ах² = 0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)   ах² + с = 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х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Дата 3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EF29-6E06-4433-82C2-0871D3AA5C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Улыбающееся лицо 5"/>
          <p:cNvSpPr/>
          <p:nvPr/>
        </p:nvSpPr>
        <p:spPr>
          <a:xfrm>
            <a:off x="6000840" y="4286160"/>
            <a:ext cx="1714320" cy="1571760"/>
          </a:xfrm>
          <a:prstGeom prst="smileyFace">
            <a:avLst>
              <a:gd name="adj" fmla="val 9282"/>
            </a:avLst>
          </a:prstGeom>
          <a:solidFill>
            <a:srgbClr val="a1bd69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9" descr="C:\Documents and Settings\1\Мои документы\Мои рисунки\My Pictures\анимашки\солнца.колобки\09.gif"/>
          <p:cNvPicPr/>
          <p:nvPr/>
        </p:nvPicPr>
        <p:blipFill>
          <a:blip r:embed="rId1"/>
          <a:stretch/>
        </p:blipFill>
        <p:spPr>
          <a:xfrm>
            <a:off x="1214280" y="1571760"/>
            <a:ext cx="15717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714240"/>
            <a:ext cx="762012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</a:rPr>
              <a:t>От чего зависит наличие корней уравнения </a:t>
            </a:r>
            <a:br>
              <a:rPr sz="3200"/>
            </a:br>
            <a:r>
              <a:rPr b="0" lang="en-US" sz="3200" spc="-1" strike="noStrike">
                <a:solidFill>
                  <a:srgbClr val="00b05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b050"/>
                </a:solidFill>
                <a:latin typeface="Times New Roman"/>
              </a:rPr>
              <a:t>ах²</a:t>
            </a:r>
            <a:r>
              <a:rPr b="0" lang="en-US" sz="32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b05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b050"/>
                </a:solidFill>
                <a:latin typeface="Times New Roman"/>
              </a:rPr>
              <a:t> b</a:t>
            </a:r>
            <a:r>
              <a:rPr b="0" lang="ru-RU" sz="3200" spc="-1" strike="noStrike">
                <a:solidFill>
                  <a:srgbClr val="00b050"/>
                </a:solidFill>
                <a:latin typeface="Times New Roman"/>
              </a:rPr>
              <a:t>х</a:t>
            </a:r>
            <a:r>
              <a:rPr b="0" lang="en-US" sz="32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b05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b050"/>
                </a:solidFill>
                <a:latin typeface="Times New Roman"/>
              </a:rPr>
              <a:t>с</a:t>
            </a:r>
            <a:r>
              <a:rPr b="0" lang="en-US" sz="32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b05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b050"/>
                </a:solidFill>
                <a:latin typeface="Times New Roman"/>
              </a:rPr>
              <a:t>0?    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числите дискриминант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вадратного уравнения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х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8х - 3 = 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Дата 3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9AFF-E6EC-4AB7-972F-2B48E15FBC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8" descr="C:\Documents and Settings\1\Мои документы\Мои рисунки\My Pictures\анимашки\солнца.колобки\201.gif"/>
          <p:cNvPicPr/>
          <p:nvPr/>
        </p:nvPicPr>
        <p:blipFill>
          <a:blip r:embed="rId1"/>
          <a:stretch/>
        </p:blipFill>
        <p:spPr>
          <a:xfrm>
            <a:off x="6500880" y="43578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Times New Roman"/>
              </a:rPr>
              <a:t>Сколько корней имеет каждое уравнение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(х-1)(х+1)=0             (х-2)²+4=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(х-0,4)х=0                  х²+5=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9х²-1=0                      х²-3х=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6х²+4=0                     16х²-4=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0,07х²=0                 (2х-1)(4+х)=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Дата 3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2473-0CAE-464A-B08C-5532716B6A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214280" y="2214720"/>
            <a:ext cx="759960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лушаю – забыва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мотрю – запомина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лаю – понимаю.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онфу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4" descr="books"/>
          <p:cNvPicPr/>
          <p:nvPr/>
        </p:nvPicPr>
        <p:blipFill>
          <a:blip r:embed="rId1"/>
          <a:stretch/>
        </p:blipFill>
        <p:spPr>
          <a:xfrm>
            <a:off x="6643800" y="285840"/>
            <a:ext cx="1944720" cy="1598400"/>
          </a:xfrm>
          <a:prstGeom prst="rect">
            <a:avLst/>
          </a:prstGeom>
          <a:ln w="0">
            <a:noFill/>
          </a:ln>
        </p:spPr>
      </p:pic>
      <p:sp>
        <p:nvSpPr>
          <p:cNvPr id="171" name="Багетная рамка 3">
            <a:hlinkClick r:id="" action="ppaction://hlinkshowjump?jump=nextslide"/>
          </p:cNvPr>
          <p:cNvSpPr/>
          <p:nvPr/>
        </p:nvSpPr>
        <p:spPr>
          <a:xfrm>
            <a:off x="4429080" y="1714680"/>
            <a:ext cx="2714760" cy="1143000"/>
          </a:xfrm>
          <a:prstGeom prst="bevel">
            <a:avLst>
              <a:gd name="adj" fmla="val 12500"/>
            </a:avLst>
          </a:prstGeom>
          <a:solidFill>
            <a:srgbClr val="a1bd69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3х²-6=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Багетная рамка 4"/>
          <p:cNvSpPr/>
          <p:nvPr/>
        </p:nvSpPr>
        <p:spPr>
          <a:xfrm>
            <a:off x="2143080" y="1714680"/>
            <a:ext cx="2286000" cy="1143000"/>
          </a:xfrm>
          <a:prstGeom prst="bevel">
            <a:avLst>
              <a:gd name="adj" fmla="val 12500"/>
            </a:avLst>
          </a:prstGeom>
          <a:solidFill>
            <a:srgbClr val="a1bd69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-4х²=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Багетная рамка 5"/>
          <p:cNvSpPr/>
          <p:nvPr/>
        </p:nvSpPr>
        <p:spPr>
          <a:xfrm>
            <a:off x="3214800" y="4286160"/>
            <a:ext cx="2857320" cy="1428840"/>
          </a:xfrm>
          <a:prstGeom prst="bevel">
            <a:avLst>
              <a:gd name="adj" fmla="val 12500"/>
            </a:avLst>
          </a:prstGeom>
          <a:solidFill>
            <a:srgbClr val="a1bd69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²+10х+25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Багетная рамка 6"/>
          <p:cNvSpPr/>
          <p:nvPr/>
        </p:nvSpPr>
        <p:spPr>
          <a:xfrm>
            <a:off x="1714680" y="2857680"/>
            <a:ext cx="2786040" cy="1428480"/>
          </a:xfrm>
          <a:prstGeom prst="bevel">
            <a:avLst>
              <a:gd name="adj" fmla="val 12500"/>
            </a:avLst>
          </a:prstGeom>
          <a:solidFill>
            <a:srgbClr val="a1bd69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-5х²-3=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Багетная рамка 7"/>
          <p:cNvSpPr/>
          <p:nvPr/>
        </p:nvSpPr>
        <p:spPr>
          <a:xfrm>
            <a:off x="4500720" y="2857680"/>
            <a:ext cx="3000240" cy="1428480"/>
          </a:xfrm>
          <a:prstGeom prst="bevel">
            <a:avLst>
              <a:gd name="adj" fmla="val 12500"/>
            </a:avLst>
          </a:prstGeom>
          <a:solidFill>
            <a:srgbClr val="a1bd69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2х-2)(3х+12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Багетная рамка 8"/>
          <p:cNvSpPr/>
          <p:nvPr/>
        </p:nvSpPr>
        <p:spPr>
          <a:xfrm>
            <a:off x="357120" y="4286160"/>
            <a:ext cx="2857680" cy="1428840"/>
          </a:xfrm>
          <a:prstGeom prst="bevel">
            <a:avLst>
              <a:gd name="adj" fmla="val 12500"/>
            </a:avLst>
          </a:prstGeom>
          <a:solidFill>
            <a:srgbClr val="a1bd69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х²+5х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Багетная рамка 9"/>
          <p:cNvSpPr/>
          <p:nvPr/>
        </p:nvSpPr>
        <p:spPr>
          <a:xfrm>
            <a:off x="6072120" y="4286160"/>
            <a:ext cx="2643120" cy="1428840"/>
          </a:xfrm>
          <a:prstGeom prst="bevel">
            <a:avLst>
              <a:gd name="adj" fmla="val 12500"/>
            </a:avLst>
          </a:prstGeom>
          <a:solidFill>
            <a:srgbClr val="a1bd69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0,6х²=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14"/>
          <p:cNvSpPr/>
          <p:nvPr/>
        </p:nvSpPr>
        <p:spPr>
          <a:xfrm>
            <a:off x="1091160" y="428760"/>
            <a:ext cx="576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c4e10"/>
                </a:solidFill>
                <a:latin typeface="Comic Sans MS"/>
              </a:rPr>
              <a:t>Решите уравн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Индивидуальная работа на персональных компьютер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http://fcior.edu.ru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647c"/>
                </a:solidFill>
                <a:latin typeface="Times New Roman"/>
              </a:rPr>
              <a:t>Решение квадратных уравнений по формуле. К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24647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Дата 3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3ABD-C65E-46DC-84E2-AF343532A0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1928880" y="500040"/>
            <a:ext cx="6215040" cy="857160"/>
          </a:xfrm>
          <a:prstGeom prst="rect">
            <a:avLst/>
          </a:prstGeom>
          <a:gradFill rotWithShape="0">
            <a:gsLst>
              <a:gs pos="0">
                <a:srgbClr val="bebeaf"/>
              </a:gs>
              <a:gs pos="100000">
                <a:srgbClr val="fafae6"/>
              </a:gs>
            </a:gsLst>
            <a:lin ang="16200000"/>
          </a:gradFill>
          <a:ln w="9360">
            <a:solidFill>
              <a:srgbClr val="f9f9e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Impact"/>
              </a:rPr>
              <a:t>Самостоятельная рабо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071720" y="178596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² – х -6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рафический метод часто применяют не для нахождения корней уравнения, а для определения их количеств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Дата 3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A595-A6EA-4924-9BCA-50C04BA3BE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8" descr="C:\Documents and Settings\1\Мои документы\Мои рисунки\My Pictures\анимашки\солнца.колобки\1sm-face-2b.gif"/>
          <p:cNvPicPr/>
          <p:nvPr/>
        </p:nvPicPr>
        <p:blipFill>
          <a:blip r:embed="rId1"/>
          <a:stretch/>
        </p:blipFill>
        <p:spPr>
          <a:xfrm>
            <a:off x="7219800" y="4929120"/>
            <a:ext cx="1924200" cy="164304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оугольник 6"/>
          <p:cNvSpPr/>
          <p:nvPr/>
        </p:nvSpPr>
        <p:spPr>
          <a:xfrm>
            <a:off x="1143000" y="500040"/>
            <a:ext cx="7143840" cy="857160"/>
          </a:xfrm>
          <a:prstGeom prst="rect">
            <a:avLst/>
          </a:prstGeom>
          <a:gradFill rotWithShape="0">
            <a:gsLst>
              <a:gs pos="0">
                <a:srgbClr val="bebeaf"/>
              </a:gs>
              <a:gs pos="100000">
                <a:srgbClr val="fafae6"/>
              </a:gs>
            </a:gsLst>
            <a:lin ang="16200000"/>
          </a:gradFill>
          <a:ln w="9360">
            <a:solidFill>
              <a:srgbClr val="f9f9e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Impact"/>
              </a:rPr>
              <a:t>Решить графически уравнени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Object 2"/>
          <p:cNvGraphicFramePr/>
          <p:nvPr/>
        </p:nvGraphicFramePr>
        <p:xfrm>
          <a:off x="2214720" y="4071960"/>
          <a:ext cx="5537160" cy="221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14720" y="4071960"/>
                    <a:ext cx="5537160" cy="22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Times New Roman"/>
              </a:rPr>
              <a:t>Задача из КИМов ЕГЭ-11 класс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боковой стенке цилиндрического бака вблизи дна закреплен кран. После его открытия вода начинает вытекать из бака, при этом высота столба в нем  меняется по закону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=3,2-1,4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0,1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высота в метрах), гд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время в минутах. В течение какого времени вода будет вытекать из бак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Дата 3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B929-DDA3-4295-802E-9BCB0ECD13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8" descr="C:\Documents and Settings\1\Мои документы\Мои рисунки\My Pictures\анимашки\солнца.колобки\1sm-face-2b.gif"/>
          <p:cNvPicPr/>
          <p:nvPr/>
        </p:nvPicPr>
        <p:blipFill>
          <a:blip r:embed="rId1"/>
          <a:stretch/>
        </p:blipFill>
        <p:spPr>
          <a:xfrm>
            <a:off x="7219800" y="4929120"/>
            <a:ext cx="1924200" cy="16430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</a:rPr>
              <a:t>Цель урока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показать применение квадратных уравнений к решению зада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E8F3-85F1-4A27-963D-8FC08913AF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6" descr="C:\Documents and Settings\Учитель\Рабочий стол\8 класс\i0006rp.jpg"/>
          <p:cNvPicPr/>
          <p:nvPr/>
        </p:nvPicPr>
        <p:blipFill>
          <a:blip r:embed="rId1"/>
          <a:stretch/>
        </p:blipFill>
        <p:spPr>
          <a:xfrm>
            <a:off x="6429240" y="4572000"/>
            <a:ext cx="19544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Геометрическая задач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§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Дата 3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0697-908A-4D86-95AD-64D647EF75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16" descr="j0432645"/>
          <p:cNvPicPr/>
          <p:nvPr/>
        </p:nvPicPr>
        <p:blipFill>
          <a:blip r:embed="rId1"/>
          <a:stretch/>
        </p:blipFill>
        <p:spPr>
          <a:xfrm>
            <a:off x="785880" y="4286160"/>
            <a:ext cx="1714320" cy="1714680"/>
          </a:xfrm>
          <a:prstGeom prst="rect">
            <a:avLst/>
          </a:prstGeom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02" name="Picture 4" descr="32"/>
          <p:cNvPicPr/>
          <p:nvPr/>
        </p:nvPicPr>
        <p:blipFill>
          <a:blip r:embed="rId2"/>
          <a:stretch/>
        </p:blipFill>
        <p:spPr>
          <a:xfrm>
            <a:off x="5000760" y="1143000"/>
            <a:ext cx="3286080" cy="54770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омер слайда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9842-5623-4C4A-8F72-592DA32D31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</a:rPr>
              <a:t>А есть ли родственники у квадратных уравнений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files.school-collection.edu.ru/dlrstore/5c9a9b61-b2d6-4be2-92bd-6748a14b8c8a/M22D2.sw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8" descr="C:\Documents and Settings\1\Мои документы\Мои рисунки\My Pictures\анимашки\солнца.колобки\1sm-face-2b.gif"/>
          <p:cNvPicPr/>
          <p:nvPr/>
        </p:nvPicPr>
        <p:blipFill>
          <a:blip r:embed="rId1"/>
          <a:stretch/>
        </p:blipFill>
        <p:spPr>
          <a:xfrm>
            <a:off x="7219800" y="4929120"/>
            <a:ext cx="1924200" cy="16430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PE07677_"/>
          <p:cNvPicPr/>
          <p:nvPr/>
        </p:nvPicPr>
        <p:blipFill>
          <a:blip r:embed="rId2"/>
          <a:stretch/>
        </p:blipFill>
        <p:spPr>
          <a:xfrm>
            <a:off x="1476360" y="2565360"/>
            <a:ext cx="3348000" cy="33577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Домашнее задание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066320" y="1285920"/>
            <a:ext cx="762012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§ 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1 уровен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№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4-15вг,№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2 уровень – Кимы ГИА -9 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йти все значения параметра р, при которых уравнение х²+(р-3)х+6-р=0 имеет хотя бы один корен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Дата 3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2462-3F91-4605-91EF-3F4D3B6D8E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8" descr="C:\Documents and Settings\1\Мои документы\Мои рисунки\My Pictures\анимашки\солнца.колобки\1sm-face-2b.gif"/>
          <p:cNvPicPr/>
          <p:nvPr/>
        </p:nvPicPr>
        <p:blipFill>
          <a:blip r:embed="rId1"/>
          <a:stretch/>
        </p:blipFill>
        <p:spPr>
          <a:xfrm>
            <a:off x="7219800" y="4929120"/>
            <a:ext cx="1924200" cy="1643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j0232133"/>
          <p:cNvPicPr/>
          <p:nvPr/>
        </p:nvPicPr>
        <p:blipFill>
          <a:blip r:embed="rId2"/>
          <a:stretch/>
        </p:blipFill>
        <p:spPr>
          <a:xfrm>
            <a:off x="-214200" y="285840"/>
            <a:ext cx="3429000" cy="351792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7"/>
          <p:cNvSpPr/>
          <p:nvPr/>
        </p:nvSpPr>
        <p:spPr>
          <a:xfrm>
            <a:off x="2500200" y="428760"/>
            <a:ext cx="5857920" cy="857160"/>
          </a:xfrm>
          <a:prstGeom prst="rect">
            <a:avLst/>
          </a:prstGeom>
          <a:gradFill rotWithShape="0">
            <a:gsLst>
              <a:gs pos="0">
                <a:srgbClr val="bebeaf"/>
              </a:gs>
              <a:gs pos="100000">
                <a:srgbClr val="fafae6"/>
              </a:gs>
            </a:gsLst>
            <a:lin ang="16200000"/>
          </a:gradFill>
          <a:ln w="9360">
            <a:solidFill>
              <a:srgbClr val="f9f9e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Impact"/>
              </a:rPr>
              <a:t>Домашнее задани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5447-8C03-48F3-962E-C7D635FAC4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Содержимое 6" descr="Рисунок1.wmf"/>
          <p:cNvPicPr/>
          <p:nvPr/>
        </p:nvPicPr>
        <p:blipFill>
          <a:blip r:embed="rId1"/>
          <a:stretch/>
        </p:blipFill>
        <p:spPr>
          <a:xfrm>
            <a:off x="857160" y="0"/>
            <a:ext cx="7286760" cy="4286160"/>
          </a:xfrm>
          <a:prstGeom prst="rect">
            <a:avLst/>
          </a:prstGeom>
          <a:ln w="0">
            <a:noFill/>
          </a:ln>
        </p:spPr>
      </p:pic>
      <p:pic>
        <p:nvPicPr>
          <p:cNvPr id="218" name="Прямоугольник 7" descr=""/>
          <p:cNvPicPr/>
          <p:nvPr/>
        </p:nvPicPr>
        <p:blipFill>
          <a:blip r:embed="rId2"/>
          <a:stretch/>
        </p:blipFill>
        <p:spPr>
          <a:xfrm>
            <a:off x="1584360" y="176040"/>
            <a:ext cx="2738520" cy="2122560"/>
          </a:xfrm>
          <a:prstGeom prst="rect">
            <a:avLst/>
          </a:prstGeom>
          <a:ln w="0">
            <a:noFill/>
          </a:ln>
        </p:spPr>
      </p:pic>
      <p:pic>
        <p:nvPicPr>
          <p:cNvPr id="219" name="Прямоугольник 9" descr=""/>
          <p:cNvPicPr/>
          <p:nvPr/>
        </p:nvPicPr>
        <p:blipFill>
          <a:blip r:embed="rId3"/>
          <a:stretch/>
        </p:blipFill>
        <p:spPr>
          <a:xfrm>
            <a:off x="4511520" y="4121280"/>
            <a:ext cx="380376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Оцените своё настроение и состояние 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после проведённого урока. 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21" name="Содержимое 7" descr=""/>
          <p:cNvPicPr/>
          <p:nvPr/>
        </p:nvPicPr>
        <p:blipFill>
          <a:blip r:embed="rId1"/>
          <a:stretch/>
        </p:blipFill>
        <p:spPr>
          <a:xfrm>
            <a:off x="208080" y="1212840"/>
            <a:ext cx="8485200" cy="50911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arg-2-25-trans-y[1]"/>
          <p:cNvPicPr/>
          <p:nvPr/>
        </p:nvPicPr>
        <p:blipFill>
          <a:blip r:embed="rId2"/>
          <a:stretch/>
        </p:blipFill>
        <p:spPr>
          <a:xfrm>
            <a:off x="3851280" y="5099040"/>
            <a:ext cx="1224000" cy="9939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arg-3-25-trans-y[1]"/>
          <p:cNvPicPr/>
          <p:nvPr/>
        </p:nvPicPr>
        <p:blipFill>
          <a:blip r:embed="rId3"/>
          <a:stretch/>
        </p:blipFill>
        <p:spPr>
          <a:xfrm>
            <a:off x="5781600" y="3170160"/>
            <a:ext cx="1081080" cy="1046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arg-4-25-trans-y[1]"/>
          <p:cNvPicPr/>
          <p:nvPr/>
        </p:nvPicPr>
        <p:blipFill>
          <a:blip r:embed="rId4"/>
          <a:stretch/>
        </p:blipFill>
        <p:spPr>
          <a:xfrm>
            <a:off x="2050920" y="3141720"/>
            <a:ext cx="1224000" cy="1039680"/>
          </a:xfrm>
          <a:prstGeom prst="rect">
            <a:avLst/>
          </a:prstGeom>
          <a:ln w="0">
            <a:noFill/>
          </a:ln>
        </p:spPr>
      </p:pic>
      <p:sp>
        <p:nvSpPr>
          <p:cNvPr id="225" name="Oval 12"/>
          <p:cNvSpPr/>
          <p:nvPr/>
        </p:nvSpPr>
        <p:spPr>
          <a:xfrm>
            <a:off x="3780000" y="1197000"/>
            <a:ext cx="1368360" cy="13683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11" descr="arg-5-25-trans-y[1]"/>
          <p:cNvPicPr/>
          <p:nvPr/>
        </p:nvPicPr>
        <p:blipFill>
          <a:blip r:embed="rId5"/>
          <a:stretch/>
        </p:blipFill>
        <p:spPr>
          <a:xfrm>
            <a:off x="3922560" y="1197000"/>
            <a:ext cx="1225800" cy="1136520"/>
          </a:xfrm>
          <a:prstGeom prst="rect">
            <a:avLst/>
          </a:prstGeom>
          <a:ln w="0">
            <a:noFill/>
          </a:ln>
        </p:spPr>
      </p:pic>
      <p:sp>
        <p:nvSpPr>
          <p:cNvPr id="227" name="Управляющая кнопка: в конец 18"/>
          <p:cNvSpPr/>
          <p:nvPr/>
        </p:nvSpPr>
        <p:spPr>
          <a:xfrm>
            <a:off x="7929720" y="6000840"/>
            <a:ext cx="642960" cy="428400"/>
          </a:xfrm>
          <a:custGeom>
            <a:avLst/>
            <a:gdLst>
              <a:gd name="textAreaLeft" fmla="*/ 27720 w 642960"/>
              <a:gd name="textAreaRight" fmla="*/ 615240 w 6429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2409" h="21600">
                <a:moveTo>
                  <a:pt x="0" y="0"/>
                </a:moveTo>
                <a:lnTo>
                  <a:pt x="32409" y="0"/>
                </a:lnTo>
                <a:lnTo>
                  <a:pt x="32409" y="21600"/>
                </a:lnTo>
                <a:lnTo>
                  <a:pt x="0" y="21600"/>
                </a:lnTo>
                <a:close/>
              </a:path>
              <a:path fill="lightenLess" w="32409" h="21600">
                <a:moveTo>
                  <a:pt x="0" y="0"/>
                </a:moveTo>
                <a:lnTo>
                  <a:pt x="32409" y="0"/>
                </a:lnTo>
                <a:lnTo>
                  <a:pt x="31009" y="1400"/>
                </a:lnTo>
                <a:lnTo>
                  <a:pt x="1400" y="1400"/>
                </a:lnTo>
                <a:close/>
              </a:path>
              <a:path fill="darken" w="32409" h="21600">
                <a:moveTo>
                  <a:pt x="32409" y="0"/>
                </a:moveTo>
                <a:lnTo>
                  <a:pt x="32409" y="21600"/>
                </a:lnTo>
                <a:lnTo>
                  <a:pt x="31009" y="20200"/>
                </a:lnTo>
                <a:lnTo>
                  <a:pt x="31009" y="1400"/>
                </a:lnTo>
                <a:close/>
              </a:path>
              <a:path fill="darkenLess" w="32409" h="21600">
                <a:moveTo>
                  <a:pt x="324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9" y="20200"/>
                </a:lnTo>
                <a:close/>
              </a:path>
              <a:path fill="lighten" w="324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9" h="21600">
                <a:moveTo>
                  <a:pt x="19703" y="10800"/>
                </a:moveTo>
                <a:lnTo>
                  <a:pt x="9198" y="17806"/>
                </a:lnTo>
                <a:lnTo>
                  <a:pt x="9198" y="3794"/>
                </a:lnTo>
                <a:close/>
              </a:path>
              <a:path fill="darken" w="32409" h="21600">
                <a:moveTo>
                  <a:pt x="21549" y="3794"/>
                </a:moveTo>
                <a:lnTo>
                  <a:pt x="21549" y="17806"/>
                </a:lnTo>
                <a:lnTo>
                  <a:pt x="23211" y="17806"/>
                </a:lnTo>
                <a:lnTo>
                  <a:pt x="23211" y="3794"/>
                </a:lnTo>
                <a:close/>
              </a:path>
            </a:pathLst>
          </a:custGeom>
          <a:solidFill>
            <a:srgbClr val="fefde3"/>
          </a:solidFill>
          <a:ln w="255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Управляющая кнопка: в начало 19"/>
          <p:cNvSpPr/>
          <p:nvPr/>
        </p:nvSpPr>
        <p:spPr>
          <a:xfrm>
            <a:off x="1285920" y="6000840"/>
            <a:ext cx="714240" cy="428400"/>
          </a:xfrm>
          <a:custGeom>
            <a:avLst/>
            <a:gdLst>
              <a:gd name="textAreaLeft" fmla="*/ 27720 w 714240"/>
              <a:gd name="textAreaRight" fmla="*/ 686520 w 7142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0" h="21600">
                <a:moveTo>
                  <a:pt x="14501" y="10800"/>
                </a:moveTo>
                <a:lnTo>
                  <a:pt x="25006" y="3794"/>
                </a:lnTo>
                <a:lnTo>
                  <a:pt x="25006" y="17806"/>
                </a:lnTo>
                <a:close/>
              </a:path>
              <a:path fill="darken" w="36000" h="21600">
                <a:moveTo>
                  <a:pt x="10994" y="3794"/>
                </a:moveTo>
                <a:lnTo>
                  <a:pt x="12656" y="3794"/>
                </a:lnTo>
                <a:lnTo>
                  <a:pt x="12656" y="17806"/>
                </a:lnTo>
                <a:lnTo>
                  <a:pt x="10994" y="17806"/>
                </a:lnTo>
                <a:close/>
              </a:path>
            </a:pathLst>
          </a:custGeom>
          <a:gradFill rotWithShape="0">
            <a:gsLst>
              <a:gs pos="0">
                <a:srgbClr val="9fdbfe"/>
              </a:gs>
              <a:gs pos="100000">
                <a:srgbClr val="e4f5ff"/>
              </a:gs>
            </a:gsLst>
            <a:lin ang="16200000"/>
          </a:gradFill>
          <a:ln w="9360">
            <a:solidFill>
              <a:srgbClr val="3192b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Управляющая кнопка: далее 21"/>
          <p:cNvSpPr/>
          <p:nvPr/>
        </p:nvSpPr>
        <p:spPr>
          <a:xfrm>
            <a:off x="6215040" y="592920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3794"/>
                </a:moveTo>
                <a:lnTo>
                  <a:pt x="21403" y="10800"/>
                </a:lnTo>
                <a:lnTo>
                  <a:pt x="7390" y="17806"/>
                </a:lnTo>
                <a:close/>
              </a:path>
            </a:pathLst>
          </a:custGeom>
          <a:gradFill rotWithShape="0">
            <a:gsLst>
              <a:gs pos="0">
                <a:srgbClr val="dcfbad"/>
              </a:gs>
              <a:gs pos="100000">
                <a:srgbClr val="f5ffe8"/>
              </a:gs>
            </a:gsLst>
            <a:lin ang="16200000"/>
          </a:gradFill>
          <a:ln w="9360">
            <a:solidFill>
              <a:srgbClr val="9ebb6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Управляющая кнопка: назад 22"/>
          <p:cNvSpPr/>
          <p:nvPr/>
        </p:nvSpPr>
        <p:spPr>
          <a:xfrm>
            <a:off x="2571840" y="6000840"/>
            <a:ext cx="642960" cy="428400"/>
          </a:xfrm>
          <a:custGeom>
            <a:avLst/>
            <a:gdLst>
              <a:gd name="textAreaLeft" fmla="*/ 27720 w 642960"/>
              <a:gd name="textAreaRight" fmla="*/ 615240 w 6429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2409" h="21600">
                <a:moveTo>
                  <a:pt x="0" y="0"/>
                </a:moveTo>
                <a:lnTo>
                  <a:pt x="32409" y="0"/>
                </a:lnTo>
                <a:lnTo>
                  <a:pt x="32409" y="21600"/>
                </a:lnTo>
                <a:lnTo>
                  <a:pt x="0" y="21600"/>
                </a:lnTo>
                <a:close/>
              </a:path>
              <a:path fill="lightenLess" w="32409" h="21600">
                <a:moveTo>
                  <a:pt x="0" y="0"/>
                </a:moveTo>
                <a:lnTo>
                  <a:pt x="32409" y="0"/>
                </a:lnTo>
                <a:lnTo>
                  <a:pt x="31009" y="1400"/>
                </a:lnTo>
                <a:lnTo>
                  <a:pt x="1400" y="1400"/>
                </a:lnTo>
                <a:close/>
              </a:path>
              <a:path fill="darken" w="32409" h="21600">
                <a:moveTo>
                  <a:pt x="32409" y="0"/>
                </a:moveTo>
                <a:lnTo>
                  <a:pt x="32409" y="21600"/>
                </a:lnTo>
                <a:lnTo>
                  <a:pt x="31009" y="20200"/>
                </a:lnTo>
                <a:lnTo>
                  <a:pt x="31009" y="1400"/>
                </a:lnTo>
                <a:close/>
              </a:path>
              <a:path fill="darkenLess" w="32409" h="21600">
                <a:moveTo>
                  <a:pt x="324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9" y="20200"/>
                </a:lnTo>
                <a:close/>
              </a:path>
              <a:path fill="lighten" w="324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9" h="21600">
                <a:moveTo>
                  <a:pt x="9198" y="10800"/>
                </a:moveTo>
                <a:lnTo>
                  <a:pt x="23211" y="3794"/>
                </a:lnTo>
                <a:lnTo>
                  <a:pt x="23211" y="17806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f9f9e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26C0-62A5-4E98-B869-3473BF0596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8" descr="C:\Documents and Settings\1\Мои документы\Мои рисунки\My Pictures\анимашки\солнца.колобки\1sm-face-2b.gif"/>
          <p:cNvPicPr/>
          <p:nvPr/>
        </p:nvPicPr>
        <p:blipFill>
          <a:blip r:embed="rId1"/>
          <a:stretch/>
        </p:blipFill>
        <p:spPr>
          <a:xfrm>
            <a:off x="6643800" y="4857840"/>
            <a:ext cx="1923840" cy="1643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BS00554_"/>
          <p:cNvPicPr/>
          <p:nvPr/>
        </p:nvPicPr>
        <p:blipFill>
          <a:blip r:embed="rId2"/>
          <a:stretch/>
        </p:blipFill>
        <p:spPr>
          <a:xfrm>
            <a:off x="6610320" y="357120"/>
            <a:ext cx="2533680" cy="2211480"/>
          </a:xfrm>
          <a:prstGeom prst="rect">
            <a:avLst/>
          </a:prstGeom>
          <a:ln w="0">
            <a:noFill/>
          </a:ln>
        </p:spPr>
      </p:pic>
      <p:pic>
        <p:nvPicPr>
          <p:cNvPr id="236" name="Прямоугольник 7" descr=""/>
          <p:cNvPicPr/>
          <p:nvPr/>
        </p:nvPicPr>
        <p:blipFill>
          <a:blip r:embed="rId3"/>
          <a:stretch/>
        </p:blipFill>
        <p:spPr>
          <a:xfrm>
            <a:off x="738360" y="2968560"/>
            <a:ext cx="777708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arg-5-25-trans-y[1]"/>
          <p:cNvPicPr/>
          <p:nvPr/>
        </p:nvPicPr>
        <p:blipFill>
          <a:blip r:embed="rId1"/>
          <a:stretch/>
        </p:blipFill>
        <p:spPr>
          <a:xfrm>
            <a:off x="2857680" y="1500120"/>
            <a:ext cx="5040000" cy="46720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36_2_27[1]"/>
          <p:cNvPicPr/>
          <p:nvPr/>
        </p:nvPicPr>
        <p:blipFill>
          <a:blip r:embed="rId2"/>
          <a:stretch/>
        </p:blipFill>
        <p:spPr>
          <a:xfrm>
            <a:off x="7786800" y="714240"/>
            <a:ext cx="1071360" cy="1071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pic3"/>
          <p:cNvPicPr/>
          <p:nvPr/>
        </p:nvPicPr>
        <p:blipFill>
          <a:blip r:embed="rId3"/>
          <a:stretch/>
        </p:blipFill>
        <p:spPr>
          <a:xfrm>
            <a:off x="571680" y="0"/>
            <a:ext cx="2666880" cy="3524400"/>
          </a:xfrm>
          <a:prstGeom prst="rect">
            <a:avLst/>
          </a:prstGeom>
          <a:ln w="0">
            <a:noFill/>
          </a:ln>
        </p:spPr>
      </p:pic>
      <p:pic>
        <p:nvPicPr>
          <p:cNvPr id="240" name="Прямоугольник 61" descr=""/>
          <p:cNvPicPr/>
          <p:nvPr/>
        </p:nvPicPr>
        <p:blipFill>
          <a:blip r:embed="rId4"/>
          <a:stretch/>
        </p:blipFill>
        <p:spPr>
          <a:xfrm>
            <a:off x="3852720" y="438120"/>
            <a:ext cx="4437360" cy="1871640"/>
          </a:xfrm>
          <a:prstGeom prst="rect">
            <a:avLst/>
          </a:prstGeom>
          <a:ln w="0">
            <a:noFill/>
          </a:ln>
        </p:spPr>
      </p:pic>
      <p:sp>
        <p:nvSpPr>
          <p:cNvPr id="241" name="Управляющая кнопка: в конец 7"/>
          <p:cNvSpPr/>
          <p:nvPr/>
        </p:nvSpPr>
        <p:spPr>
          <a:xfrm>
            <a:off x="7858080" y="6000840"/>
            <a:ext cx="785880" cy="42840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9609" h="21600">
                <a:moveTo>
                  <a:pt x="0" y="0"/>
                </a:moveTo>
                <a:lnTo>
                  <a:pt x="39609" y="0"/>
                </a:lnTo>
                <a:lnTo>
                  <a:pt x="39609" y="21600"/>
                </a:lnTo>
                <a:lnTo>
                  <a:pt x="0" y="21600"/>
                </a:lnTo>
                <a:close/>
              </a:path>
              <a:path fill="lightenLess" w="39609" h="21600">
                <a:moveTo>
                  <a:pt x="0" y="0"/>
                </a:moveTo>
                <a:lnTo>
                  <a:pt x="39609" y="0"/>
                </a:lnTo>
                <a:lnTo>
                  <a:pt x="38209" y="1400"/>
                </a:lnTo>
                <a:lnTo>
                  <a:pt x="1400" y="1400"/>
                </a:lnTo>
                <a:close/>
              </a:path>
              <a:path fill="darken" w="39609" h="21600">
                <a:moveTo>
                  <a:pt x="39609" y="0"/>
                </a:moveTo>
                <a:lnTo>
                  <a:pt x="39609" y="21600"/>
                </a:lnTo>
                <a:lnTo>
                  <a:pt x="38209" y="20200"/>
                </a:lnTo>
                <a:lnTo>
                  <a:pt x="38209" y="1400"/>
                </a:lnTo>
                <a:close/>
              </a:path>
              <a:path fill="darkenLess" w="39609" h="21600">
                <a:moveTo>
                  <a:pt x="39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09" y="20200"/>
                </a:lnTo>
                <a:close/>
              </a:path>
              <a:path fill="lighten" w="39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09" h="21600">
                <a:moveTo>
                  <a:pt x="23303" y="10800"/>
                </a:moveTo>
                <a:lnTo>
                  <a:pt x="12798" y="17806"/>
                </a:lnTo>
                <a:lnTo>
                  <a:pt x="12798" y="3794"/>
                </a:lnTo>
                <a:close/>
              </a:path>
              <a:path fill="darken" w="39609" h="21600">
                <a:moveTo>
                  <a:pt x="25149" y="3794"/>
                </a:moveTo>
                <a:lnTo>
                  <a:pt x="25149" y="17806"/>
                </a:lnTo>
                <a:lnTo>
                  <a:pt x="26811" y="17806"/>
                </a:lnTo>
                <a:lnTo>
                  <a:pt x="26811" y="3794"/>
                </a:lnTo>
                <a:close/>
              </a:path>
            </a:pathLst>
          </a:custGeom>
          <a:gradFill rotWithShape="0">
            <a:gsLst>
              <a:gs pos="0">
                <a:srgbClr val="9fdbfe"/>
              </a:gs>
              <a:gs pos="100000">
                <a:srgbClr val="e4f5ff"/>
              </a:gs>
            </a:gsLst>
            <a:lin ang="16200000"/>
          </a:gradFill>
          <a:ln w="9360">
            <a:solidFill>
              <a:srgbClr val="3192b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arg-4-25-trans-y[1]"/>
          <p:cNvPicPr/>
          <p:nvPr/>
        </p:nvPicPr>
        <p:blipFill>
          <a:blip r:embed="rId1"/>
          <a:stretch/>
        </p:blipFill>
        <p:spPr>
          <a:xfrm>
            <a:off x="857160" y="2143080"/>
            <a:ext cx="4897440" cy="41608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36_2_26[1]"/>
          <p:cNvPicPr/>
          <p:nvPr/>
        </p:nvPicPr>
        <p:blipFill>
          <a:blip r:embed="rId2"/>
          <a:stretch/>
        </p:blipFill>
        <p:spPr>
          <a:xfrm>
            <a:off x="395280" y="33336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244" name="Овал 5" descr=""/>
          <p:cNvPicPr/>
          <p:nvPr/>
        </p:nvPicPr>
        <p:blipFill>
          <a:blip r:embed="rId3"/>
          <a:stretch/>
        </p:blipFill>
        <p:spPr>
          <a:xfrm>
            <a:off x="3693960" y="480960"/>
            <a:ext cx="4973760" cy="1901880"/>
          </a:xfrm>
          <a:prstGeom prst="rect">
            <a:avLst/>
          </a:prstGeom>
          <a:ln w="0">
            <a:noFill/>
          </a:ln>
        </p:spPr>
      </p:pic>
      <p:grpSp>
        <p:nvGrpSpPr>
          <p:cNvPr id="245" name="Group 7"/>
          <p:cNvGrpSpPr/>
          <p:nvPr/>
        </p:nvGrpSpPr>
        <p:grpSpPr>
          <a:xfrm>
            <a:off x="5929200" y="1928880"/>
            <a:ext cx="2786040" cy="4579560"/>
            <a:chOff x="5929200" y="1928880"/>
            <a:chExt cx="2786040" cy="4579560"/>
          </a:xfrm>
        </p:grpSpPr>
        <p:sp>
          <p:nvSpPr>
            <p:cNvPr id="246" name="AutoShape 6"/>
            <p:cNvSpPr/>
            <p:nvPr/>
          </p:nvSpPr>
          <p:spPr>
            <a:xfrm>
              <a:off x="5929200" y="1928880"/>
              <a:ext cx="2786040" cy="45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Freeform 8"/>
            <p:cNvSpPr/>
            <p:nvPr/>
          </p:nvSpPr>
          <p:spPr>
            <a:xfrm>
              <a:off x="5949000" y="1995480"/>
              <a:ext cx="2678040" cy="4512960"/>
            </a:xfrm>
            <a:custGeom>
              <a:avLst/>
              <a:gdLst>
                <a:gd name="textAreaLeft" fmla="*/ 0 w 2678040"/>
                <a:gd name="textAreaRight" fmla="*/ 2678400 w 2678040"/>
                <a:gd name="textAreaTop" fmla="*/ 0 h 4512960"/>
                <a:gd name="textAreaBottom" fmla="*/ 4513320 h 4512960"/>
              </a:gdLst>
              <a:ahLst/>
              <a:rect l="textAreaLeft" t="textAreaTop" r="textAreaRight" b="textAreaBottom"/>
              <a:pathLst>
                <a:path w="5657" h="7034">
                  <a:moveTo>
                    <a:pt x="3698" y="7034"/>
                  </a:moveTo>
                  <a:lnTo>
                    <a:pt x="3549" y="7011"/>
                  </a:lnTo>
                  <a:lnTo>
                    <a:pt x="3411" y="6984"/>
                  </a:lnTo>
                  <a:lnTo>
                    <a:pt x="3281" y="6947"/>
                  </a:lnTo>
                  <a:lnTo>
                    <a:pt x="3161" y="6899"/>
                  </a:lnTo>
                  <a:lnTo>
                    <a:pt x="3044" y="6835"/>
                  </a:lnTo>
                  <a:lnTo>
                    <a:pt x="2940" y="6757"/>
                  </a:lnTo>
                  <a:lnTo>
                    <a:pt x="2841" y="6660"/>
                  </a:lnTo>
                  <a:lnTo>
                    <a:pt x="2752" y="6542"/>
                  </a:lnTo>
                  <a:lnTo>
                    <a:pt x="2736" y="6546"/>
                  </a:lnTo>
                  <a:lnTo>
                    <a:pt x="2726" y="6557"/>
                  </a:lnTo>
                  <a:lnTo>
                    <a:pt x="2715" y="6571"/>
                  </a:lnTo>
                  <a:lnTo>
                    <a:pt x="2707" y="6586"/>
                  </a:lnTo>
                  <a:lnTo>
                    <a:pt x="2693" y="6610"/>
                  </a:lnTo>
                  <a:lnTo>
                    <a:pt x="2670" y="6639"/>
                  </a:lnTo>
                  <a:lnTo>
                    <a:pt x="2637" y="6670"/>
                  </a:lnTo>
                  <a:lnTo>
                    <a:pt x="2598" y="6703"/>
                  </a:lnTo>
                  <a:lnTo>
                    <a:pt x="2556" y="6732"/>
                  </a:lnTo>
                  <a:lnTo>
                    <a:pt x="2517" y="6761"/>
                  </a:lnTo>
                  <a:lnTo>
                    <a:pt x="2480" y="6784"/>
                  </a:lnTo>
                  <a:lnTo>
                    <a:pt x="2455" y="6804"/>
                  </a:lnTo>
                  <a:lnTo>
                    <a:pt x="2457" y="6811"/>
                  </a:lnTo>
                  <a:lnTo>
                    <a:pt x="2455" y="6817"/>
                  </a:lnTo>
                  <a:lnTo>
                    <a:pt x="2449" y="6806"/>
                  </a:lnTo>
                  <a:lnTo>
                    <a:pt x="2445" y="6804"/>
                  </a:lnTo>
                  <a:lnTo>
                    <a:pt x="2352" y="6850"/>
                  </a:lnTo>
                  <a:lnTo>
                    <a:pt x="2230" y="6885"/>
                  </a:lnTo>
                  <a:lnTo>
                    <a:pt x="2090" y="6903"/>
                  </a:lnTo>
                  <a:lnTo>
                    <a:pt x="1947" y="6906"/>
                  </a:lnTo>
                  <a:lnTo>
                    <a:pt x="1801" y="6891"/>
                  </a:lnTo>
                  <a:lnTo>
                    <a:pt x="1673" y="6858"/>
                  </a:lnTo>
                  <a:lnTo>
                    <a:pt x="1567" y="6806"/>
                  </a:lnTo>
                  <a:lnTo>
                    <a:pt x="1495" y="6738"/>
                  </a:lnTo>
                  <a:lnTo>
                    <a:pt x="1487" y="6691"/>
                  </a:lnTo>
                  <a:lnTo>
                    <a:pt x="1491" y="6652"/>
                  </a:lnTo>
                  <a:lnTo>
                    <a:pt x="1497" y="6616"/>
                  </a:lnTo>
                  <a:lnTo>
                    <a:pt x="1510" y="6585"/>
                  </a:lnTo>
                  <a:lnTo>
                    <a:pt x="1522" y="6550"/>
                  </a:lnTo>
                  <a:lnTo>
                    <a:pt x="1534" y="6519"/>
                  </a:lnTo>
                  <a:lnTo>
                    <a:pt x="1543" y="6486"/>
                  </a:lnTo>
                  <a:lnTo>
                    <a:pt x="1547" y="6455"/>
                  </a:lnTo>
                  <a:lnTo>
                    <a:pt x="1501" y="6365"/>
                  </a:lnTo>
                  <a:lnTo>
                    <a:pt x="1493" y="6292"/>
                  </a:lnTo>
                  <a:lnTo>
                    <a:pt x="1512" y="6226"/>
                  </a:lnTo>
                  <a:lnTo>
                    <a:pt x="1557" y="6166"/>
                  </a:lnTo>
                  <a:lnTo>
                    <a:pt x="1613" y="6108"/>
                  </a:lnTo>
                  <a:lnTo>
                    <a:pt x="1677" y="6049"/>
                  </a:lnTo>
                  <a:lnTo>
                    <a:pt x="1737" y="5989"/>
                  </a:lnTo>
                  <a:lnTo>
                    <a:pt x="1792" y="5923"/>
                  </a:lnTo>
                  <a:lnTo>
                    <a:pt x="1803" y="5912"/>
                  </a:lnTo>
                  <a:lnTo>
                    <a:pt x="1815" y="5900"/>
                  </a:lnTo>
                  <a:lnTo>
                    <a:pt x="1827" y="5887"/>
                  </a:lnTo>
                  <a:lnTo>
                    <a:pt x="1840" y="5873"/>
                  </a:lnTo>
                  <a:lnTo>
                    <a:pt x="1850" y="5857"/>
                  </a:lnTo>
                  <a:lnTo>
                    <a:pt x="1861" y="5846"/>
                  </a:lnTo>
                  <a:lnTo>
                    <a:pt x="1871" y="5830"/>
                  </a:lnTo>
                  <a:lnTo>
                    <a:pt x="1879" y="5819"/>
                  </a:lnTo>
                  <a:lnTo>
                    <a:pt x="1877" y="5737"/>
                  </a:lnTo>
                  <a:lnTo>
                    <a:pt x="1879" y="5658"/>
                  </a:lnTo>
                  <a:lnTo>
                    <a:pt x="1881" y="5578"/>
                  </a:lnTo>
                  <a:lnTo>
                    <a:pt x="1887" y="5503"/>
                  </a:lnTo>
                  <a:lnTo>
                    <a:pt x="1889" y="5423"/>
                  </a:lnTo>
                  <a:lnTo>
                    <a:pt x="1892" y="5347"/>
                  </a:lnTo>
                  <a:lnTo>
                    <a:pt x="1896" y="5270"/>
                  </a:lnTo>
                  <a:lnTo>
                    <a:pt x="1900" y="5194"/>
                  </a:lnTo>
                  <a:lnTo>
                    <a:pt x="1914" y="5146"/>
                  </a:lnTo>
                  <a:lnTo>
                    <a:pt x="1924" y="5103"/>
                  </a:lnTo>
                  <a:lnTo>
                    <a:pt x="1927" y="5062"/>
                  </a:lnTo>
                  <a:lnTo>
                    <a:pt x="1927" y="5026"/>
                  </a:lnTo>
                  <a:lnTo>
                    <a:pt x="1924" y="4987"/>
                  </a:lnTo>
                  <a:lnTo>
                    <a:pt x="1920" y="4948"/>
                  </a:lnTo>
                  <a:lnTo>
                    <a:pt x="1914" y="4907"/>
                  </a:lnTo>
                  <a:lnTo>
                    <a:pt x="1910" y="4863"/>
                  </a:lnTo>
                  <a:lnTo>
                    <a:pt x="1900" y="4861"/>
                  </a:lnTo>
                  <a:lnTo>
                    <a:pt x="1896" y="4859"/>
                  </a:lnTo>
                  <a:lnTo>
                    <a:pt x="1883" y="4876"/>
                  </a:lnTo>
                  <a:lnTo>
                    <a:pt x="1850" y="4921"/>
                  </a:lnTo>
                  <a:lnTo>
                    <a:pt x="1799" y="4979"/>
                  </a:lnTo>
                  <a:lnTo>
                    <a:pt x="1745" y="5049"/>
                  </a:lnTo>
                  <a:lnTo>
                    <a:pt x="1685" y="5117"/>
                  </a:lnTo>
                  <a:lnTo>
                    <a:pt x="1631" y="5181"/>
                  </a:lnTo>
                  <a:lnTo>
                    <a:pt x="1588" y="5227"/>
                  </a:lnTo>
                  <a:lnTo>
                    <a:pt x="1565" y="5254"/>
                  </a:lnTo>
                  <a:lnTo>
                    <a:pt x="1462" y="5260"/>
                  </a:lnTo>
                  <a:lnTo>
                    <a:pt x="1384" y="5247"/>
                  </a:lnTo>
                  <a:lnTo>
                    <a:pt x="1324" y="5214"/>
                  </a:lnTo>
                  <a:lnTo>
                    <a:pt x="1282" y="5167"/>
                  </a:lnTo>
                  <a:lnTo>
                    <a:pt x="1247" y="5105"/>
                  </a:lnTo>
                  <a:lnTo>
                    <a:pt x="1220" y="5033"/>
                  </a:lnTo>
                  <a:lnTo>
                    <a:pt x="1192" y="4954"/>
                  </a:lnTo>
                  <a:lnTo>
                    <a:pt x="1163" y="4870"/>
                  </a:lnTo>
                  <a:lnTo>
                    <a:pt x="1148" y="4847"/>
                  </a:lnTo>
                  <a:lnTo>
                    <a:pt x="1138" y="4818"/>
                  </a:lnTo>
                  <a:lnTo>
                    <a:pt x="1126" y="4783"/>
                  </a:lnTo>
                  <a:lnTo>
                    <a:pt x="1121" y="4748"/>
                  </a:lnTo>
                  <a:lnTo>
                    <a:pt x="1113" y="4710"/>
                  </a:lnTo>
                  <a:lnTo>
                    <a:pt x="1107" y="4677"/>
                  </a:lnTo>
                  <a:lnTo>
                    <a:pt x="1103" y="4647"/>
                  </a:lnTo>
                  <a:lnTo>
                    <a:pt x="1101" y="4626"/>
                  </a:lnTo>
                  <a:lnTo>
                    <a:pt x="1101" y="4583"/>
                  </a:lnTo>
                  <a:lnTo>
                    <a:pt x="1103" y="4543"/>
                  </a:lnTo>
                  <a:lnTo>
                    <a:pt x="1107" y="4502"/>
                  </a:lnTo>
                  <a:lnTo>
                    <a:pt x="1113" y="4463"/>
                  </a:lnTo>
                  <a:lnTo>
                    <a:pt x="1115" y="4424"/>
                  </a:lnTo>
                  <a:lnTo>
                    <a:pt x="1119" y="4388"/>
                  </a:lnTo>
                  <a:lnTo>
                    <a:pt x="1119" y="4349"/>
                  </a:lnTo>
                  <a:lnTo>
                    <a:pt x="1119" y="4312"/>
                  </a:lnTo>
                  <a:lnTo>
                    <a:pt x="1041" y="4281"/>
                  </a:lnTo>
                  <a:lnTo>
                    <a:pt x="971" y="4264"/>
                  </a:lnTo>
                  <a:lnTo>
                    <a:pt x="901" y="4254"/>
                  </a:lnTo>
                  <a:lnTo>
                    <a:pt x="836" y="4252"/>
                  </a:lnTo>
                  <a:lnTo>
                    <a:pt x="766" y="4252"/>
                  </a:lnTo>
                  <a:lnTo>
                    <a:pt x="698" y="4254"/>
                  </a:lnTo>
                  <a:lnTo>
                    <a:pt x="626" y="4256"/>
                  </a:lnTo>
                  <a:lnTo>
                    <a:pt x="552" y="4256"/>
                  </a:lnTo>
                  <a:lnTo>
                    <a:pt x="492" y="4246"/>
                  </a:lnTo>
                  <a:lnTo>
                    <a:pt x="421" y="4250"/>
                  </a:lnTo>
                  <a:lnTo>
                    <a:pt x="339" y="4260"/>
                  </a:lnTo>
                  <a:lnTo>
                    <a:pt x="260" y="4269"/>
                  </a:lnTo>
                  <a:lnTo>
                    <a:pt x="180" y="4275"/>
                  </a:lnTo>
                  <a:lnTo>
                    <a:pt x="110" y="4273"/>
                  </a:lnTo>
                  <a:lnTo>
                    <a:pt x="54" y="4260"/>
                  </a:lnTo>
                  <a:lnTo>
                    <a:pt x="15" y="4231"/>
                  </a:lnTo>
                  <a:lnTo>
                    <a:pt x="0" y="4136"/>
                  </a:lnTo>
                  <a:lnTo>
                    <a:pt x="9" y="4062"/>
                  </a:lnTo>
                  <a:lnTo>
                    <a:pt x="37" y="4002"/>
                  </a:lnTo>
                  <a:lnTo>
                    <a:pt x="81" y="3957"/>
                  </a:lnTo>
                  <a:lnTo>
                    <a:pt x="139" y="3918"/>
                  </a:lnTo>
                  <a:lnTo>
                    <a:pt x="209" y="3889"/>
                  </a:lnTo>
                  <a:lnTo>
                    <a:pt x="285" y="3864"/>
                  </a:lnTo>
                  <a:lnTo>
                    <a:pt x="368" y="3841"/>
                  </a:lnTo>
                  <a:lnTo>
                    <a:pt x="405" y="3837"/>
                  </a:lnTo>
                  <a:lnTo>
                    <a:pt x="455" y="3827"/>
                  </a:lnTo>
                  <a:lnTo>
                    <a:pt x="514" y="3814"/>
                  </a:lnTo>
                  <a:lnTo>
                    <a:pt x="576" y="3798"/>
                  </a:lnTo>
                  <a:lnTo>
                    <a:pt x="636" y="3775"/>
                  </a:lnTo>
                  <a:lnTo>
                    <a:pt x="694" y="3754"/>
                  </a:lnTo>
                  <a:lnTo>
                    <a:pt x="742" y="3726"/>
                  </a:lnTo>
                  <a:lnTo>
                    <a:pt x="779" y="3701"/>
                  </a:lnTo>
                  <a:lnTo>
                    <a:pt x="768" y="3631"/>
                  </a:lnTo>
                  <a:lnTo>
                    <a:pt x="775" y="3571"/>
                  </a:lnTo>
                  <a:lnTo>
                    <a:pt x="795" y="3519"/>
                  </a:lnTo>
                  <a:lnTo>
                    <a:pt x="830" y="3476"/>
                  </a:lnTo>
                  <a:lnTo>
                    <a:pt x="870" y="3439"/>
                  </a:lnTo>
                  <a:lnTo>
                    <a:pt x="925" y="3416"/>
                  </a:lnTo>
                  <a:lnTo>
                    <a:pt x="985" y="3401"/>
                  </a:lnTo>
                  <a:lnTo>
                    <a:pt x="1055" y="3397"/>
                  </a:lnTo>
                  <a:lnTo>
                    <a:pt x="1082" y="3426"/>
                  </a:lnTo>
                  <a:lnTo>
                    <a:pt x="1088" y="3457"/>
                  </a:lnTo>
                  <a:lnTo>
                    <a:pt x="1076" y="3490"/>
                  </a:lnTo>
                  <a:lnTo>
                    <a:pt x="1059" y="3527"/>
                  </a:lnTo>
                  <a:lnTo>
                    <a:pt x="1037" y="3566"/>
                  </a:lnTo>
                  <a:lnTo>
                    <a:pt x="1020" y="3612"/>
                  </a:lnTo>
                  <a:lnTo>
                    <a:pt x="1012" y="3661"/>
                  </a:lnTo>
                  <a:lnTo>
                    <a:pt x="1024" y="3719"/>
                  </a:lnTo>
                  <a:lnTo>
                    <a:pt x="1062" y="3783"/>
                  </a:lnTo>
                  <a:lnTo>
                    <a:pt x="1080" y="3843"/>
                  </a:lnTo>
                  <a:lnTo>
                    <a:pt x="1086" y="3895"/>
                  </a:lnTo>
                  <a:lnTo>
                    <a:pt x="1092" y="3942"/>
                  </a:lnTo>
                  <a:lnTo>
                    <a:pt x="1103" y="3979"/>
                  </a:lnTo>
                  <a:lnTo>
                    <a:pt x="1136" y="4008"/>
                  </a:lnTo>
                  <a:lnTo>
                    <a:pt x="1194" y="4025"/>
                  </a:lnTo>
                  <a:lnTo>
                    <a:pt x="1293" y="4033"/>
                  </a:lnTo>
                  <a:lnTo>
                    <a:pt x="1367" y="4043"/>
                  </a:lnTo>
                  <a:lnTo>
                    <a:pt x="1437" y="4039"/>
                  </a:lnTo>
                  <a:lnTo>
                    <a:pt x="1501" y="4023"/>
                  </a:lnTo>
                  <a:lnTo>
                    <a:pt x="1561" y="3996"/>
                  </a:lnTo>
                  <a:lnTo>
                    <a:pt x="1611" y="3955"/>
                  </a:lnTo>
                  <a:lnTo>
                    <a:pt x="1658" y="3907"/>
                  </a:lnTo>
                  <a:lnTo>
                    <a:pt x="1697" y="3849"/>
                  </a:lnTo>
                  <a:lnTo>
                    <a:pt x="1730" y="3785"/>
                  </a:lnTo>
                  <a:lnTo>
                    <a:pt x="1733" y="3736"/>
                  </a:lnTo>
                  <a:lnTo>
                    <a:pt x="1739" y="3692"/>
                  </a:lnTo>
                  <a:lnTo>
                    <a:pt x="1745" y="3649"/>
                  </a:lnTo>
                  <a:lnTo>
                    <a:pt x="1755" y="3612"/>
                  </a:lnTo>
                  <a:lnTo>
                    <a:pt x="1766" y="3571"/>
                  </a:lnTo>
                  <a:lnTo>
                    <a:pt x="1784" y="3536"/>
                  </a:lnTo>
                  <a:lnTo>
                    <a:pt x="1805" y="3502"/>
                  </a:lnTo>
                  <a:lnTo>
                    <a:pt x="1834" y="3467"/>
                  </a:lnTo>
                  <a:lnTo>
                    <a:pt x="1838" y="3449"/>
                  </a:lnTo>
                  <a:lnTo>
                    <a:pt x="1844" y="3436"/>
                  </a:lnTo>
                  <a:lnTo>
                    <a:pt x="1850" y="3432"/>
                  </a:lnTo>
                  <a:lnTo>
                    <a:pt x="1858" y="3428"/>
                  </a:lnTo>
                  <a:lnTo>
                    <a:pt x="1865" y="3397"/>
                  </a:lnTo>
                  <a:lnTo>
                    <a:pt x="1879" y="3377"/>
                  </a:lnTo>
                  <a:lnTo>
                    <a:pt x="1896" y="3364"/>
                  </a:lnTo>
                  <a:lnTo>
                    <a:pt x="1920" y="3358"/>
                  </a:lnTo>
                  <a:lnTo>
                    <a:pt x="1943" y="3352"/>
                  </a:lnTo>
                  <a:lnTo>
                    <a:pt x="1968" y="3350"/>
                  </a:lnTo>
                  <a:lnTo>
                    <a:pt x="1995" y="3343"/>
                  </a:lnTo>
                  <a:lnTo>
                    <a:pt x="2022" y="3331"/>
                  </a:lnTo>
                  <a:lnTo>
                    <a:pt x="2034" y="3313"/>
                  </a:lnTo>
                  <a:lnTo>
                    <a:pt x="2050" y="3294"/>
                  </a:lnTo>
                  <a:lnTo>
                    <a:pt x="2067" y="3273"/>
                  </a:lnTo>
                  <a:lnTo>
                    <a:pt x="2084" y="3251"/>
                  </a:lnTo>
                  <a:lnTo>
                    <a:pt x="2102" y="3228"/>
                  </a:lnTo>
                  <a:lnTo>
                    <a:pt x="2119" y="3209"/>
                  </a:lnTo>
                  <a:lnTo>
                    <a:pt x="2135" y="3193"/>
                  </a:lnTo>
                  <a:lnTo>
                    <a:pt x="2148" y="3184"/>
                  </a:lnTo>
                  <a:lnTo>
                    <a:pt x="2166" y="3176"/>
                  </a:lnTo>
                  <a:lnTo>
                    <a:pt x="2189" y="3164"/>
                  </a:lnTo>
                  <a:lnTo>
                    <a:pt x="2211" y="3149"/>
                  </a:lnTo>
                  <a:lnTo>
                    <a:pt x="2234" y="3133"/>
                  </a:lnTo>
                  <a:lnTo>
                    <a:pt x="2253" y="3114"/>
                  </a:lnTo>
                  <a:lnTo>
                    <a:pt x="2275" y="3096"/>
                  </a:lnTo>
                  <a:lnTo>
                    <a:pt x="2292" y="3079"/>
                  </a:lnTo>
                  <a:lnTo>
                    <a:pt x="2311" y="3065"/>
                  </a:lnTo>
                  <a:lnTo>
                    <a:pt x="2278" y="3038"/>
                  </a:lnTo>
                  <a:lnTo>
                    <a:pt x="2251" y="3013"/>
                  </a:lnTo>
                  <a:lnTo>
                    <a:pt x="2226" y="2984"/>
                  </a:lnTo>
                  <a:lnTo>
                    <a:pt x="2209" y="2955"/>
                  </a:lnTo>
                  <a:lnTo>
                    <a:pt x="2189" y="2926"/>
                  </a:lnTo>
                  <a:lnTo>
                    <a:pt x="2172" y="2897"/>
                  </a:lnTo>
                  <a:lnTo>
                    <a:pt x="2150" y="2869"/>
                  </a:lnTo>
                  <a:lnTo>
                    <a:pt x="2131" y="2846"/>
                  </a:lnTo>
                  <a:lnTo>
                    <a:pt x="2094" y="2835"/>
                  </a:lnTo>
                  <a:lnTo>
                    <a:pt x="2063" y="2821"/>
                  </a:lnTo>
                  <a:lnTo>
                    <a:pt x="2034" y="2802"/>
                  </a:lnTo>
                  <a:lnTo>
                    <a:pt x="2013" y="2782"/>
                  </a:lnTo>
                  <a:lnTo>
                    <a:pt x="1991" y="2757"/>
                  </a:lnTo>
                  <a:lnTo>
                    <a:pt x="1978" y="2730"/>
                  </a:lnTo>
                  <a:lnTo>
                    <a:pt x="1968" y="2699"/>
                  </a:lnTo>
                  <a:lnTo>
                    <a:pt x="1966" y="2668"/>
                  </a:lnTo>
                  <a:lnTo>
                    <a:pt x="1956" y="2664"/>
                  </a:lnTo>
                  <a:lnTo>
                    <a:pt x="1949" y="2664"/>
                  </a:lnTo>
                  <a:lnTo>
                    <a:pt x="1933" y="2747"/>
                  </a:lnTo>
                  <a:lnTo>
                    <a:pt x="1908" y="2790"/>
                  </a:lnTo>
                  <a:lnTo>
                    <a:pt x="1873" y="2800"/>
                  </a:lnTo>
                  <a:lnTo>
                    <a:pt x="1832" y="2788"/>
                  </a:lnTo>
                  <a:lnTo>
                    <a:pt x="1788" y="2763"/>
                  </a:lnTo>
                  <a:lnTo>
                    <a:pt x="1743" y="2736"/>
                  </a:lnTo>
                  <a:lnTo>
                    <a:pt x="1704" y="2714"/>
                  </a:lnTo>
                  <a:lnTo>
                    <a:pt x="1673" y="2712"/>
                  </a:lnTo>
                  <a:lnTo>
                    <a:pt x="1623" y="2790"/>
                  </a:lnTo>
                  <a:lnTo>
                    <a:pt x="1576" y="2817"/>
                  </a:lnTo>
                  <a:lnTo>
                    <a:pt x="1530" y="2805"/>
                  </a:lnTo>
                  <a:lnTo>
                    <a:pt x="1487" y="2765"/>
                  </a:lnTo>
                  <a:lnTo>
                    <a:pt x="1448" y="2705"/>
                  </a:lnTo>
                  <a:lnTo>
                    <a:pt x="1415" y="2641"/>
                  </a:lnTo>
                  <a:lnTo>
                    <a:pt x="1388" y="2577"/>
                  </a:lnTo>
                  <a:lnTo>
                    <a:pt x="1373" y="2532"/>
                  </a:lnTo>
                  <a:lnTo>
                    <a:pt x="1342" y="2526"/>
                  </a:lnTo>
                  <a:lnTo>
                    <a:pt x="1324" y="2518"/>
                  </a:lnTo>
                  <a:lnTo>
                    <a:pt x="1311" y="2507"/>
                  </a:lnTo>
                  <a:lnTo>
                    <a:pt x="1307" y="2495"/>
                  </a:lnTo>
                  <a:lnTo>
                    <a:pt x="1303" y="2478"/>
                  </a:lnTo>
                  <a:lnTo>
                    <a:pt x="1305" y="2460"/>
                  </a:lnTo>
                  <a:lnTo>
                    <a:pt x="1311" y="2439"/>
                  </a:lnTo>
                  <a:lnTo>
                    <a:pt x="1317" y="2420"/>
                  </a:lnTo>
                  <a:lnTo>
                    <a:pt x="1307" y="2418"/>
                  </a:lnTo>
                  <a:lnTo>
                    <a:pt x="1299" y="2416"/>
                  </a:lnTo>
                  <a:lnTo>
                    <a:pt x="1285" y="2425"/>
                  </a:lnTo>
                  <a:lnTo>
                    <a:pt x="1274" y="2435"/>
                  </a:lnTo>
                  <a:lnTo>
                    <a:pt x="1260" y="2441"/>
                  </a:lnTo>
                  <a:lnTo>
                    <a:pt x="1249" y="2449"/>
                  </a:lnTo>
                  <a:lnTo>
                    <a:pt x="1235" y="2453"/>
                  </a:lnTo>
                  <a:lnTo>
                    <a:pt x="1223" y="2456"/>
                  </a:lnTo>
                  <a:lnTo>
                    <a:pt x="1208" y="2456"/>
                  </a:lnTo>
                  <a:lnTo>
                    <a:pt x="1194" y="2458"/>
                  </a:lnTo>
                  <a:lnTo>
                    <a:pt x="1181" y="2412"/>
                  </a:lnTo>
                  <a:lnTo>
                    <a:pt x="1190" y="2359"/>
                  </a:lnTo>
                  <a:lnTo>
                    <a:pt x="1218" y="2299"/>
                  </a:lnTo>
                  <a:lnTo>
                    <a:pt x="1258" y="2241"/>
                  </a:lnTo>
                  <a:lnTo>
                    <a:pt x="1301" y="2181"/>
                  </a:lnTo>
                  <a:lnTo>
                    <a:pt x="1348" y="2131"/>
                  </a:lnTo>
                  <a:lnTo>
                    <a:pt x="1390" y="2086"/>
                  </a:lnTo>
                  <a:lnTo>
                    <a:pt x="1421" y="2057"/>
                  </a:lnTo>
                  <a:lnTo>
                    <a:pt x="1348" y="2024"/>
                  </a:lnTo>
                  <a:lnTo>
                    <a:pt x="1285" y="1981"/>
                  </a:lnTo>
                  <a:lnTo>
                    <a:pt x="1235" y="1927"/>
                  </a:lnTo>
                  <a:lnTo>
                    <a:pt x="1202" y="1869"/>
                  </a:lnTo>
                  <a:lnTo>
                    <a:pt x="1190" y="1807"/>
                  </a:lnTo>
                  <a:lnTo>
                    <a:pt x="1204" y="1749"/>
                  </a:lnTo>
                  <a:lnTo>
                    <a:pt x="1245" y="1694"/>
                  </a:lnTo>
                  <a:lnTo>
                    <a:pt x="1320" y="1652"/>
                  </a:lnTo>
                  <a:lnTo>
                    <a:pt x="1320" y="1613"/>
                  </a:lnTo>
                  <a:lnTo>
                    <a:pt x="1326" y="1570"/>
                  </a:lnTo>
                  <a:lnTo>
                    <a:pt x="1334" y="1530"/>
                  </a:lnTo>
                  <a:lnTo>
                    <a:pt x="1348" y="1499"/>
                  </a:lnTo>
                  <a:lnTo>
                    <a:pt x="1361" y="1475"/>
                  </a:lnTo>
                  <a:lnTo>
                    <a:pt x="1381" y="1471"/>
                  </a:lnTo>
                  <a:lnTo>
                    <a:pt x="1400" y="1489"/>
                  </a:lnTo>
                  <a:lnTo>
                    <a:pt x="1425" y="1537"/>
                  </a:lnTo>
                  <a:lnTo>
                    <a:pt x="1433" y="1537"/>
                  </a:lnTo>
                  <a:lnTo>
                    <a:pt x="1448" y="1541"/>
                  </a:lnTo>
                  <a:lnTo>
                    <a:pt x="1464" y="1545"/>
                  </a:lnTo>
                  <a:lnTo>
                    <a:pt x="1483" y="1551"/>
                  </a:lnTo>
                  <a:lnTo>
                    <a:pt x="1503" y="1553"/>
                  </a:lnTo>
                  <a:lnTo>
                    <a:pt x="1522" y="1557"/>
                  </a:lnTo>
                  <a:lnTo>
                    <a:pt x="1538" y="1559"/>
                  </a:lnTo>
                  <a:lnTo>
                    <a:pt x="1555" y="1561"/>
                  </a:lnTo>
                  <a:lnTo>
                    <a:pt x="1565" y="1539"/>
                  </a:lnTo>
                  <a:lnTo>
                    <a:pt x="1574" y="1524"/>
                  </a:lnTo>
                  <a:lnTo>
                    <a:pt x="1582" y="1510"/>
                  </a:lnTo>
                  <a:lnTo>
                    <a:pt x="1594" y="1502"/>
                  </a:lnTo>
                  <a:lnTo>
                    <a:pt x="1604" y="1495"/>
                  </a:lnTo>
                  <a:lnTo>
                    <a:pt x="1619" y="1493"/>
                  </a:lnTo>
                  <a:lnTo>
                    <a:pt x="1638" y="1491"/>
                  </a:lnTo>
                  <a:lnTo>
                    <a:pt x="1666" y="1491"/>
                  </a:lnTo>
                  <a:lnTo>
                    <a:pt x="1671" y="1502"/>
                  </a:lnTo>
                  <a:lnTo>
                    <a:pt x="1679" y="1516"/>
                  </a:lnTo>
                  <a:lnTo>
                    <a:pt x="1687" y="1530"/>
                  </a:lnTo>
                  <a:lnTo>
                    <a:pt x="1700" y="1547"/>
                  </a:lnTo>
                  <a:lnTo>
                    <a:pt x="1714" y="1535"/>
                  </a:lnTo>
                  <a:lnTo>
                    <a:pt x="1726" y="1520"/>
                  </a:lnTo>
                  <a:lnTo>
                    <a:pt x="1735" y="1500"/>
                  </a:lnTo>
                  <a:lnTo>
                    <a:pt x="1747" y="1481"/>
                  </a:lnTo>
                  <a:lnTo>
                    <a:pt x="1753" y="1456"/>
                  </a:lnTo>
                  <a:lnTo>
                    <a:pt x="1761" y="1435"/>
                  </a:lnTo>
                  <a:lnTo>
                    <a:pt x="1764" y="1413"/>
                  </a:lnTo>
                  <a:lnTo>
                    <a:pt x="1770" y="1398"/>
                  </a:lnTo>
                  <a:lnTo>
                    <a:pt x="1677" y="1334"/>
                  </a:lnTo>
                  <a:lnTo>
                    <a:pt x="1541" y="1268"/>
                  </a:lnTo>
                  <a:lnTo>
                    <a:pt x="1379" y="1200"/>
                  </a:lnTo>
                  <a:lnTo>
                    <a:pt x="1210" y="1134"/>
                  </a:lnTo>
                  <a:lnTo>
                    <a:pt x="1045" y="1066"/>
                  </a:lnTo>
                  <a:lnTo>
                    <a:pt x="909" y="1004"/>
                  </a:lnTo>
                  <a:lnTo>
                    <a:pt x="814" y="946"/>
                  </a:lnTo>
                  <a:lnTo>
                    <a:pt x="779" y="897"/>
                  </a:lnTo>
                  <a:lnTo>
                    <a:pt x="795" y="884"/>
                  </a:lnTo>
                  <a:lnTo>
                    <a:pt x="810" y="878"/>
                  </a:lnTo>
                  <a:lnTo>
                    <a:pt x="816" y="876"/>
                  </a:lnTo>
                  <a:lnTo>
                    <a:pt x="828" y="874"/>
                  </a:lnTo>
                  <a:lnTo>
                    <a:pt x="837" y="872"/>
                  </a:lnTo>
                  <a:lnTo>
                    <a:pt x="853" y="870"/>
                  </a:lnTo>
                  <a:lnTo>
                    <a:pt x="1092" y="773"/>
                  </a:lnTo>
                  <a:lnTo>
                    <a:pt x="1332" y="671"/>
                  </a:lnTo>
                  <a:lnTo>
                    <a:pt x="1572" y="560"/>
                  </a:lnTo>
                  <a:lnTo>
                    <a:pt x="1813" y="448"/>
                  </a:lnTo>
                  <a:lnTo>
                    <a:pt x="2052" y="331"/>
                  </a:lnTo>
                  <a:lnTo>
                    <a:pt x="2290" y="221"/>
                  </a:lnTo>
                  <a:lnTo>
                    <a:pt x="2529" y="112"/>
                  </a:lnTo>
                  <a:lnTo>
                    <a:pt x="2773" y="15"/>
                  </a:lnTo>
                  <a:lnTo>
                    <a:pt x="2792" y="9"/>
                  </a:lnTo>
                  <a:lnTo>
                    <a:pt x="2808" y="4"/>
                  </a:lnTo>
                  <a:lnTo>
                    <a:pt x="2818" y="0"/>
                  </a:lnTo>
                  <a:lnTo>
                    <a:pt x="2829" y="0"/>
                  </a:lnTo>
                  <a:lnTo>
                    <a:pt x="2837" y="2"/>
                  </a:lnTo>
                  <a:lnTo>
                    <a:pt x="2849" y="11"/>
                  </a:lnTo>
                  <a:lnTo>
                    <a:pt x="2862" y="23"/>
                  </a:lnTo>
                  <a:lnTo>
                    <a:pt x="2882" y="46"/>
                  </a:lnTo>
                  <a:lnTo>
                    <a:pt x="2934" y="93"/>
                  </a:lnTo>
                  <a:lnTo>
                    <a:pt x="2986" y="139"/>
                  </a:lnTo>
                  <a:lnTo>
                    <a:pt x="3039" y="188"/>
                  </a:lnTo>
                  <a:lnTo>
                    <a:pt x="3093" y="240"/>
                  </a:lnTo>
                  <a:lnTo>
                    <a:pt x="3145" y="291"/>
                  </a:lnTo>
                  <a:lnTo>
                    <a:pt x="3200" y="343"/>
                  </a:lnTo>
                  <a:lnTo>
                    <a:pt x="3252" y="395"/>
                  </a:lnTo>
                  <a:lnTo>
                    <a:pt x="3306" y="451"/>
                  </a:lnTo>
                  <a:lnTo>
                    <a:pt x="3374" y="531"/>
                  </a:lnTo>
                  <a:lnTo>
                    <a:pt x="3444" y="610"/>
                  </a:lnTo>
                  <a:lnTo>
                    <a:pt x="3514" y="692"/>
                  </a:lnTo>
                  <a:lnTo>
                    <a:pt x="3586" y="775"/>
                  </a:lnTo>
                  <a:lnTo>
                    <a:pt x="3657" y="857"/>
                  </a:lnTo>
                  <a:lnTo>
                    <a:pt x="3729" y="940"/>
                  </a:lnTo>
                  <a:lnTo>
                    <a:pt x="3801" y="1023"/>
                  </a:lnTo>
                  <a:lnTo>
                    <a:pt x="3873" y="1111"/>
                  </a:lnTo>
                  <a:lnTo>
                    <a:pt x="3888" y="1130"/>
                  </a:lnTo>
                  <a:lnTo>
                    <a:pt x="3915" y="1163"/>
                  </a:lnTo>
                  <a:lnTo>
                    <a:pt x="3950" y="1204"/>
                  </a:lnTo>
                  <a:lnTo>
                    <a:pt x="3993" y="1252"/>
                  </a:lnTo>
                  <a:lnTo>
                    <a:pt x="4036" y="1297"/>
                  </a:lnTo>
                  <a:lnTo>
                    <a:pt x="4078" y="1340"/>
                  </a:lnTo>
                  <a:lnTo>
                    <a:pt x="4115" y="1369"/>
                  </a:lnTo>
                  <a:lnTo>
                    <a:pt x="4148" y="1386"/>
                  </a:lnTo>
                  <a:lnTo>
                    <a:pt x="4156" y="1392"/>
                  </a:lnTo>
                  <a:lnTo>
                    <a:pt x="4175" y="1411"/>
                  </a:lnTo>
                  <a:lnTo>
                    <a:pt x="4200" y="1435"/>
                  </a:lnTo>
                  <a:lnTo>
                    <a:pt x="4228" y="1464"/>
                  </a:lnTo>
                  <a:lnTo>
                    <a:pt x="4245" y="1491"/>
                  </a:lnTo>
                  <a:lnTo>
                    <a:pt x="4251" y="1512"/>
                  </a:lnTo>
                  <a:lnTo>
                    <a:pt x="4235" y="1524"/>
                  </a:lnTo>
                  <a:lnTo>
                    <a:pt x="4196" y="1526"/>
                  </a:lnTo>
                  <a:lnTo>
                    <a:pt x="4193" y="1590"/>
                  </a:lnTo>
                  <a:lnTo>
                    <a:pt x="4195" y="1659"/>
                  </a:lnTo>
                  <a:lnTo>
                    <a:pt x="4195" y="1729"/>
                  </a:lnTo>
                  <a:lnTo>
                    <a:pt x="4198" y="1801"/>
                  </a:lnTo>
                  <a:lnTo>
                    <a:pt x="4202" y="1871"/>
                  </a:lnTo>
                  <a:lnTo>
                    <a:pt x="4208" y="1945"/>
                  </a:lnTo>
                  <a:lnTo>
                    <a:pt x="4214" y="2014"/>
                  </a:lnTo>
                  <a:lnTo>
                    <a:pt x="4226" y="2088"/>
                  </a:lnTo>
                  <a:lnTo>
                    <a:pt x="4268" y="2123"/>
                  </a:lnTo>
                  <a:lnTo>
                    <a:pt x="4299" y="2154"/>
                  </a:lnTo>
                  <a:lnTo>
                    <a:pt x="4319" y="2185"/>
                  </a:lnTo>
                  <a:lnTo>
                    <a:pt x="4334" y="2218"/>
                  </a:lnTo>
                  <a:lnTo>
                    <a:pt x="4340" y="2255"/>
                  </a:lnTo>
                  <a:lnTo>
                    <a:pt x="4344" y="2299"/>
                  </a:lnTo>
                  <a:lnTo>
                    <a:pt x="4346" y="2354"/>
                  </a:lnTo>
                  <a:lnTo>
                    <a:pt x="4348" y="2420"/>
                  </a:lnTo>
                  <a:lnTo>
                    <a:pt x="4365" y="2449"/>
                  </a:lnTo>
                  <a:lnTo>
                    <a:pt x="4402" y="2484"/>
                  </a:lnTo>
                  <a:lnTo>
                    <a:pt x="4443" y="2522"/>
                  </a:lnTo>
                  <a:lnTo>
                    <a:pt x="4482" y="2561"/>
                  </a:lnTo>
                  <a:lnTo>
                    <a:pt x="4503" y="2596"/>
                  </a:lnTo>
                  <a:lnTo>
                    <a:pt x="4503" y="2627"/>
                  </a:lnTo>
                  <a:lnTo>
                    <a:pt x="4468" y="2650"/>
                  </a:lnTo>
                  <a:lnTo>
                    <a:pt x="4392" y="2668"/>
                  </a:lnTo>
                  <a:lnTo>
                    <a:pt x="4381" y="2705"/>
                  </a:lnTo>
                  <a:lnTo>
                    <a:pt x="4365" y="2726"/>
                  </a:lnTo>
                  <a:lnTo>
                    <a:pt x="4342" y="2728"/>
                  </a:lnTo>
                  <a:lnTo>
                    <a:pt x="4321" y="2722"/>
                  </a:lnTo>
                  <a:lnTo>
                    <a:pt x="4295" y="2707"/>
                  </a:lnTo>
                  <a:lnTo>
                    <a:pt x="4272" y="2689"/>
                  </a:lnTo>
                  <a:lnTo>
                    <a:pt x="4255" y="2676"/>
                  </a:lnTo>
                  <a:lnTo>
                    <a:pt x="4243" y="2668"/>
                  </a:lnTo>
                  <a:lnTo>
                    <a:pt x="4237" y="2689"/>
                  </a:lnTo>
                  <a:lnTo>
                    <a:pt x="4231" y="2712"/>
                  </a:lnTo>
                  <a:lnTo>
                    <a:pt x="4220" y="2730"/>
                  </a:lnTo>
                  <a:lnTo>
                    <a:pt x="4208" y="2745"/>
                  </a:lnTo>
                  <a:lnTo>
                    <a:pt x="4193" y="2751"/>
                  </a:lnTo>
                  <a:lnTo>
                    <a:pt x="4177" y="2753"/>
                  </a:lnTo>
                  <a:lnTo>
                    <a:pt x="4162" y="2741"/>
                  </a:lnTo>
                  <a:lnTo>
                    <a:pt x="4148" y="2720"/>
                  </a:lnTo>
                  <a:lnTo>
                    <a:pt x="4146" y="2705"/>
                  </a:lnTo>
                  <a:lnTo>
                    <a:pt x="4144" y="2693"/>
                  </a:lnTo>
                  <a:lnTo>
                    <a:pt x="4142" y="2683"/>
                  </a:lnTo>
                  <a:lnTo>
                    <a:pt x="4142" y="2677"/>
                  </a:lnTo>
                  <a:lnTo>
                    <a:pt x="4138" y="2670"/>
                  </a:lnTo>
                  <a:lnTo>
                    <a:pt x="4136" y="2664"/>
                  </a:lnTo>
                  <a:lnTo>
                    <a:pt x="4132" y="2656"/>
                  </a:lnTo>
                  <a:lnTo>
                    <a:pt x="4131" y="2646"/>
                  </a:lnTo>
                  <a:lnTo>
                    <a:pt x="4119" y="2639"/>
                  </a:lnTo>
                  <a:lnTo>
                    <a:pt x="4109" y="2637"/>
                  </a:lnTo>
                  <a:lnTo>
                    <a:pt x="4063" y="2670"/>
                  </a:lnTo>
                  <a:lnTo>
                    <a:pt x="4024" y="2687"/>
                  </a:lnTo>
                  <a:lnTo>
                    <a:pt x="3991" y="2689"/>
                  </a:lnTo>
                  <a:lnTo>
                    <a:pt x="3970" y="2685"/>
                  </a:lnTo>
                  <a:lnTo>
                    <a:pt x="3956" y="2670"/>
                  </a:lnTo>
                  <a:lnTo>
                    <a:pt x="3952" y="2652"/>
                  </a:lnTo>
                  <a:lnTo>
                    <a:pt x="3960" y="2633"/>
                  </a:lnTo>
                  <a:lnTo>
                    <a:pt x="3981" y="2619"/>
                  </a:lnTo>
                  <a:lnTo>
                    <a:pt x="4020" y="2563"/>
                  </a:lnTo>
                  <a:lnTo>
                    <a:pt x="4051" y="2520"/>
                  </a:lnTo>
                  <a:lnTo>
                    <a:pt x="4072" y="2482"/>
                  </a:lnTo>
                  <a:lnTo>
                    <a:pt x="4088" y="2449"/>
                  </a:lnTo>
                  <a:lnTo>
                    <a:pt x="4092" y="2412"/>
                  </a:lnTo>
                  <a:lnTo>
                    <a:pt x="4088" y="2375"/>
                  </a:lnTo>
                  <a:lnTo>
                    <a:pt x="4076" y="2327"/>
                  </a:lnTo>
                  <a:lnTo>
                    <a:pt x="4061" y="2270"/>
                  </a:lnTo>
                  <a:lnTo>
                    <a:pt x="4057" y="2222"/>
                  </a:lnTo>
                  <a:lnTo>
                    <a:pt x="4059" y="2185"/>
                  </a:lnTo>
                  <a:lnTo>
                    <a:pt x="4065" y="2154"/>
                  </a:lnTo>
                  <a:lnTo>
                    <a:pt x="4076" y="2131"/>
                  </a:lnTo>
                  <a:lnTo>
                    <a:pt x="4090" y="2109"/>
                  </a:lnTo>
                  <a:lnTo>
                    <a:pt x="4111" y="2088"/>
                  </a:lnTo>
                  <a:lnTo>
                    <a:pt x="4138" y="2065"/>
                  </a:lnTo>
                  <a:lnTo>
                    <a:pt x="4173" y="2040"/>
                  </a:lnTo>
                  <a:lnTo>
                    <a:pt x="4179" y="1999"/>
                  </a:lnTo>
                  <a:lnTo>
                    <a:pt x="4181" y="1943"/>
                  </a:lnTo>
                  <a:lnTo>
                    <a:pt x="4179" y="1873"/>
                  </a:lnTo>
                  <a:lnTo>
                    <a:pt x="4179" y="1799"/>
                  </a:lnTo>
                  <a:lnTo>
                    <a:pt x="4173" y="1720"/>
                  </a:lnTo>
                  <a:lnTo>
                    <a:pt x="4169" y="1646"/>
                  </a:lnTo>
                  <a:lnTo>
                    <a:pt x="4164" y="1578"/>
                  </a:lnTo>
                  <a:lnTo>
                    <a:pt x="4162" y="1530"/>
                  </a:lnTo>
                  <a:lnTo>
                    <a:pt x="4078" y="1537"/>
                  </a:lnTo>
                  <a:lnTo>
                    <a:pt x="3981" y="1559"/>
                  </a:lnTo>
                  <a:lnTo>
                    <a:pt x="3873" y="1592"/>
                  </a:lnTo>
                  <a:lnTo>
                    <a:pt x="3758" y="1630"/>
                  </a:lnTo>
                  <a:lnTo>
                    <a:pt x="3638" y="1671"/>
                  </a:lnTo>
                  <a:lnTo>
                    <a:pt x="3525" y="1714"/>
                  </a:lnTo>
                  <a:lnTo>
                    <a:pt x="3417" y="1751"/>
                  </a:lnTo>
                  <a:lnTo>
                    <a:pt x="3324" y="1782"/>
                  </a:lnTo>
                  <a:lnTo>
                    <a:pt x="3299" y="1797"/>
                  </a:lnTo>
                  <a:lnTo>
                    <a:pt x="3273" y="1811"/>
                  </a:lnTo>
                  <a:lnTo>
                    <a:pt x="3244" y="1822"/>
                  </a:lnTo>
                  <a:lnTo>
                    <a:pt x="3215" y="1836"/>
                  </a:lnTo>
                  <a:lnTo>
                    <a:pt x="3184" y="1844"/>
                  </a:lnTo>
                  <a:lnTo>
                    <a:pt x="3155" y="1853"/>
                  </a:lnTo>
                  <a:lnTo>
                    <a:pt x="3126" y="1861"/>
                  </a:lnTo>
                  <a:lnTo>
                    <a:pt x="3101" y="1869"/>
                  </a:lnTo>
                  <a:lnTo>
                    <a:pt x="3085" y="1869"/>
                  </a:lnTo>
                  <a:lnTo>
                    <a:pt x="3072" y="1873"/>
                  </a:lnTo>
                  <a:lnTo>
                    <a:pt x="3056" y="1877"/>
                  </a:lnTo>
                  <a:lnTo>
                    <a:pt x="3046" y="1884"/>
                  </a:lnTo>
                  <a:lnTo>
                    <a:pt x="3037" y="1892"/>
                  </a:lnTo>
                  <a:lnTo>
                    <a:pt x="3033" y="1904"/>
                  </a:lnTo>
                  <a:lnTo>
                    <a:pt x="3037" y="1915"/>
                  </a:lnTo>
                  <a:lnTo>
                    <a:pt x="3052" y="1931"/>
                  </a:lnTo>
                  <a:lnTo>
                    <a:pt x="3108" y="1946"/>
                  </a:lnTo>
                  <a:lnTo>
                    <a:pt x="3161" y="1976"/>
                  </a:lnTo>
                  <a:lnTo>
                    <a:pt x="3204" y="2016"/>
                  </a:lnTo>
                  <a:lnTo>
                    <a:pt x="3240" y="2069"/>
                  </a:lnTo>
                  <a:lnTo>
                    <a:pt x="3264" y="2125"/>
                  </a:lnTo>
                  <a:lnTo>
                    <a:pt x="3277" y="2187"/>
                  </a:lnTo>
                  <a:lnTo>
                    <a:pt x="3275" y="2251"/>
                  </a:lnTo>
                  <a:lnTo>
                    <a:pt x="3262" y="2319"/>
                  </a:lnTo>
                  <a:lnTo>
                    <a:pt x="3217" y="2373"/>
                  </a:lnTo>
                  <a:lnTo>
                    <a:pt x="3167" y="2422"/>
                  </a:lnTo>
                  <a:lnTo>
                    <a:pt x="3112" y="2462"/>
                  </a:lnTo>
                  <a:lnTo>
                    <a:pt x="3054" y="2499"/>
                  </a:lnTo>
                  <a:lnTo>
                    <a:pt x="2990" y="2528"/>
                  </a:lnTo>
                  <a:lnTo>
                    <a:pt x="2924" y="2555"/>
                  </a:lnTo>
                  <a:lnTo>
                    <a:pt x="2856" y="2577"/>
                  </a:lnTo>
                  <a:lnTo>
                    <a:pt x="2790" y="2594"/>
                  </a:lnTo>
                  <a:lnTo>
                    <a:pt x="2761" y="2627"/>
                  </a:lnTo>
                  <a:lnTo>
                    <a:pt x="2744" y="2676"/>
                  </a:lnTo>
                  <a:lnTo>
                    <a:pt x="2736" y="2734"/>
                  </a:lnTo>
                  <a:lnTo>
                    <a:pt x="2740" y="2798"/>
                  </a:lnTo>
                  <a:lnTo>
                    <a:pt x="2750" y="2858"/>
                  </a:lnTo>
                  <a:lnTo>
                    <a:pt x="2771" y="2912"/>
                  </a:lnTo>
                  <a:lnTo>
                    <a:pt x="2802" y="2953"/>
                  </a:lnTo>
                  <a:lnTo>
                    <a:pt x="2847" y="2978"/>
                  </a:lnTo>
                  <a:lnTo>
                    <a:pt x="2851" y="2986"/>
                  </a:lnTo>
                  <a:lnTo>
                    <a:pt x="2852" y="2995"/>
                  </a:lnTo>
                  <a:lnTo>
                    <a:pt x="2887" y="3013"/>
                  </a:lnTo>
                  <a:lnTo>
                    <a:pt x="2924" y="3032"/>
                  </a:lnTo>
                  <a:lnTo>
                    <a:pt x="2959" y="3052"/>
                  </a:lnTo>
                  <a:lnTo>
                    <a:pt x="2998" y="3075"/>
                  </a:lnTo>
                  <a:lnTo>
                    <a:pt x="3035" y="3096"/>
                  </a:lnTo>
                  <a:lnTo>
                    <a:pt x="3072" y="3121"/>
                  </a:lnTo>
                  <a:lnTo>
                    <a:pt x="3107" y="3147"/>
                  </a:lnTo>
                  <a:lnTo>
                    <a:pt x="3143" y="3178"/>
                  </a:lnTo>
                  <a:lnTo>
                    <a:pt x="3163" y="3207"/>
                  </a:lnTo>
                  <a:lnTo>
                    <a:pt x="3180" y="3230"/>
                  </a:lnTo>
                  <a:lnTo>
                    <a:pt x="3192" y="3248"/>
                  </a:lnTo>
                  <a:lnTo>
                    <a:pt x="3204" y="3265"/>
                  </a:lnTo>
                  <a:lnTo>
                    <a:pt x="3211" y="3275"/>
                  </a:lnTo>
                  <a:lnTo>
                    <a:pt x="3219" y="3286"/>
                  </a:lnTo>
                  <a:lnTo>
                    <a:pt x="3227" y="3296"/>
                  </a:lnTo>
                  <a:lnTo>
                    <a:pt x="3236" y="3306"/>
                  </a:lnTo>
                  <a:lnTo>
                    <a:pt x="3341" y="3319"/>
                  </a:lnTo>
                  <a:lnTo>
                    <a:pt x="3407" y="3337"/>
                  </a:lnTo>
                  <a:lnTo>
                    <a:pt x="3442" y="3360"/>
                  </a:lnTo>
                  <a:lnTo>
                    <a:pt x="3458" y="3391"/>
                  </a:lnTo>
                  <a:lnTo>
                    <a:pt x="3460" y="3432"/>
                  </a:lnTo>
                  <a:lnTo>
                    <a:pt x="3460" y="3488"/>
                  </a:lnTo>
                  <a:lnTo>
                    <a:pt x="3467" y="3558"/>
                  </a:lnTo>
                  <a:lnTo>
                    <a:pt x="3492" y="3649"/>
                  </a:lnTo>
                  <a:lnTo>
                    <a:pt x="3510" y="3684"/>
                  </a:lnTo>
                  <a:lnTo>
                    <a:pt x="3527" y="3717"/>
                  </a:lnTo>
                  <a:lnTo>
                    <a:pt x="3545" y="3746"/>
                  </a:lnTo>
                  <a:lnTo>
                    <a:pt x="3566" y="3777"/>
                  </a:lnTo>
                  <a:lnTo>
                    <a:pt x="3588" y="3804"/>
                  </a:lnTo>
                  <a:lnTo>
                    <a:pt x="3613" y="3833"/>
                  </a:lnTo>
                  <a:lnTo>
                    <a:pt x="3644" y="3860"/>
                  </a:lnTo>
                  <a:lnTo>
                    <a:pt x="3681" y="3889"/>
                  </a:lnTo>
                  <a:lnTo>
                    <a:pt x="3692" y="3895"/>
                  </a:lnTo>
                  <a:lnTo>
                    <a:pt x="3704" y="3901"/>
                  </a:lnTo>
                  <a:lnTo>
                    <a:pt x="3714" y="3907"/>
                  </a:lnTo>
                  <a:lnTo>
                    <a:pt x="3723" y="3915"/>
                  </a:lnTo>
                  <a:lnTo>
                    <a:pt x="3731" y="3922"/>
                  </a:lnTo>
                  <a:lnTo>
                    <a:pt x="3741" y="3936"/>
                  </a:lnTo>
                  <a:lnTo>
                    <a:pt x="3750" y="3949"/>
                  </a:lnTo>
                  <a:lnTo>
                    <a:pt x="3760" y="3969"/>
                  </a:lnTo>
                  <a:lnTo>
                    <a:pt x="3824" y="3969"/>
                  </a:lnTo>
                  <a:lnTo>
                    <a:pt x="3900" y="3963"/>
                  </a:lnTo>
                  <a:lnTo>
                    <a:pt x="3981" y="3948"/>
                  </a:lnTo>
                  <a:lnTo>
                    <a:pt x="4068" y="3930"/>
                  </a:lnTo>
                  <a:lnTo>
                    <a:pt x="4154" y="3905"/>
                  </a:lnTo>
                  <a:lnTo>
                    <a:pt x="4237" y="3880"/>
                  </a:lnTo>
                  <a:lnTo>
                    <a:pt x="4315" y="3854"/>
                  </a:lnTo>
                  <a:lnTo>
                    <a:pt x="4383" y="3833"/>
                  </a:lnTo>
                  <a:lnTo>
                    <a:pt x="4387" y="3773"/>
                  </a:lnTo>
                  <a:lnTo>
                    <a:pt x="4392" y="3730"/>
                  </a:lnTo>
                  <a:lnTo>
                    <a:pt x="4400" y="3693"/>
                  </a:lnTo>
                  <a:lnTo>
                    <a:pt x="4414" y="3664"/>
                  </a:lnTo>
                  <a:lnTo>
                    <a:pt x="4427" y="3635"/>
                  </a:lnTo>
                  <a:lnTo>
                    <a:pt x="4449" y="3606"/>
                  </a:lnTo>
                  <a:lnTo>
                    <a:pt x="4476" y="3569"/>
                  </a:lnTo>
                  <a:lnTo>
                    <a:pt x="4511" y="3527"/>
                  </a:lnTo>
                  <a:lnTo>
                    <a:pt x="4513" y="3498"/>
                  </a:lnTo>
                  <a:lnTo>
                    <a:pt x="4513" y="3472"/>
                  </a:lnTo>
                  <a:lnTo>
                    <a:pt x="4509" y="3447"/>
                  </a:lnTo>
                  <a:lnTo>
                    <a:pt x="4505" y="3426"/>
                  </a:lnTo>
                  <a:lnTo>
                    <a:pt x="4497" y="3403"/>
                  </a:lnTo>
                  <a:lnTo>
                    <a:pt x="4487" y="3383"/>
                  </a:lnTo>
                  <a:lnTo>
                    <a:pt x="4476" y="3360"/>
                  </a:lnTo>
                  <a:lnTo>
                    <a:pt x="4466" y="3341"/>
                  </a:lnTo>
                  <a:lnTo>
                    <a:pt x="4476" y="3279"/>
                  </a:lnTo>
                  <a:lnTo>
                    <a:pt x="4520" y="3255"/>
                  </a:lnTo>
                  <a:lnTo>
                    <a:pt x="4580" y="3263"/>
                  </a:lnTo>
                  <a:lnTo>
                    <a:pt x="4648" y="3298"/>
                  </a:lnTo>
                  <a:lnTo>
                    <a:pt x="4708" y="3350"/>
                  </a:lnTo>
                  <a:lnTo>
                    <a:pt x="4751" y="3420"/>
                  </a:lnTo>
                  <a:lnTo>
                    <a:pt x="4761" y="3498"/>
                  </a:lnTo>
                  <a:lnTo>
                    <a:pt x="4732" y="3579"/>
                  </a:lnTo>
                  <a:lnTo>
                    <a:pt x="4732" y="3589"/>
                  </a:lnTo>
                  <a:lnTo>
                    <a:pt x="4738" y="3600"/>
                  </a:lnTo>
                  <a:lnTo>
                    <a:pt x="4743" y="3616"/>
                  </a:lnTo>
                  <a:lnTo>
                    <a:pt x="4749" y="3633"/>
                  </a:lnTo>
                  <a:lnTo>
                    <a:pt x="4755" y="3651"/>
                  </a:lnTo>
                  <a:lnTo>
                    <a:pt x="4761" y="3668"/>
                  </a:lnTo>
                  <a:lnTo>
                    <a:pt x="4767" y="3688"/>
                  </a:lnTo>
                  <a:lnTo>
                    <a:pt x="4772" y="3707"/>
                  </a:lnTo>
                  <a:lnTo>
                    <a:pt x="4854" y="3723"/>
                  </a:lnTo>
                  <a:lnTo>
                    <a:pt x="4937" y="3744"/>
                  </a:lnTo>
                  <a:lnTo>
                    <a:pt x="5019" y="3763"/>
                  </a:lnTo>
                  <a:lnTo>
                    <a:pt x="5104" y="3785"/>
                  </a:lnTo>
                  <a:lnTo>
                    <a:pt x="5187" y="3800"/>
                  </a:lnTo>
                  <a:lnTo>
                    <a:pt x="5275" y="3816"/>
                  </a:lnTo>
                  <a:lnTo>
                    <a:pt x="5362" y="3825"/>
                  </a:lnTo>
                  <a:lnTo>
                    <a:pt x="5453" y="3829"/>
                  </a:lnTo>
                  <a:lnTo>
                    <a:pt x="5486" y="3831"/>
                  </a:lnTo>
                  <a:lnTo>
                    <a:pt x="5515" y="3837"/>
                  </a:lnTo>
                  <a:lnTo>
                    <a:pt x="5539" y="3841"/>
                  </a:lnTo>
                  <a:lnTo>
                    <a:pt x="5560" y="3852"/>
                  </a:lnTo>
                  <a:lnTo>
                    <a:pt x="5575" y="3866"/>
                  </a:lnTo>
                  <a:lnTo>
                    <a:pt x="5589" y="3889"/>
                  </a:lnTo>
                  <a:lnTo>
                    <a:pt x="5599" y="3918"/>
                  </a:lnTo>
                  <a:lnTo>
                    <a:pt x="5610" y="3959"/>
                  </a:lnTo>
                  <a:lnTo>
                    <a:pt x="5635" y="3980"/>
                  </a:lnTo>
                  <a:lnTo>
                    <a:pt x="5651" y="4000"/>
                  </a:lnTo>
                  <a:lnTo>
                    <a:pt x="5657" y="4015"/>
                  </a:lnTo>
                  <a:lnTo>
                    <a:pt x="5657" y="4033"/>
                  </a:lnTo>
                  <a:lnTo>
                    <a:pt x="5649" y="4048"/>
                  </a:lnTo>
                  <a:lnTo>
                    <a:pt x="5643" y="4066"/>
                  </a:lnTo>
                  <a:lnTo>
                    <a:pt x="5637" y="4087"/>
                  </a:lnTo>
                  <a:lnTo>
                    <a:pt x="5635" y="4112"/>
                  </a:lnTo>
                  <a:lnTo>
                    <a:pt x="5655" y="4174"/>
                  </a:lnTo>
                  <a:lnTo>
                    <a:pt x="5630" y="4211"/>
                  </a:lnTo>
                  <a:lnTo>
                    <a:pt x="5570" y="4227"/>
                  </a:lnTo>
                  <a:lnTo>
                    <a:pt x="5486" y="4229"/>
                  </a:lnTo>
                  <a:lnTo>
                    <a:pt x="5391" y="4219"/>
                  </a:lnTo>
                  <a:lnTo>
                    <a:pt x="5302" y="4207"/>
                  </a:lnTo>
                  <a:lnTo>
                    <a:pt x="5228" y="4198"/>
                  </a:lnTo>
                  <a:lnTo>
                    <a:pt x="5186" y="4196"/>
                  </a:lnTo>
                  <a:lnTo>
                    <a:pt x="5131" y="4203"/>
                  </a:lnTo>
                  <a:lnTo>
                    <a:pt x="5079" y="4207"/>
                  </a:lnTo>
                  <a:lnTo>
                    <a:pt x="5027" y="4203"/>
                  </a:lnTo>
                  <a:lnTo>
                    <a:pt x="4974" y="4202"/>
                  </a:lnTo>
                  <a:lnTo>
                    <a:pt x="4922" y="4196"/>
                  </a:lnTo>
                  <a:lnTo>
                    <a:pt x="4877" y="4198"/>
                  </a:lnTo>
                  <a:lnTo>
                    <a:pt x="4833" y="4203"/>
                  </a:lnTo>
                  <a:lnTo>
                    <a:pt x="4798" y="4221"/>
                  </a:lnTo>
                  <a:lnTo>
                    <a:pt x="4774" y="4221"/>
                  </a:lnTo>
                  <a:lnTo>
                    <a:pt x="4753" y="4221"/>
                  </a:lnTo>
                  <a:lnTo>
                    <a:pt x="4732" y="4221"/>
                  </a:lnTo>
                  <a:lnTo>
                    <a:pt x="4710" y="4221"/>
                  </a:lnTo>
                  <a:lnTo>
                    <a:pt x="4689" y="4219"/>
                  </a:lnTo>
                  <a:lnTo>
                    <a:pt x="4670" y="4219"/>
                  </a:lnTo>
                  <a:lnTo>
                    <a:pt x="4650" y="4217"/>
                  </a:lnTo>
                  <a:lnTo>
                    <a:pt x="4633" y="4217"/>
                  </a:lnTo>
                  <a:lnTo>
                    <a:pt x="4594" y="4190"/>
                  </a:lnTo>
                  <a:lnTo>
                    <a:pt x="4553" y="4180"/>
                  </a:lnTo>
                  <a:lnTo>
                    <a:pt x="4507" y="4180"/>
                  </a:lnTo>
                  <a:lnTo>
                    <a:pt x="4460" y="4190"/>
                  </a:lnTo>
                  <a:lnTo>
                    <a:pt x="4412" y="4202"/>
                  </a:lnTo>
                  <a:lnTo>
                    <a:pt x="4365" y="4217"/>
                  </a:lnTo>
                  <a:lnTo>
                    <a:pt x="4323" y="4227"/>
                  </a:lnTo>
                  <a:lnTo>
                    <a:pt x="4288" y="4234"/>
                  </a:lnTo>
                  <a:lnTo>
                    <a:pt x="4299" y="4275"/>
                  </a:lnTo>
                  <a:lnTo>
                    <a:pt x="4311" y="4310"/>
                  </a:lnTo>
                  <a:lnTo>
                    <a:pt x="4317" y="4335"/>
                  </a:lnTo>
                  <a:lnTo>
                    <a:pt x="4319" y="4357"/>
                  </a:lnTo>
                  <a:lnTo>
                    <a:pt x="4311" y="4370"/>
                  </a:lnTo>
                  <a:lnTo>
                    <a:pt x="4293" y="4386"/>
                  </a:lnTo>
                  <a:lnTo>
                    <a:pt x="4264" y="4397"/>
                  </a:lnTo>
                  <a:lnTo>
                    <a:pt x="4226" y="4413"/>
                  </a:lnTo>
                  <a:lnTo>
                    <a:pt x="4228" y="4490"/>
                  </a:lnTo>
                  <a:lnTo>
                    <a:pt x="4229" y="4597"/>
                  </a:lnTo>
                  <a:lnTo>
                    <a:pt x="4228" y="4717"/>
                  </a:lnTo>
                  <a:lnTo>
                    <a:pt x="4216" y="4838"/>
                  </a:lnTo>
                  <a:lnTo>
                    <a:pt x="4187" y="4942"/>
                  </a:lnTo>
                  <a:lnTo>
                    <a:pt x="4136" y="5024"/>
                  </a:lnTo>
                  <a:lnTo>
                    <a:pt x="4057" y="5066"/>
                  </a:lnTo>
                  <a:lnTo>
                    <a:pt x="3946" y="5059"/>
                  </a:lnTo>
                  <a:lnTo>
                    <a:pt x="3923" y="5037"/>
                  </a:lnTo>
                  <a:lnTo>
                    <a:pt x="3900" y="5010"/>
                  </a:lnTo>
                  <a:lnTo>
                    <a:pt x="3875" y="4979"/>
                  </a:lnTo>
                  <a:lnTo>
                    <a:pt x="3853" y="4950"/>
                  </a:lnTo>
                  <a:lnTo>
                    <a:pt x="3832" y="4919"/>
                  </a:lnTo>
                  <a:lnTo>
                    <a:pt x="3816" y="4896"/>
                  </a:lnTo>
                  <a:lnTo>
                    <a:pt x="3805" y="4876"/>
                  </a:lnTo>
                  <a:lnTo>
                    <a:pt x="3799" y="4870"/>
                  </a:lnTo>
                  <a:lnTo>
                    <a:pt x="3756" y="4905"/>
                  </a:lnTo>
                  <a:lnTo>
                    <a:pt x="3698" y="4911"/>
                  </a:lnTo>
                  <a:lnTo>
                    <a:pt x="3630" y="4894"/>
                  </a:lnTo>
                  <a:lnTo>
                    <a:pt x="3556" y="4865"/>
                  </a:lnTo>
                  <a:lnTo>
                    <a:pt x="3479" y="4826"/>
                  </a:lnTo>
                  <a:lnTo>
                    <a:pt x="3409" y="4789"/>
                  </a:lnTo>
                  <a:lnTo>
                    <a:pt x="3347" y="4758"/>
                  </a:lnTo>
                  <a:lnTo>
                    <a:pt x="3300" y="4744"/>
                  </a:lnTo>
                  <a:lnTo>
                    <a:pt x="3306" y="4803"/>
                  </a:lnTo>
                  <a:lnTo>
                    <a:pt x="3324" y="4857"/>
                  </a:lnTo>
                  <a:lnTo>
                    <a:pt x="3345" y="4905"/>
                  </a:lnTo>
                  <a:lnTo>
                    <a:pt x="3374" y="4956"/>
                  </a:lnTo>
                  <a:lnTo>
                    <a:pt x="3401" y="5002"/>
                  </a:lnTo>
                  <a:lnTo>
                    <a:pt x="3430" y="5053"/>
                  </a:lnTo>
                  <a:lnTo>
                    <a:pt x="3454" y="5105"/>
                  </a:lnTo>
                  <a:lnTo>
                    <a:pt x="3475" y="5163"/>
                  </a:lnTo>
                  <a:lnTo>
                    <a:pt x="3479" y="5258"/>
                  </a:lnTo>
                  <a:lnTo>
                    <a:pt x="3489" y="5342"/>
                  </a:lnTo>
                  <a:lnTo>
                    <a:pt x="3502" y="5413"/>
                  </a:lnTo>
                  <a:lnTo>
                    <a:pt x="3525" y="5479"/>
                  </a:lnTo>
                  <a:lnTo>
                    <a:pt x="3555" y="5541"/>
                  </a:lnTo>
                  <a:lnTo>
                    <a:pt x="3595" y="5605"/>
                  </a:lnTo>
                  <a:lnTo>
                    <a:pt x="3648" y="5675"/>
                  </a:lnTo>
                  <a:lnTo>
                    <a:pt x="3716" y="5757"/>
                  </a:lnTo>
                  <a:lnTo>
                    <a:pt x="3716" y="5772"/>
                  </a:lnTo>
                  <a:lnTo>
                    <a:pt x="3716" y="5791"/>
                  </a:lnTo>
                  <a:lnTo>
                    <a:pt x="3756" y="5809"/>
                  </a:lnTo>
                  <a:lnTo>
                    <a:pt x="3801" y="5834"/>
                  </a:lnTo>
                  <a:lnTo>
                    <a:pt x="3844" y="5865"/>
                  </a:lnTo>
                  <a:lnTo>
                    <a:pt x="3886" y="5902"/>
                  </a:lnTo>
                  <a:lnTo>
                    <a:pt x="3921" y="5941"/>
                  </a:lnTo>
                  <a:lnTo>
                    <a:pt x="3948" y="5987"/>
                  </a:lnTo>
                  <a:lnTo>
                    <a:pt x="3962" y="6038"/>
                  </a:lnTo>
                  <a:lnTo>
                    <a:pt x="3964" y="6092"/>
                  </a:lnTo>
                  <a:lnTo>
                    <a:pt x="4028" y="6148"/>
                  </a:lnTo>
                  <a:lnTo>
                    <a:pt x="4086" y="6206"/>
                  </a:lnTo>
                  <a:lnTo>
                    <a:pt x="4134" y="6267"/>
                  </a:lnTo>
                  <a:lnTo>
                    <a:pt x="4167" y="6329"/>
                  </a:lnTo>
                  <a:lnTo>
                    <a:pt x="4175" y="6387"/>
                  </a:lnTo>
                  <a:lnTo>
                    <a:pt x="4160" y="6445"/>
                  </a:lnTo>
                  <a:lnTo>
                    <a:pt x="4109" y="6501"/>
                  </a:lnTo>
                  <a:lnTo>
                    <a:pt x="4022" y="6555"/>
                  </a:lnTo>
                  <a:lnTo>
                    <a:pt x="3983" y="6554"/>
                  </a:lnTo>
                  <a:lnTo>
                    <a:pt x="3956" y="6552"/>
                  </a:lnTo>
                  <a:lnTo>
                    <a:pt x="3935" y="6550"/>
                  </a:lnTo>
                  <a:lnTo>
                    <a:pt x="3921" y="6550"/>
                  </a:lnTo>
                  <a:lnTo>
                    <a:pt x="3908" y="6548"/>
                  </a:lnTo>
                  <a:lnTo>
                    <a:pt x="3902" y="6548"/>
                  </a:lnTo>
                  <a:lnTo>
                    <a:pt x="3894" y="6548"/>
                  </a:lnTo>
                  <a:lnTo>
                    <a:pt x="3890" y="6552"/>
                  </a:lnTo>
                  <a:lnTo>
                    <a:pt x="3892" y="6598"/>
                  </a:lnTo>
                  <a:lnTo>
                    <a:pt x="3900" y="6654"/>
                  </a:lnTo>
                  <a:lnTo>
                    <a:pt x="3906" y="6716"/>
                  </a:lnTo>
                  <a:lnTo>
                    <a:pt x="3909" y="6780"/>
                  </a:lnTo>
                  <a:lnTo>
                    <a:pt x="3904" y="6840"/>
                  </a:lnTo>
                  <a:lnTo>
                    <a:pt x="3888" y="6895"/>
                  </a:lnTo>
                  <a:lnTo>
                    <a:pt x="3855" y="6939"/>
                  </a:lnTo>
                  <a:lnTo>
                    <a:pt x="3807" y="6974"/>
                  </a:lnTo>
                  <a:lnTo>
                    <a:pt x="3797" y="6984"/>
                  </a:lnTo>
                  <a:lnTo>
                    <a:pt x="3785" y="6996"/>
                  </a:lnTo>
                  <a:lnTo>
                    <a:pt x="3772" y="7003"/>
                  </a:lnTo>
                  <a:lnTo>
                    <a:pt x="3758" y="7013"/>
                  </a:lnTo>
                  <a:lnTo>
                    <a:pt x="3741" y="7019"/>
                  </a:lnTo>
                  <a:lnTo>
                    <a:pt x="3725" y="7027"/>
                  </a:lnTo>
                  <a:lnTo>
                    <a:pt x="3710" y="7031"/>
                  </a:lnTo>
                  <a:lnTo>
                    <a:pt x="3698" y="7034"/>
                  </a:lnTo>
                  <a:close/>
                  <a:moveTo>
                    <a:pt x="1359" y="1630"/>
                  </a:moveTo>
                  <a:lnTo>
                    <a:pt x="1373" y="1623"/>
                  </a:lnTo>
                  <a:lnTo>
                    <a:pt x="1382" y="1621"/>
                  </a:lnTo>
                  <a:lnTo>
                    <a:pt x="1388" y="1617"/>
                  </a:lnTo>
                  <a:lnTo>
                    <a:pt x="1394" y="1613"/>
                  </a:lnTo>
                  <a:lnTo>
                    <a:pt x="1390" y="1596"/>
                  </a:lnTo>
                  <a:lnTo>
                    <a:pt x="1386" y="1578"/>
                  </a:lnTo>
                  <a:lnTo>
                    <a:pt x="1382" y="1563"/>
                  </a:lnTo>
                  <a:lnTo>
                    <a:pt x="1381" y="1547"/>
                  </a:lnTo>
                  <a:lnTo>
                    <a:pt x="1373" y="1545"/>
                  </a:lnTo>
                  <a:lnTo>
                    <a:pt x="1369" y="1543"/>
                  </a:lnTo>
                  <a:lnTo>
                    <a:pt x="1365" y="1551"/>
                  </a:lnTo>
                  <a:lnTo>
                    <a:pt x="1363" y="1561"/>
                  </a:lnTo>
                  <a:lnTo>
                    <a:pt x="1361" y="1572"/>
                  </a:lnTo>
                  <a:lnTo>
                    <a:pt x="1361" y="1584"/>
                  </a:lnTo>
                  <a:lnTo>
                    <a:pt x="1359" y="1596"/>
                  </a:lnTo>
                  <a:lnTo>
                    <a:pt x="1359" y="1607"/>
                  </a:lnTo>
                  <a:lnTo>
                    <a:pt x="1359" y="1619"/>
                  </a:lnTo>
                  <a:lnTo>
                    <a:pt x="1359" y="1630"/>
                  </a:lnTo>
                  <a:close/>
                  <a:moveTo>
                    <a:pt x="1446" y="1617"/>
                  </a:moveTo>
                  <a:lnTo>
                    <a:pt x="1456" y="1615"/>
                  </a:lnTo>
                  <a:lnTo>
                    <a:pt x="1468" y="1613"/>
                  </a:lnTo>
                  <a:lnTo>
                    <a:pt x="1477" y="1611"/>
                  </a:lnTo>
                  <a:lnTo>
                    <a:pt x="1489" y="1609"/>
                  </a:lnTo>
                  <a:lnTo>
                    <a:pt x="1497" y="1601"/>
                  </a:lnTo>
                  <a:lnTo>
                    <a:pt x="1505" y="1596"/>
                  </a:lnTo>
                  <a:lnTo>
                    <a:pt x="1507" y="1584"/>
                  </a:lnTo>
                  <a:lnTo>
                    <a:pt x="1508" y="1572"/>
                  </a:lnTo>
                  <a:lnTo>
                    <a:pt x="1493" y="1570"/>
                  </a:lnTo>
                  <a:lnTo>
                    <a:pt x="1481" y="1570"/>
                  </a:lnTo>
                  <a:lnTo>
                    <a:pt x="1474" y="1570"/>
                  </a:lnTo>
                  <a:lnTo>
                    <a:pt x="1468" y="1576"/>
                  </a:lnTo>
                  <a:lnTo>
                    <a:pt x="1454" y="1584"/>
                  </a:lnTo>
                  <a:lnTo>
                    <a:pt x="1443" y="1599"/>
                  </a:lnTo>
                  <a:lnTo>
                    <a:pt x="1443" y="1607"/>
                  </a:lnTo>
                  <a:lnTo>
                    <a:pt x="1446" y="1617"/>
                  </a:lnTo>
                  <a:close/>
                  <a:moveTo>
                    <a:pt x="1586" y="1590"/>
                  </a:moveTo>
                  <a:lnTo>
                    <a:pt x="1602" y="1586"/>
                  </a:lnTo>
                  <a:lnTo>
                    <a:pt x="1621" y="1582"/>
                  </a:lnTo>
                  <a:lnTo>
                    <a:pt x="1638" y="1576"/>
                  </a:lnTo>
                  <a:lnTo>
                    <a:pt x="1656" y="1564"/>
                  </a:lnTo>
                  <a:lnTo>
                    <a:pt x="1650" y="1539"/>
                  </a:lnTo>
                  <a:lnTo>
                    <a:pt x="1642" y="1528"/>
                  </a:lnTo>
                  <a:lnTo>
                    <a:pt x="1633" y="1526"/>
                  </a:lnTo>
                  <a:lnTo>
                    <a:pt x="1623" y="1533"/>
                  </a:lnTo>
                  <a:lnTo>
                    <a:pt x="1611" y="1543"/>
                  </a:lnTo>
                  <a:lnTo>
                    <a:pt x="1602" y="1561"/>
                  </a:lnTo>
                  <a:lnTo>
                    <a:pt x="1592" y="1574"/>
                  </a:lnTo>
                  <a:lnTo>
                    <a:pt x="1586" y="15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Freeform 9"/>
            <p:cNvSpPr/>
            <p:nvPr/>
          </p:nvSpPr>
          <p:spPr>
            <a:xfrm>
              <a:off x="7275240" y="6136560"/>
              <a:ext cx="480600" cy="324360"/>
            </a:xfrm>
            <a:custGeom>
              <a:avLst/>
              <a:gdLst>
                <a:gd name="textAreaLeft" fmla="*/ 0 w 480600"/>
                <a:gd name="textAreaRight" fmla="*/ 480960 w 48060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1016" h="506">
                  <a:moveTo>
                    <a:pt x="824" y="506"/>
                  </a:moveTo>
                  <a:lnTo>
                    <a:pt x="698" y="486"/>
                  </a:lnTo>
                  <a:lnTo>
                    <a:pt x="578" y="459"/>
                  </a:lnTo>
                  <a:lnTo>
                    <a:pt x="462" y="420"/>
                  </a:lnTo>
                  <a:lnTo>
                    <a:pt x="353" y="372"/>
                  </a:lnTo>
                  <a:lnTo>
                    <a:pt x="248" y="310"/>
                  </a:lnTo>
                  <a:lnTo>
                    <a:pt x="155" y="238"/>
                  </a:lnTo>
                  <a:lnTo>
                    <a:pt x="72" y="153"/>
                  </a:lnTo>
                  <a:lnTo>
                    <a:pt x="0" y="56"/>
                  </a:lnTo>
                  <a:lnTo>
                    <a:pt x="2" y="38"/>
                  </a:lnTo>
                  <a:lnTo>
                    <a:pt x="4" y="27"/>
                  </a:lnTo>
                  <a:lnTo>
                    <a:pt x="18" y="21"/>
                  </a:lnTo>
                  <a:lnTo>
                    <a:pt x="33" y="17"/>
                  </a:lnTo>
                  <a:lnTo>
                    <a:pt x="47" y="11"/>
                  </a:lnTo>
                  <a:lnTo>
                    <a:pt x="62" y="7"/>
                  </a:lnTo>
                  <a:lnTo>
                    <a:pt x="76" y="2"/>
                  </a:lnTo>
                  <a:lnTo>
                    <a:pt x="93" y="2"/>
                  </a:lnTo>
                  <a:lnTo>
                    <a:pt x="109" y="0"/>
                  </a:lnTo>
                  <a:lnTo>
                    <a:pt x="130" y="4"/>
                  </a:lnTo>
                  <a:lnTo>
                    <a:pt x="148" y="44"/>
                  </a:lnTo>
                  <a:lnTo>
                    <a:pt x="190" y="99"/>
                  </a:lnTo>
                  <a:lnTo>
                    <a:pt x="246" y="159"/>
                  </a:lnTo>
                  <a:lnTo>
                    <a:pt x="314" y="221"/>
                  </a:lnTo>
                  <a:lnTo>
                    <a:pt x="384" y="279"/>
                  </a:lnTo>
                  <a:lnTo>
                    <a:pt x="456" y="331"/>
                  </a:lnTo>
                  <a:lnTo>
                    <a:pt x="516" y="370"/>
                  </a:lnTo>
                  <a:lnTo>
                    <a:pt x="566" y="393"/>
                  </a:lnTo>
                  <a:lnTo>
                    <a:pt x="596" y="405"/>
                  </a:lnTo>
                  <a:lnTo>
                    <a:pt x="644" y="413"/>
                  </a:lnTo>
                  <a:lnTo>
                    <a:pt x="704" y="413"/>
                  </a:lnTo>
                  <a:lnTo>
                    <a:pt x="776" y="411"/>
                  </a:lnTo>
                  <a:lnTo>
                    <a:pt x="846" y="405"/>
                  </a:lnTo>
                  <a:lnTo>
                    <a:pt x="914" y="401"/>
                  </a:lnTo>
                  <a:lnTo>
                    <a:pt x="972" y="395"/>
                  </a:lnTo>
                  <a:lnTo>
                    <a:pt x="1016" y="393"/>
                  </a:lnTo>
                  <a:lnTo>
                    <a:pt x="1009" y="420"/>
                  </a:lnTo>
                  <a:lnTo>
                    <a:pt x="993" y="444"/>
                  </a:lnTo>
                  <a:lnTo>
                    <a:pt x="968" y="461"/>
                  </a:lnTo>
                  <a:lnTo>
                    <a:pt x="939" y="479"/>
                  </a:lnTo>
                  <a:lnTo>
                    <a:pt x="906" y="488"/>
                  </a:lnTo>
                  <a:lnTo>
                    <a:pt x="875" y="498"/>
                  </a:lnTo>
                  <a:lnTo>
                    <a:pt x="846" y="502"/>
                  </a:lnTo>
                  <a:lnTo>
                    <a:pt x="824" y="50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Freeform 10"/>
            <p:cNvSpPr/>
            <p:nvPr/>
          </p:nvSpPr>
          <p:spPr>
            <a:xfrm>
              <a:off x="6693840" y="6148080"/>
              <a:ext cx="534960" cy="23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237240"/>
                <a:gd name="textAreaBottom" fmla="*/ 237600 h 237240"/>
              </a:gdLst>
              <a:ahLst/>
              <a:rect l="textAreaLeft" t="textAreaTop" r="textAreaRight" b="textAreaBottom"/>
              <a:pathLst>
                <a:path w="1131" h="370">
                  <a:moveTo>
                    <a:pt x="346" y="370"/>
                  </a:moveTo>
                  <a:lnTo>
                    <a:pt x="309" y="367"/>
                  </a:lnTo>
                  <a:lnTo>
                    <a:pt x="260" y="363"/>
                  </a:lnTo>
                  <a:lnTo>
                    <a:pt x="204" y="353"/>
                  </a:lnTo>
                  <a:lnTo>
                    <a:pt x="146" y="343"/>
                  </a:lnTo>
                  <a:lnTo>
                    <a:pt x="90" y="326"/>
                  </a:lnTo>
                  <a:lnTo>
                    <a:pt x="45" y="306"/>
                  </a:lnTo>
                  <a:lnTo>
                    <a:pt x="12" y="283"/>
                  </a:lnTo>
                  <a:lnTo>
                    <a:pt x="0" y="254"/>
                  </a:lnTo>
                  <a:lnTo>
                    <a:pt x="107" y="270"/>
                  </a:lnTo>
                  <a:lnTo>
                    <a:pt x="247" y="277"/>
                  </a:lnTo>
                  <a:lnTo>
                    <a:pt x="404" y="272"/>
                  </a:lnTo>
                  <a:lnTo>
                    <a:pt x="571" y="254"/>
                  </a:lnTo>
                  <a:lnTo>
                    <a:pt x="730" y="217"/>
                  </a:lnTo>
                  <a:lnTo>
                    <a:pt x="871" y="165"/>
                  </a:lnTo>
                  <a:lnTo>
                    <a:pt x="984" y="93"/>
                  </a:lnTo>
                  <a:lnTo>
                    <a:pt x="1054" y="0"/>
                  </a:lnTo>
                  <a:lnTo>
                    <a:pt x="1071" y="2"/>
                  </a:lnTo>
                  <a:lnTo>
                    <a:pt x="1092" y="6"/>
                  </a:lnTo>
                  <a:lnTo>
                    <a:pt x="1110" y="10"/>
                  </a:lnTo>
                  <a:lnTo>
                    <a:pt x="1131" y="14"/>
                  </a:lnTo>
                  <a:lnTo>
                    <a:pt x="1118" y="35"/>
                  </a:lnTo>
                  <a:lnTo>
                    <a:pt x="1096" y="64"/>
                  </a:lnTo>
                  <a:lnTo>
                    <a:pt x="1067" y="95"/>
                  </a:lnTo>
                  <a:lnTo>
                    <a:pt x="1034" y="130"/>
                  </a:lnTo>
                  <a:lnTo>
                    <a:pt x="997" y="163"/>
                  </a:lnTo>
                  <a:lnTo>
                    <a:pt x="962" y="194"/>
                  </a:lnTo>
                  <a:lnTo>
                    <a:pt x="929" y="217"/>
                  </a:lnTo>
                  <a:lnTo>
                    <a:pt x="904" y="237"/>
                  </a:lnTo>
                  <a:lnTo>
                    <a:pt x="862" y="273"/>
                  </a:lnTo>
                  <a:lnTo>
                    <a:pt x="800" y="306"/>
                  </a:lnTo>
                  <a:lnTo>
                    <a:pt x="722" y="330"/>
                  </a:lnTo>
                  <a:lnTo>
                    <a:pt x="639" y="347"/>
                  </a:lnTo>
                  <a:lnTo>
                    <a:pt x="549" y="357"/>
                  </a:lnTo>
                  <a:lnTo>
                    <a:pt x="468" y="365"/>
                  </a:lnTo>
                  <a:lnTo>
                    <a:pt x="398" y="368"/>
                  </a:lnTo>
                  <a:lnTo>
                    <a:pt x="346" y="37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Freeform 11"/>
            <p:cNvSpPr/>
            <p:nvPr/>
          </p:nvSpPr>
          <p:spPr>
            <a:xfrm>
              <a:off x="7555320" y="6231600"/>
              <a:ext cx="216720" cy="128160"/>
            </a:xfrm>
            <a:custGeom>
              <a:avLst/>
              <a:gdLst>
                <a:gd name="textAreaLeft" fmla="*/ 0 w 216720"/>
                <a:gd name="textAreaRight" fmla="*/ 217080 w 21672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457" h="200">
                  <a:moveTo>
                    <a:pt x="95" y="200"/>
                  </a:moveTo>
                  <a:lnTo>
                    <a:pt x="81" y="198"/>
                  </a:lnTo>
                  <a:lnTo>
                    <a:pt x="69" y="196"/>
                  </a:lnTo>
                  <a:lnTo>
                    <a:pt x="58" y="194"/>
                  </a:lnTo>
                  <a:lnTo>
                    <a:pt x="46" y="194"/>
                  </a:lnTo>
                  <a:lnTo>
                    <a:pt x="33" y="192"/>
                  </a:lnTo>
                  <a:lnTo>
                    <a:pt x="21" y="192"/>
                  </a:lnTo>
                  <a:lnTo>
                    <a:pt x="9" y="192"/>
                  </a:lnTo>
                  <a:lnTo>
                    <a:pt x="0" y="192"/>
                  </a:lnTo>
                  <a:lnTo>
                    <a:pt x="9" y="153"/>
                  </a:lnTo>
                  <a:lnTo>
                    <a:pt x="40" y="118"/>
                  </a:lnTo>
                  <a:lnTo>
                    <a:pt x="83" y="87"/>
                  </a:lnTo>
                  <a:lnTo>
                    <a:pt x="137" y="62"/>
                  </a:lnTo>
                  <a:lnTo>
                    <a:pt x="194" y="39"/>
                  </a:lnTo>
                  <a:lnTo>
                    <a:pt x="250" y="21"/>
                  </a:lnTo>
                  <a:lnTo>
                    <a:pt x="298" y="8"/>
                  </a:lnTo>
                  <a:lnTo>
                    <a:pt x="339" y="0"/>
                  </a:lnTo>
                  <a:lnTo>
                    <a:pt x="351" y="0"/>
                  </a:lnTo>
                  <a:lnTo>
                    <a:pt x="364" y="2"/>
                  </a:lnTo>
                  <a:lnTo>
                    <a:pt x="378" y="2"/>
                  </a:lnTo>
                  <a:lnTo>
                    <a:pt x="391" y="4"/>
                  </a:lnTo>
                  <a:lnTo>
                    <a:pt x="403" y="4"/>
                  </a:lnTo>
                  <a:lnTo>
                    <a:pt x="417" y="6"/>
                  </a:lnTo>
                  <a:lnTo>
                    <a:pt x="430" y="6"/>
                  </a:lnTo>
                  <a:lnTo>
                    <a:pt x="444" y="8"/>
                  </a:lnTo>
                  <a:lnTo>
                    <a:pt x="450" y="45"/>
                  </a:lnTo>
                  <a:lnTo>
                    <a:pt x="455" y="77"/>
                  </a:lnTo>
                  <a:lnTo>
                    <a:pt x="457" y="103"/>
                  </a:lnTo>
                  <a:lnTo>
                    <a:pt x="457" y="126"/>
                  </a:lnTo>
                  <a:lnTo>
                    <a:pt x="450" y="143"/>
                  </a:lnTo>
                  <a:lnTo>
                    <a:pt x="436" y="161"/>
                  </a:lnTo>
                  <a:lnTo>
                    <a:pt x="411" y="174"/>
                  </a:lnTo>
                  <a:lnTo>
                    <a:pt x="378" y="192"/>
                  </a:lnTo>
                  <a:lnTo>
                    <a:pt x="368" y="192"/>
                  </a:lnTo>
                  <a:lnTo>
                    <a:pt x="358" y="192"/>
                  </a:lnTo>
                  <a:lnTo>
                    <a:pt x="345" y="192"/>
                  </a:lnTo>
                  <a:lnTo>
                    <a:pt x="323" y="194"/>
                  </a:lnTo>
                  <a:lnTo>
                    <a:pt x="290" y="194"/>
                  </a:lnTo>
                  <a:lnTo>
                    <a:pt x="244" y="196"/>
                  </a:lnTo>
                  <a:lnTo>
                    <a:pt x="178" y="198"/>
                  </a:lnTo>
                  <a:lnTo>
                    <a:pt x="95" y="20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Freeform 12"/>
            <p:cNvSpPr/>
            <p:nvPr/>
          </p:nvSpPr>
          <p:spPr>
            <a:xfrm>
              <a:off x="7421040" y="6130080"/>
              <a:ext cx="342360" cy="202680"/>
            </a:xfrm>
            <a:custGeom>
              <a:avLst/>
              <a:gdLst>
                <a:gd name="textAreaLeft" fmla="*/ 0 w 342360"/>
                <a:gd name="textAreaRight" fmla="*/ 342720 w 34236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726" h="316">
                  <a:moveTo>
                    <a:pt x="216" y="316"/>
                  </a:moveTo>
                  <a:lnTo>
                    <a:pt x="183" y="297"/>
                  </a:lnTo>
                  <a:lnTo>
                    <a:pt x="152" y="277"/>
                  </a:lnTo>
                  <a:lnTo>
                    <a:pt x="119" y="252"/>
                  </a:lnTo>
                  <a:lnTo>
                    <a:pt x="90" y="229"/>
                  </a:lnTo>
                  <a:lnTo>
                    <a:pt x="59" y="202"/>
                  </a:lnTo>
                  <a:lnTo>
                    <a:pt x="35" y="178"/>
                  </a:lnTo>
                  <a:lnTo>
                    <a:pt x="14" y="155"/>
                  </a:lnTo>
                  <a:lnTo>
                    <a:pt x="0" y="136"/>
                  </a:lnTo>
                  <a:lnTo>
                    <a:pt x="39" y="95"/>
                  </a:lnTo>
                  <a:lnTo>
                    <a:pt x="80" y="60"/>
                  </a:lnTo>
                  <a:lnTo>
                    <a:pt x="125" y="31"/>
                  </a:lnTo>
                  <a:lnTo>
                    <a:pt x="171" y="12"/>
                  </a:lnTo>
                  <a:lnTo>
                    <a:pt x="218" y="0"/>
                  </a:lnTo>
                  <a:lnTo>
                    <a:pt x="270" y="2"/>
                  </a:lnTo>
                  <a:lnTo>
                    <a:pt x="322" y="14"/>
                  </a:lnTo>
                  <a:lnTo>
                    <a:pt x="377" y="45"/>
                  </a:lnTo>
                  <a:lnTo>
                    <a:pt x="414" y="45"/>
                  </a:lnTo>
                  <a:lnTo>
                    <a:pt x="443" y="45"/>
                  </a:lnTo>
                  <a:lnTo>
                    <a:pt x="466" y="43"/>
                  </a:lnTo>
                  <a:lnTo>
                    <a:pt x="485" y="41"/>
                  </a:lnTo>
                  <a:lnTo>
                    <a:pt x="503" y="35"/>
                  </a:lnTo>
                  <a:lnTo>
                    <a:pt x="522" y="27"/>
                  </a:lnTo>
                  <a:lnTo>
                    <a:pt x="545" y="15"/>
                  </a:lnTo>
                  <a:lnTo>
                    <a:pt x="576" y="2"/>
                  </a:lnTo>
                  <a:lnTo>
                    <a:pt x="588" y="2"/>
                  </a:lnTo>
                  <a:lnTo>
                    <a:pt x="606" y="10"/>
                  </a:lnTo>
                  <a:lnTo>
                    <a:pt x="627" y="19"/>
                  </a:lnTo>
                  <a:lnTo>
                    <a:pt x="650" y="35"/>
                  </a:lnTo>
                  <a:lnTo>
                    <a:pt x="672" y="48"/>
                  </a:lnTo>
                  <a:lnTo>
                    <a:pt x="693" y="66"/>
                  </a:lnTo>
                  <a:lnTo>
                    <a:pt x="710" y="81"/>
                  </a:lnTo>
                  <a:lnTo>
                    <a:pt x="726" y="97"/>
                  </a:lnTo>
                  <a:lnTo>
                    <a:pt x="724" y="99"/>
                  </a:lnTo>
                  <a:lnTo>
                    <a:pt x="722" y="101"/>
                  </a:lnTo>
                  <a:lnTo>
                    <a:pt x="648" y="101"/>
                  </a:lnTo>
                  <a:lnTo>
                    <a:pt x="576" y="109"/>
                  </a:lnTo>
                  <a:lnTo>
                    <a:pt x="505" y="120"/>
                  </a:lnTo>
                  <a:lnTo>
                    <a:pt x="439" y="141"/>
                  </a:lnTo>
                  <a:lnTo>
                    <a:pt x="375" y="169"/>
                  </a:lnTo>
                  <a:lnTo>
                    <a:pt x="319" y="207"/>
                  </a:lnTo>
                  <a:lnTo>
                    <a:pt x="266" y="256"/>
                  </a:lnTo>
                  <a:lnTo>
                    <a:pt x="227" y="316"/>
                  </a:lnTo>
                  <a:lnTo>
                    <a:pt x="222" y="316"/>
                  </a:lnTo>
                  <a:lnTo>
                    <a:pt x="216" y="316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Freeform 13"/>
            <p:cNvSpPr/>
            <p:nvPr/>
          </p:nvSpPr>
          <p:spPr>
            <a:xfrm>
              <a:off x="6683760" y="6135480"/>
              <a:ext cx="258480" cy="15480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545" h="242">
                  <a:moveTo>
                    <a:pt x="149" y="242"/>
                  </a:moveTo>
                  <a:lnTo>
                    <a:pt x="122" y="234"/>
                  </a:lnTo>
                  <a:lnTo>
                    <a:pt x="103" y="230"/>
                  </a:lnTo>
                  <a:lnTo>
                    <a:pt x="85" y="227"/>
                  </a:lnTo>
                  <a:lnTo>
                    <a:pt x="74" y="225"/>
                  </a:lnTo>
                  <a:lnTo>
                    <a:pt x="58" y="221"/>
                  </a:lnTo>
                  <a:lnTo>
                    <a:pt x="43" y="217"/>
                  </a:lnTo>
                  <a:lnTo>
                    <a:pt x="23" y="213"/>
                  </a:lnTo>
                  <a:lnTo>
                    <a:pt x="0" y="211"/>
                  </a:lnTo>
                  <a:lnTo>
                    <a:pt x="0" y="182"/>
                  </a:lnTo>
                  <a:lnTo>
                    <a:pt x="6" y="153"/>
                  </a:lnTo>
                  <a:lnTo>
                    <a:pt x="12" y="124"/>
                  </a:lnTo>
                  <a:lnTo>
                    <a:pt x="21" y="97"/>
                  </a:lnTo>
                  <a:lnTo>
                    <a:pt x="31" y="69"/>
                  </a:lnTo>
                  <a:lnTo>
                    <a:pt x="45" y="46"/>
                  </a:lnTo>
                  <a:lnTo>
                    <a:pt x="60" y="21"/>
                  </a:lnTo>
                  <a:lnTo>
                    <a:pt x="80" y="2"/>
                  </a:lnTo>
                  <a:lnTo>
                    <a:pt x="122" y="0"/>
                  </a:lnTo>
                  <a:lnTo>
                    <a:pt x="184" y="9"/>
                  </a:lnTo>
                  <a:lnTo>
                    <a:pt x="254" y="31"/>
                  </a:lnTo>
                  <a:lnTo>
                    <a:pt x="332" y="62"/>
                  </a:lnTo>
                  <a:lnTo>
                    <a:pt x="402" y="95"/>
                  </a:lnTo>
                  <a:lnTo>
                    <a:pt x="468" y="135"/>
                  </a:lnTo>
                  <a:lnTo>
                    <a:pt x="516" y="176"/>
                  </a:lnTo>
                  <a:lnTo>
                    <a:pt x="545" y="221"/>
                  </a:lnTo>
                  <a:lnTo>
                    <a:pt x="495" y="228"/>
                  </a:lnTo>
                  <a:lnTo>
                    <a:pt x="444" y="234"/>
                  </a:lnTo>
                  <a:lnTo>
                    <a:pt x="394" y="238"/>
                  </a:lnTo>
                  <a:lnTo>
                    <a:pt x="343" y="242"/>
                  </a:lnTo>
                  <a:lnTo>
                    <a:pt x="291" y="242"/>
                  </a:lnTo>
                  <a:lnTo>
                    <a:pt x="243" y="242"/>
                  </a:lnTo>
                  <a:lnTo>
                    <a:pt x="194" y="242"/>
                  </a:lnTo>
                  <a:lnTo>
                    <a:pt x="149" y="24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14"/>
            <p:cNvSpPr/>
            <p:nvPr/>
          </p:nvSpPr>
          <p:spPr>
            <a:xfrm>
              <a:off x="6746040" y="6064920"/>
              <a:ext cx="332280" cy="203760"/>
            </a:xfrm>
            <a:custGeom>
              <a:avLst/>
              <a:gdLst>
                <a:gd name="textAreaLeft" fmla="*/ 0 w 332280"/>
                <a:gd name="textAreaRight" fmla="*/ 332640 w 33228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702" h="318">
                  <a:moveTo>
                    <a:pt x="475" y="318"/>
                  </a:moveTo>
                  <a:lnTo>
                    <a:pt x="436" y="262"/>
                  </a:lnTo>
                  <a:lnTo>
                    <a:pt x="386" y="213"/>
                  </a:lnTo>
                  <a:lnTo>
                    <a:pt x="326" y="169"/>
                  </a:lnTo>
                  <a:lnTo>
                    <a:pt x="260" y="134"/>
                  </a:lnTo>
                  <a:lnTo>
                    <a:pt x="190" y="101"/>
                  </a:lnTo>
                  <a:lnTo>
                    <a:pt x="122" y="78"/>
                  </a:lnTo>
                  <a:lnTo>
                    <a:pt x="56" y="62"/>
                  </a:lnTo>
                  <a:lnTo>
                    <a:pt x="0" y="56"/>
                  </a:lnTo>
                  <a:lnTo>
                    <a:pt x="0" y="39"/>
                  </a:lnTo>
                  <a:lnTo>
                    <a:pt x="6" y="27"/>
                  </a:lnTo>
                  <a:lnTo>
                    <a:pt x="10" y="18"/>
                  </a:lnTo>
                  <a:lnTo>
                    <a:pt x="19" y="12"/>
                  </a:lnTo>
                  <a:lnTo>
                    <a:pt x="25" y="6"/>
                  </a:lnTo>
                  <a:lnTo>
                    <a:pt x="37" y="2"/>
                  </a:lnTo>
                  <a:lnTo>
                    <a:pt x="49" y="0"/>
                  </a:lnTo>
                  <a:lnTo>
                    <a:pt x="60" y="0"/>
                  </a:lnTo>
                  <a:lnTo>
                    <a:pt x="142" y="45"/>
                  </a:lnTo>
                  <a:lnTo>
                    <a:pt x="225" y="64"/>
                  </a:lnTo>
                  <a:lnTo>
                    <a:pt x="306" y="66"/>
                  </a:lnTo>
                  <a:lnTo>
                    <a:pt x="390" y="64"/>
                  </a:lnTo>
                  <a:lnTo>
                    <a:pt x="469" y="66"/>
                  </a:lnTo>
                  <a:lnTo>
                    <a:pt x="549" y="87"/>
                  </a:lnTo>
                  <a:lnTo>
                    <a:pt x="625" y="134"/>
                  </a:lnTo>
                  <a:lnTo>
                    <a:pt x="702" y="221"/>
                  </a:lnTo>
                  <a:lnTo>
                    <a:pt x="702" y="229"/>
                  </a:lnTo>
                  <a:lnTo>
                    <a:pt x="702" y="239"/>
                  </a:lnTo>
                  <a:lnTo>
                    <a:pt x="673" y="252"/>
                  </a:lnTo>
                  <a:lnTo>
                    <a:pt x="646" y="268"/>
                  </a:lnTo>
                  <a:lnTo>
                    <a:pt x="617" y="279"/>
                  </a:lnTo>
                  <a:lnTo>
                    <a:pt x="590" y="293"/>
                  </a:lnTo>
                  <a:lnTo>
                    <a:pt x="561" y="301"/>
                  </a:lnTo>
                  <a:lnTo>
                    <a:pt x="531" y="308"/>
                  </a:lnTo>
                  <a:lnTo>
                    <a:pt x="502" y="314"/>
                  </a:lnTo>
                  <a:lnTo>
                    <a:pt x="475" y="318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Freeform 15"/>
            <p:cNvSpPr/>
            <p:nvPr/>
          </p:nvSpPr>
          <p:spPr>
            <a:xfrm>
              <a:off x="6998040" y="6062400"/>
              <a:ext cx="104760" cy="12780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223" h="200">
                  <a:moveTo>
                    <a:pt x="220" y="200"/>
                  </a:moveTo>
                  <a:lnTo>
                    <a:pt x="194" y="177"/>
                  </a:lnTo>
                  <a:lnTo>
                    <a:pt x="163" y="152"/>
                  </a:lnTo>
                  <a:lnTo>
                    <a:pt x="126" y="124"/>
                  </a:lnTo>
                  <a:lnTo>
                    <a:pt x="92" y="97"/>
                  </a:lnTo>
                  <a:lnTo>
                    <a:pt x="57" y="68"/>
                  </a:lnTo>
                  <a:lnTo>
                    <a:pt x="28" y="45"/>
                  </a:lnTo>
                  <a:lnTo>
                    <a:pt x="8" y="24"/>
                  </a:lnTo>
                  <a:lnTo>
                    <a:pt x="0" y="12"/>
                  </a:lnTo>
                  <a:lnTo>
                    <a:pt x="30" y="0"/>
                  </a:lnTo>
                  <a:lnTo>
                    <a:pt x="66" y="12"/>
                  </a:lnTo>
                  <a:lnTo>
                    <a:pt x="107" y="37"/>
                  </a:lnTo>
                  <a:lnTo>
                    <a:pt x="148" y="76"/>
                  </a:lnTo>
                  <a:lnTo>
                    <a:pt x="183" y="117"/>
                  </a:lnTo>
                  <a:lnTo>
                    <a:pt x="210" y="155"/>
                  </a:lnTo>
                  <a:lnTo>
                    <a:pt x="223" y="184"/>
                  </a:lnTo>
                  <a:lnTo>
                    <a:pt x="220" y="20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Freeform 16"/>
            <p:cNvSpPr/>
            <p:nvPr/>
          </p:nvSpPr>
          <p:spPr>
            <a:xfrm>
              <a:off x="7392600" y="6086520"/>
              <a:ext cx="106560" cy="10368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227" h="161">
                  <a:moveTo>
                    <a:pt x="18" y="161"/>
                  </a:moveTo>
                  <a:lnTo>
                    <a:pt x="8" y="147"/>
                  </a:lnTo>
                  <a:lnTo>
                    <a:pt x="4" y="140"/>
                  </a:lnTo>
                  <a:lnTo>
                    <a:pt x="2" y="132"/>
                  </a:lnTo>
                  <a:lnTo>
                    <a:pt x="0" y="126"/>
                  </a:lnTo>
                  <a:lnTo>
                    <a:pt x="24" y="99"/>
                  </a:lnTo>
                  <a:lnTo>
                    <a:pt x="47" y="78"/>
                  </a:lnTo>
                  <a:lnTo>
                    <a:pt x="68" y="58"/>
                  </a:lnTo>
                  <a:lnTo>
                    <a:pt x="92" y="45"/>
                  </a:lnTo>
                  <a:lnTo>
                    <a:pt x="115" y="29"/>
                  </a:lnTo>
                  <a:lnTo>
                    <a:pt x="142" y="19"/>
                  </a:lnTo>
                  <a:lnTo>
                    <a:pt x="171" y="8"/>
                  </a:lnTo>
                  <a:lnTo>
                    <a:pt x="206" y="0"/>
                  </a:lnTo>
                  <a:lnTo>
                    <a:pt x="206" y="4"/>
                  </a:lnTo>
                  <a:lnTo>
                    <a:pt x="206" y="12"/>
                  </a:lnTo>
                  <a:lnTo>
                    <a:pt x="216" y="12"/>
                  </a:lnTo>
                  <a:lnTo>
                    <a:pt x="227" y="25"/>
                  </a:lnTo>
                  <a:lnTo>
                    <a:pt x="214" y="35"/>
                  </a:lnTo>
                  <a:lnTo>
                    <a:pt x="190" y="52"/>
                  </a:lnTo>
                  <a:lnTo>
                    <a:pt x="157" y="74"/>
                  </a:lnTo>
                  <a:lnTo>
                    <a:pt x="124" y="97"/>
                  </a:lnTo>
                  <a:lnTo>
                    <a:pt x="88" y="116"/>
                  </a:lnTo>
                  <a:lnTo>
                    <a:pt x="57" y="138"/>
                  </a:lnTo>
                  <a:lnTo>
                    <a:pt x="31" y="151"/>
                  </a:lnTo>
                  <a:lnTo>
                    <a:pt x="18" y="16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Freeform 17"/>
            <p:cNvSpPr/>
            <p:nvPr/>
          </p:nvSpPr>
          <p:spPr>
            <a:xfrm>
              <a:off x="7049160" y="6044400"/>
              <a:ext cx="111600" cy="12276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237" h="192">
                  <a:moveTo>
                    <a:pt x="180" y="192"/>
                  </a:moveTo>
                  <a:lnTo>
                    <a:pt x="163" y="177"/>
                  </a:lnTo>
                  <a:lnTo>
                    <a:pt x="140" y="151"/>
                  </a:lnTo>
                  <a:lnTo>
                    <a:pt x="111" y="120"/>
                  </a:lnTo>
                  <a:lnTo>
                    <a:pt x="81" y="89"/>
                  </a:lnTo>
                  <a:lnTo>
                    <a:pt x="50" y="56"/>
                  </a:lnTo>
                  <a:lnTo>
                    <a:pt x="25" y="29"/>
                  </a:lnTo>
                  <a:lnTo>
                    <a:pt x="6" y="8"/>
                  </a:lnTo>
                  <a:lnTo>
                    <a:pt x="0" y="0"/>
                  </a:lnTo>
                  <a:lnTo>
                    <a:pt x="27" y="16"/>
                  </a:lnTo>
                  <a:lnTo>
                    <a:pt x="54" y="33"/>
                  </a:lnTo>
                  <a:lnTo>
                    <a:pt x="81" y="52"/>
                  </a:lnTo>
                  <a:lnTo>
                    <a:pt x="111" y="72"/>
                  </a:lnTo>
                  <a:lnTo>
                    <a:pt x="138" y="91"/>
                  </a:lnTo>
                  <a:lnTo>
                    <a:pt x="169" y="111"/>
                  </a:lnTo>
                  <a:lnTo>
                    <a:pt x="200" y="126"/>
                  </a:lnTo>
                  <a:lnTo>
                    <a:pt x="237" y="144"/>
                  </a:lnTo>
                  <a:lnTo>
                    <a:pt x="223" y="153"/>
                  </a:lnTo>
                  <a:lnTo>
                    <a:pt x="208" y="171"/>
                  </a:lnTo>
                  <a:lnTo>
                    <a:pt x="192" y="184"/>
                  </a:lnTo>
                  <a:lnTo>
                    <a:pt x="180" y="192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Freeform 18"/>
            <p:cNvSpPr/>
            <p:nvPr/>
          </p:nvSpPr>
          <p:spPr>
            <a:xfrm>
              <a:off x="6500880" y="4028760"/>
              <a:ext cx="1397160" cy="2138400"/>
            </a:xfrm>
            <a:custGeom>
              <a:avLst/>
              <a:gdLst>
                <a:gd name="textAreaLeft" fmla="*/ 0 w 1397160"/>
                <a:gd name="textAreaRight" fmla="*/ 1397160 w 1397160"/>
                <a:gd name="textAreaTop" fmla="*/ 0 h 2138400"/>
                <a:gd name="textAreaBottom" fmla="*/ 2138760 h 2138400"/>
              </a:gdLst>
              <a:ahLst/>
              <a:rect l="textAreaLeft" t="textAreaTop" r="textAreaRight" b="textAreaBottom"/>
              <a:pathLst>
                <a:path w="2952" h="3333">
                  <a:moveTo>
                    <a:pt x="2791" y="3333"/>
                  </a:moveTo>
                  <a:lnTo>
                    <a:pt x="2731" y="3318"/>
                  </a:lnTo>
                  <a:lnTo>
                    <a:pt x="2682" y="3298"/>
                  </a:lnTo>
                  <a:lnTo>
                    <a:pt x="2636" y="3275"/>
                  </a:lnTo>
                  <a:lnTo>
                    <a:pt x="2597" y="3250"/>
                  </a:lnTo>
                  <a:lnTo>
                    <a:pt x="2556" y="3219"/>
                  </a:lnTo>
                  <a:lnTo>
                    <a:pt x="2519" y="3190"/>
                  </a:lnTo>
                  <a:lnTo>
                    <a:pt x="2479" y="3157"/>
                  </a:lnTo>
                  <a:lnTo>
                    <a:pt x="2438" y="3128"/>
                  </a:lnTo>
                  <a:lnTo>
                    <a:pt x="2359" y="3100"/>
                  </a:lnTo>
                  <a:lnTo>
                    <a:pt x="2279" y="3089"/>
                  </a:lnTo>
                  <a:lnTo>
                    <a:pt x="2198" y="3087"/>
                  </a:lnTo>
                  <a:lnTo>
                    <a:pt x="2120" y="3097"/>
                  </a:lnTo>
                  <a:lnTo>
                    <a:pt x="2042" y="3114"/>
                  </a:lnTo>
                  <a:lnTo>
                    <a:pt x="1967" y="3139"/>
                  </a:lnTo>
                  <a:lnTo>
                    <a:pt x="1891" y="3170"/>
                  </a:lnTo>
                  <a:lnTo>
                    <a:pt x="1821" y="3207"/>
                  </a:lnTo>
                  <a:lnTo>
                    <a:pt x="1711" y="3236"/>
                  </a:lnTo>
                  <a:lnTo>
                    <a:pt x="1620" y="3254"/>
                  </a:lnTo>
                  <a:lnTo>
                    <a:pt x="1540" y="3256"/>
                  </a:lnTo>
                  <a:lnTo>
                    <a:pt x="1472" y="3248"/>
                  </a:lnTo>
                  <a:lnTo>
                    <a:pt x="1404" y="3225"/>
                  </a:lnTo>
                  <a:lnTo>
                    <a:pt x="1336" y="3190"/>
                  </a:lnTo>
                  <a:lnTo>
                    <a:pt x="1259" y="3143"/>
                  </a:lnTo>
                  <a:lnTo>
                    <a:pt x="1172" y="3085"/>
                  </a:lnTo>
                  <a:lnTo>
                    <a:pt x="1094" y="3052"/>
                  </a:lnTo>
                  <a:lnTo>
                    <a:pt x="1003" y="3031"/>
                  </a:lnTo>
                  <a:lnTo>
                    <a:pt x="898" y="3021"/>
                  </a:lnTo>
                  <a:lnTo>
                    <a:pt x="793" y="3023"/>
                  </a:lnTo>
                  <a:lnTo>
                    <a:pt x="689" y="3034"/>
                  </a:lnTo>
                  <a:lnTo>
                    <a:pt x="594" y="3058"/>
                  </a:lnTo>
                  <a:lnTo>
                    <a:pt x="514" y="3095"/>
                  </a:lnTo>
                  <a:lnTo>
                    <a:pt x="460" y="3145"/>
                  </a:lnTo>
                  <a:lnTo>
                    <a:pt x="464" y="3161"/>
                  </a:lnTo>
                  <a:lnTo>
                    <a:pt x="466" y="3174"/>
                  </a:lnTo>
                  <a:lnTo>
                    <a:pt x="464" y="3186"/>
                  </a:lnTo>
                  <a:lnTo>
                    <a:pt x="460" y="3199"/>
                  </a:lnTo>
                  <a:lnTo>
                    <a:pt x="452" y="3211"/>
                  </a:lnTo>
                  <a:lnTo>
                    <a:pt x="442" y="3223"/>
                  </a:lnTo>
                  <a:lnTo>
                    <a:pt x="431" y="3234"/>
                  </a:lnTo>
                  <a:lnTo>
                    <a:pt x="421" y="3250"/>
                  </a:lnTo>
                  <a:lnTo>
                    <a:pt x="411" y="3246"/>
                  </a:lnTo>
                  <a:lnTo>
                    <a:pt x="407" y="3246"/>
                  </a:lnTo>
                  <a:lnTo>
                    <a:pt x="384" y="3157"/>
                  </a:lnTo>
                  <a:lnTo>
                    <a:pt x="402" y="3073"/>
                  </a:lnTo>
                  <a:lnTo>
                    <a:pt x="446" y="2994"/>
                  </a:lnTo>
                  <a:lnTo>
                    <a:pt x="514" y="2924"/>
                  </a:lnTo>
                  <a:lnTo>
                    <a:pt x="596" y="2860"/>
                  </a:lnTo>
                  <a:lnTo>
                    <a:pt x="685" y="2810"/>
                  </a:lnTo>
                  <a:lnTo>
                    <a:pt x="774" y="2771"/>
                  </a:lnTo>
                  <a:lnTo>
                    <a:pt x="857" y="2748"/>
                  </a:lnTo>
                  <a:lnTo>
                    <a:pt x="887" y="2748"/>
                  </a:lnTo>
                  <a:lnTo>
                    <a:pt x="919" y="2753"/>
                  </a:lnTo>
                  <a:lnTo>
                    <a:pt x="949" y="2759"/>
                  </a:lnTo>
                  <a:lnTo>
                    <a:pt x="982" y="2767"/>
                  </a:lnTo>
                  <a:lnTo>
                    <a:pt x="1011" y="2773"/>
                  </a:lnTo>
                  <a:lnTo>
                    <a:pt x="1042" y="2780"/>
                  </a:lnTo>
                  <a:lnTo>
                    <a:pt x="1071" y="2784"/>
                  </a:lnTo>
                  <a:lnTo>
                    <a:pt x="1102" y="2788"/>
                  </a:lnTo>
                  <a:lnTo>
                    <a:pt x="1108" y="2780"/>
                  </a:lnTo>
                  <a:lnTo>
                    <a:pt x="1115" y="2775"/>
                  </a:lnTo>
                  <a:lnTo>
                    <a:pt x="1079" y="2740"/>
                  </a:lnTo>
                  <a:lnTo>
                    <a:pt x="1032" y="2722"/>
                  </a:lnTo>
                  <a:lnTo>
                    <a:pt x="976" y="2715"/>
                  </a:lnTo>
                  <a:lnTo>
                    <a:pt x="916" y="2717"/>
                  </a:lnTo>
                  <a:lnTo>
                    <a:pt x="854" y="2722"/>
                  </a:lnTo>
                  <a:lnTo>
                    <a:pt x="797" y="2732"/>
                  </a:lnTo>
                  <a:lnTo>
                    <a:pt x="749" y="2740"/>
                  </a:lnTo>
                  <a:lnTo>
                    <a:pt x="714" y="2748"/>
                  </a:lnTo>
                  <a:lnTo>
                    <a:pt x="731" y="2705"/>
                  </a:lnTo>
                  <a:lnTo>
                    <a:pt x="770" y="2676"/>
                  </a:lnTo>
                  <a:lnTo>
                    <a:pt x="821" y="2656"/>
                  </a:lnTo>
                  <a:lnTo>
                    <a:pt x="881" y="2643"/>
                  </a:lnTo>
                  <a:lnTo>
                    <a:pt x="941" y="2629"/>
                  </a:lnTo>
                  <a:lnTo>
                    <a:pt x="999" y="2620"/>
                  </a:lnTo>
                  <a:lnTo>
                    <a:pt x="1046" y="2606"/>
                  </a:lnTo>
                  <a:lnTo>
                    <a:pt x="1080" y="2587"/>
                  </a:lnTo>
                  <a:lnTo>
                    <a:pt x="1036" y="2581"/>
                  </a:lnTo>
                  <a:lnTo>
                    <a:pt x="995" y="2581"/>
                  </a:lnTo>
                  <a:lnTo>
                    <a:pt x="954" y="2585"/>
                  </a:lnTo>
                  <a:lnTo>
                    <a:pt x="918" y="2594"/>
                  </a:lnTo>
                  <a:lnTo>
                    <a:pt x="879" y="2602"/>
                  </a:lnTo>
                  <a:lnTo>
                    <a:pt x="842" y="2614"/>
                  </a:lnTo>
                  <a:lnTo>
                    <a:pt x="803" y="2623"/>
                  </a:lnTo>
                  <a:lnTo>
                    <a:pt x="766" y="2635"/>
                  </a:lnTo>
                  <a:lnTo>
                    <a:pt x="759" y="2558"/>
                  </a:lnTo>
                  <a:lnTo>
                    <a:pt x="757" y="2480"/>
                  </a:lnTo>
                  <a:lnTo>
                    <a:pt x="757" y="2400"/>
                  </a:lnTo>
                  <a:lnTo>
                    <a:pt x="762" y="2325"/>
                  </a:lnTo>
                  <a:lnTo>
                    <a:pt x="766" y="2245"/>
                  </a:lnTo>
                  <a:lnTo>
                    <a:pt x="772" y="2170"/>
                  </a:lnTo>
                  <a:lnTo>
                    <a:pt x="778" y="2096"/>
                  </a:lnTo>
                  <a:lnTo>
                    <a:pt x="784" y="2028"/>
                  </a:lnTo>
                  <a:lnTo>
                    <a:pt x="811" y="2013"/>
                  </a:lnTo>
                  <a:lnTo>
                    <a:pt x="840" y="2003"/>
                  </a:lnTo>
                  <a:lnTo>
                    <a:pt x="869" y="1993"/>
                  </a:lnTo>
                  <a:lnTo>
                    <a:pt x="902" y="1987"/>
                  </a:lnTo>
                  <a:lnTo>
                    <a:pt x="931" y="1978"/>
                  </a:lnTo>
                  <a:lnTo>
                    <a:pt x="960" y="1970"/>
                  </a:lnTo>
                  <a:lnTo>
                    <a:pt x="987" y="1958"/>
                  </a:lnTo>
                  <a:lnTo>
                    <a:pt x="1015" y="1945"/>
                  </a:lnTo>
                  <a:lnTo>
                    <a:pt x="987" y="1945"/>
                  </a:lnTo>
                  <a:lnTo>
                    <a:pt x="960" y="1945"/>
                  </a:lnTo>
                  <a:lnTo>
                    <a:pt x="933" y="1947"/>
                  </a:lnTo>
                  <a:lnTo>
                    <a:pt x="908" y="1951"/>
                  </a:lnTo>
                  <a:lnTo>
                    <a:pt x="881" y="1954"/>
                  </a:lnTo>
                  <a:lnTo>
                    <a:pt x="855" y="1958"/>
                  </a:lnTo>
                  <a:lnTo>
                    <a:pt x="832" y="1964"/>
                  </a:lnTo>
                  <a:lnTo>
                    <a:pt x="809" y="1972"/>
                  </a:lnTo>
                  <a:lnTo>
                    <a:pt x="803" y="1896"/>
                  </a:lnTo>
                  <a:lnTo>
                    <a:pt x="793" y="1823"/>
                  </a:lnTo>
                  <a:lnTo>
                    <a:pt x="780" y="1749"/>
                  </a:lnTo>
                  <a:lnTo>
                    <a:pt x="768" y="1675"/>
                  </a:lnTo>
                  <a:lnTo>
                    <a:pt x="757" y="1602"/>
                  </a:lnTo>
                  <a:lnTo>
                    <a:pt x="751" y="1534"/>
                  </a:lnTo>
                  <a:lnTo>
                    <a:pt x="755" y="1466"/>
                  </a:lnTo>
                  <a:lnTo>
                    <a:pt x="770" y="1404"/>
                  </a:lnTo>
                  <a:lnTo>
                    <a:pt x="764" y="1377"/>
                  </a:lnTo>
                  <a:lnTo>
                    <a:pt x="760" y="1353"/>
                  </a:lnTo>
                  <a:lnTo>
                    <a:pt x="753" y="1332"/>
                  </a:lnTo>
                  <a:lnTo>
                    <a:pt x="747" y="1311"/>
                  </a:lnTo>
                  <a:lnTo>
                    <a:pt x="741" y="1287"/>
                  </a:lnTo>
                  <a:lnTo>
                    <a:pt x="735" y="1266"/>
                  </a:lnTo>
                  <a:lnTo>
                    <a:pt x="731" y="1243"/>
                  </a:lnTo>
                  <a:lnTo>
                    <a:pt x="731" y="1222"/>
                  </a:lnTo>
                  <a:lnTo>
                    <a:pt x="731" y="1200"/>
                  </a:lnTo>
                  <a:lnTo>
                    <a:pt x="733" y="1181"/>
                  </a:lnTo>
                  <a:lnTo>
                    <a:pt x="735" y="1161"/>
                  </a:lnTo>
                  <a:lnTo>
                    <a:pt x="739" y="1144"/>
                  </a:lnTo>
                  <a:lnTo>
                    <a:pt x="741" y="1125"/>
                  </a:lnTo>
                  <a:lnTo>
                    <a:pt x="745" y="1105"/>
                  </a:lnTo>
                  <a:lnTo>
                    <a:pt x="749" y="1086"/>
                  </a:lnTo>
                  <a:lnTo>
                    <a:pt x="753" y="1068"/>
                  </a:lnTo>
                  <a:lnTo>
                    <a:pt x="745" y="1041"/>
                  </a:lnTo>
                  <a:lnTo>
                    <a:pt x="739" y="1022"/>
                  </a:lnTo>
                  <a:lnTo>
                    <a:pt x="735" y="1004"/>
                  </a:lnTo>
                  <a:lnTo>
                    <a:pt x="733" y="993"/>
                  </a:lnTo>
                  <a:lnTo>
                    <a:pt x="729" y="981"/>
                  </a:lnTo>
                  <a:lnTo>
                    <a:pt x="729" y="973"/>
                  </a:lnTo>
                  <a:lnTo>
                    <a:pt x="729" y="968"/>
                  </a:lnTo>
                  <a:lnTo>
                    <a:pt x="731" y="964"/>
                  </a:lnTo>
                  <a:lnTo>
                    <a:pt x="722" y="964"/>
                  </a:lnTo>
                  <a:lnTo>
                    <a:pt x="718" y="964"/>
                  </a:lnTo>
                  <a:lnTo>
                    <a:pt x="720" y="942"/>
                  </a:lnTo>
                  <a:lnTo>
                    <a:pt x="724" y="919"/>
                  </a:lnTo>
                  <a:lnTo>
                    <a:pt x="726" y="892"/>
                  </a:lnTo>
                  <a:lnTo>
                    <a:pt x="729" y="865"/>
                  </a:lnTo>
                  <a:lnTo>
                    <a:pt x="729" y="836"/>
                  </a:lnTo>
                  <a:lnTo>
                    <a:pt x="731" y="809"/>
                  </a:lnTo>
                  <a:lnTo>
                    <a:pt x="731" y="785"/>
                  </a:lnTo>
                  <a:lnTo>
                    <a:pt x="731" y="768"/>
                  </a:lnTo>
                  <a:lnTo>
                    <a:pt x="729" y="774"/>
                  </a:lnTo>
                  <a:lnTo>
                    <a:pt x="727" y="781"/>
                  </a:lnTo>
                  <a:lnTo>
                    <a:pt x="729" y="764"/>
                  </a:lnTo>
                  <a:lnTo>
                    <a:pt x="733" y="746"/>
                  </a:lnTo>
                  <a:lnTo>
                    <a:pt x="735" y="729"/>
                  </a:lnTo>
                  <a:lnTo>
                    <a:pt x="739" y="712"/>
                  </a:lnTo>
                  <a:lnTo>
                    <a:pt x="741" y="692"/>
                  </a:lnTo>
                  <a:lnTo>
                    <a:pt x="743" y="677"/>
                  </a:lnTo>
                  <a:lnTo>
                    <a:pt x="743" y="661"/>
                  </a:lnTo>
                  <a:lnTo>
                    <a:pt x="745" y="650"/>
                  </a:lnTo>
                  <a:lnTo>
                    <a:pt x="722" y="671"/>
                  </a:lnTo>
                  <a:lnTo>
                    <a:pt x="704" y="731"/>
                  </a:lnTo>
                  <a:lnTo>
                    <a:pt x="693" y="816"/>
                  </a:lnTo>
                  <a:lnTo>
                    <a:pt x="687" y="921"/>
                  </a:lnTo>
                  <a:lnTo>
                    <a:pt x="683" y="1026"/>
                  </a:lnTo>
                  <a:lnTo>
                    <a:pt x="681" y="1125"/>
                  </a:lnTo>
                  <a:lnTo>
                    <a:pt x="681" y="1204"/>
                  </a:lnTo>
                  <a:lnTo>
                    <a:pt x="683" y="1256"/>
                  </a:lnTo>
                  <a:lnTo>
                    <a:pt x="691" y="1282"/>
                  </a:lnTo>
                  <a:lnTo>
                    <a:pt x="700" y="1309"/>
                  </a:lnTo>
                  <a:lnTo>
                    <a:pt x="708" y="1334"/>
                  </a:lnTo>
                  <a:lnTo>
                    <a:pt x="718" y="1361"/>
                  </a:lnTo>
                  <a:lnTo>
                    <a:pt x="720" y="1384"/>
                  </a:lnTo>
                  <a:lnTo>
                    <a:pt x="718" y="1412"/>
                  </a:lnTo>
                  <a:lnTo>
                    <a:pt x="708" y="1437"/>
                  </a:lnTo>
                  <a:lnTo>
                    <a:pt x="693" y="1466"/>
                  </a:lnTo>
                  <a:lnTo>
                    <a:pt x="693" y="1483"/>
                  </a:lnTo>
                  <a:lnTo>
                    <a:pt x="696" y="1503"/>
                  </a:lnTo>
                  <a:lnTo>
                    <a:pt x="700" y="1520"/>
                  </a:lnTo>
                  <a:lnTo>
                    <a:pt x="708" y="1540"/>
                  </a:lnTo>
                  <a:lnTo>
                    <a:pt x="714" y="1557"/>
                  </a:lnTo>
                  <a:lnTo>
                    <a:pt x="720" y="1578"/>
                  </a:lnTo>
                  <a:lnTo>
                    <a:pt x="726" y="1598"/>
                  </a:lnTo>
                  <a:lnTo>
                    <a:pt x="731" y="1623"/>
                  </a:lnTo>
                  <a:lnTo>
                    <a:pt x="710" y="1640"/>
                  </a:lnTo>
                  <a:lnTo>
                    <a:pt x="689" y="1654"/>
                  </a:lnTo>
                  <a:lnTo>
                    <a:pt x="669" y="1668"/>
                  </a:lnTo>
                  <a:lnTo>
                    <a:pt x="652" y="1681"/>
                  </a:lnTo>
                  <a:lnTo>
                    <a:pt x="632" y="1693"/>
                  </a:lnTo>
                  <a:lnTo>
                    <a:pt x="619" y="1712"/>
                  </a:lnTo>
                  <a:lnTo>
                    <a:pt x="605" y="1733"/>
                  </a:lnTo>
                  <a:lnTo>
                    <a:pt x="599" y="1763"/>
                  </a:lnTo>
                  <a:lnTo>
                    <a:pt x="586" y="1776"/>
                  </a:lnTo>
                  <a:lnTo>
                    <a:pt x="578" y="1790"/>
                  </a:lnTo>
                  <a:lnTo>
                    <a:pt x="570" y="1797"/>
                  </a:lnTo>
                  <a:lnTo>
                    <a:pt x="567" y="1805"/>
                  </a:lnTo>
                  <a:lnTo>
                    <a:pt x="559" y="1813"/>
                  </a:lnTo>
                  <a:lnTo>
                    <a:pt x="553" y="1823"/>
                  </a:lnTo>
                  <a:lnTo>
                    <a:pt x="547" y="1786"/>
                  </a:lnTo>
                  <a:lnTo>
                    <a:pt x="545" y="1751"/>
                  </a:lnTo>
                  <a:lnTo>
                    <a:pt x="543" y="1716"/>
                  </a:lnTo>
                  <a:lnTo>
                    <a:pt x="543" y="1681"/>
                  </a:lnTo>
                  <a:lnTo>
                    <a:pt x="539" y="1646"/>
                  </a:lnTo>
                  <a:lnTo>
                    <a:pt x="535" y="1613"/>
                  </a:lnTo>
                  <a:lnTo>
                    <a:pt x="530" y="1580"/>
                  </a:lnTo>
                  <a:lnTo>
                    <a:pt x="526" y="1553"/>
                  </a:lnTo>
                  <a:lnTo>
                    <a:pt x="506" y="1545"/>
                  </a:lnTo>
                  <a:lnTo>
                    <a:pt x="491" y="1540"/>
                  </a:lnTo>
                  <a:lnTo>
                    <a:pt x="471" y="1582"/>
                  </a:lnTo>
                  <a:lnTo>
                    <a:pt x="468" y="1652"/>
                  </a:lnTo>
                  <a:lnTo>
                    <a:pt x="468" y="1737"/>
                  </a:lnTo>
                  <a:lnTo>
                    <a:pt x="468" y="1828"/>
                  </a:lnTo>
                  <a:lnTo>
                    <a:pt x="452" y="1914"/>
                  </a:lnTo>
                  <a:lnTo>
                    <a:pt x="419" y="1982"/>
                  </a:lnTo>
                  <a:lnTo>
                    <a:pt x="355" y="2024"/>
                  </a:lnTo>
                  <a:lnTo>
                    <a:pt x="256" y="2032"/>
                  </a:lnTo>
                  <a:lnTo>
                    <a:pt x="198" y="1993"/>
                  </a:lnTo>
                  <a:lnTo>
                    <a:pt x="148" y="1943"/>
                  </a:lnTo>
                  <a:lnTo>
                    <a:pt x="101" y="1881"/>
                  </a:lnTo>
                  <a:lnTo>
                    <a:pt x="64" y="1813"/>
                  </a:lnTo>
                  <a:lnTo>
                    <a:pt x="31" y="1741"/>
                  </a:lnTo>
                  <a:lnTo>
                    <a:pt x="12" y="1669"/>
                  </a:lnTo>
                  <a:lnTo>
                    <a:pt x="0" y="1602"/>
                  </a:lnTo>
                  <a:lnTo>
                    <a:pt x="2" y="1543"/>
                  </a:lnTo>
                  <a:lnTo>
                    <a:pt x="8" y="1551"/>
                  </a:lnTo>
                  <a:lnTo>
                    <a:pt x="18" y="1571"/>
                  </a:lnTo>
                  <a:lnTo>
                    <a:pt x="25" y="1594"/>
                  </a:lnTo>
                  <a:lnTo>
                    <a:pt x="35" y="1623"/>
                  </a:lnTo>
                  <a:lnTo>
                    <a:pt x="41" y="1650"/>
                  </a:lnTo>
                  <a:lnTo>
                    <a:pt x="49" y="1679"/>
                  </a:lnTo>
                  <a:lnTo>
                    <a:pt x="53" y="1702"/>
                  </a:lnTo>
                  <a:lnTo>
                    <a:pt x="58" y="1724"/>
                  </a:lnTo>
                  <a:lnTo>
                    <a:pt x="72" y="1755"/>
                  </a:lnTo>
                  <a:lnTo>
                    <a:pt x="86" y="1786"/>
                  </a:lnTo>
                  <a:lnTo>
                    <a:pt x="99" y="1813"/>
                  </a:lnTo>
                  <a:lnTo>
                    <a:pt x="117" y="1842"/>
                  </a:lnTo>
                  <a:lnTo>
                    <a:pt x="134" y="1869"/>
                  </a:lnTo>
                  <a:lnTo>
                    <a:pt x="153" y="1898"/>
                  </a:lnTo>
                  <a:lnTo>
                    <a:pt x="175" y="1927"/>
                  </a:lnTo>
                  <a:lnTo>
                    <a:pt x="204" y="1962"/>
                  </a:lnTo>
                  <a:lnTo>
                    <a:pt x="283" y="1933"/>
                  </a:lnTo>
                  <a:lnTo>
                    <a:pt x="328" y="1861"/>
                  </a:lnTo>
                  <a:lnTo>
                    <a:pt x="345" y="1755"/>
                  </a:lnTo>
                  <a:lnTo>
                    <a:pt x="343" y="1633"/>
                  </a:lnTo>
                  <a:lnTo>
                    <a:pt x="322" y="1499"/>
                  </a:lnTo>
                  <a:lnTo>
                    <a:pt x="297" y="1375"/>
                  </a:lnTo>
                  <a:lnTo>
                    <a:pt x="270" y="1266"/>
                  </a:lnTo>
                  <a:lnTo>
                    <a:pt x="250" y="1194"/>
                  </a:lnTo>
                  <a:lnTo>
                    <a:pt x="235" y="1158"/>
                  </a:lnTo>
                  <a:lnTo>
                    <a:pt x="219" y="1121"/>
                  </a:lnTo>
                  <a:lnTo>
                    <a:pt x="202" y="1084"/>
                  </a:lnTo>
                  <a:lnTo>
                    <a:pt x="186" y="1049"/>
                  </a:lnTo>
                  <a:lnTo>
                    <a:pt x="171" y="1010"/>
                  </a:lnTo>
                  <a:lnTo>
                    <a:pt x="157" y="975"/>
                  </a:lnTo>
                  <a:lnTo>
                    <a:pt x="146" y="942"/>
                  </a:lnTo>
                  <a:lnTo>
                    <a:pt x="142" y="915"/>
                  </a:lnTo>
                  <a:lnTo>
                    <a:pt x="225" y="929"/>
                  </a:lnTo>
                  <a:lnTo>
                    <a:pt x="295" y="964"/>
                  </a:lnTo>
                  <a:lnTo>
                    <a:pt x="349" y="1014"/>
                  </a:lnTo>
                  <a:lnTo>
                    <a:pt x="392" y="1078"/>
                  </a:lnTo>
                  <a:lnTo>
                    <a:pt x="421" y="1150"/>
                  </a:lnTo>
                  <a:lnTo>
                    <a:pt x="440" y="1229"/>
                  </a:lnTo>
                  <a:lnTo>
                    <a:pt x="450" y="1311"/>
                  </a:lnTo>
                  <a:lnTo>
                    <a:pt x="456" y="1396"/>
                  </a:lnTo>
                  <a:lnTo>
                    <a:pt x="460" y="1402"/>
                  </a:lnTo>
                  <a:lnTo>
                    <a:pt x="466" y="1408"/>
                  </a:lnTo>
                  <a:lnTo>
                    <a:pt x="471" y="1412"/>
                  </a:lnTo>
                  <a:lnTo>
                    <a:pt x="483" y="1417"/>
                  </a:lnTo>
                  <a:lnTo>
                    <a:pt x="497" y="1388"/>
                  </a:lnTo>
                  <a:lnTo>
                    <a:pt x="503" y="1350"/>
                  </a:lnTo>
                  <a:lnTo>
                    <a:pt x="499" y="1301"/>
                  </a:lnTo>
                  <a:lnTo>
                    <a:pt x="491" y="1251"/>
                  </a:lnTo>
                  <a:lnTo>
                    <a:pt x="477" y="1198"/>
                  </a:lnTo>
                  <a:lnTo>
                    <a:pt x="466" y="1150"/>
                  </a:lnTo>
                  <a:lnTo>
                    <a:pt x="452" y="1111"/>
                  </a:lnTo>
                  <a:lnTo>
                    <a:pt x="442" y="1086"/>
                  </a:lnTo>
                  <a:lnTo>
                    <a:pt x="425" y="1057"/>
                  </a:lnTo>
                  <a:lnTo>
                    <a:pt x="407" y="1033"/>
                  </a:lnTo>
                  <a:lnTo>
                    <a:pt x="390" y="1010"/>
                  </a:lnTo>
                  <a:lnTo>
                    <a:pt x="373" y="993"/>
                  </a:lnTo>
                  <a:lnTo>
                    <a:pt x="355" y="971"/>
                  </a:lnTo>
                  <a:lnTo>
                    <a:pt x="338" y="954"/>
                  </a:lnTo>
                  <a:lnTo>
                    <a:pt x="320" y="937"/>
                  </a:lnTo>
                  <a:lnTo>
                    <a:pt x="303" y="921"/>
                  </a:lnTo>
                  <a:lnTo>
                    <a:pt x="305" y="909"/>
                  </a:lnTo>
                  <a:lnTo>
                    <a:pt x="309" y="904"/>
                  </a:lnTo>
                  <a:lnTo>
                    <a:pt x="338" y="902"/>
                  </a:lnTo>
                  <a:lnTo>
                    <a:pt x="367" y="907"/>
                  </a:lnTo>
                  <a:lnTo>
                    <a:pt x="394" y="917"/>
                  </a:lnTo>
                  <a:lnTo>
                    <a:pt x="419" y="935"/>
                  </a:lnTo>
                  <a:lnTo>
                    <a:pt x="440" y="954"/>
                  </a:lnTo>
                  <a:lnTo>
                    <a:pt x="460" y="979"/>
                  </a:lnTo>
                  <a:lnTo>
                    <a:pt x="477" y="1006"/>
                  </a:lnTo>
                  <a:lnTo>
                    <a:pt x="495" y="1037"/>
                  </a:lnTo>
                  <a:lnTo>
                    <a:pt x="534" y="1144"/>
                  </a:lnTo>
                  <a:lnTo>
                    <a:pt x="557" y="1192"/>
                  </a:lnTo>
                  <a:lnTo>
                    <a:pt x="565" y="1194"/>
                  </a:lnTo>
                  <a:lnTo>
                    <a:pt x="563" y="1163"/>
                  </a:lnTo>
                  <a:lnTo>
                    <a:pt x="545" y="1105"/>
                  </a:lnTo>
                  <a:lnTo>
                    <a:pt x="518" y="1037"/>
                  </a:lnTo>
                  <a:lnTo>
                    <a:pt x="479" y="966"/>
                  </a:lnTo>
                  <a:lnTo>
                    <a:pt x="435" y="907"/>
                  </a:lnTo>
                  <a:lnTo>
                    <a:pt x="417" y="896"/>
                  </a:lnTo>
                  <a:lnTo>
                    <a:pt x="400" y="886"/>
                  </a:lnTo>
                  <a:lnTo>
                    <a:pt x="400" y="876"/>
                  </a:lnTo>
                  <a:lnTo>
                    <a:pt x="400" y="869"/>
                  </a:lnTo>
                  <a:lnTo>
                    <a:pt x="485" y="805"/>
                  </a:lnTo>
                  <a:lnTo>
                    <a:pt x="539" y="741"/>
                  </a:lnTo>
                  <a:lnTo>
                    <a:pt x="568" y="671"/>
                  </a:lnTo>
                  <a:lnTo>
                    <a:pt x="588" y="601"/>
                  </a:lnTo>
                  <a:lnTo>
                    <a:pt x="599" y="527"/>
                  </a:lnTo>
                  <a:lnTo>
                    <a:pt x="617" y="458"/>
                  </a:lnTo>
                  <a:lnTo>
                    <a:pt x="646" y="388"/>
                  </a:lnTo>
                  <a:lnTo>
                    <a:pt x="700" y="322"/>
                  </a:lnTo>
                  <a:lnTo>
                    <a:pt x="716" y="322"/>
                  </a:lnTo>
                  <a:lnTo>
                    <a:pt x="731" y="322"/>
                  </a:lnTo>
                  <a:lnTo>
                    <a:pt x="731" y="306"/>
                  </a:lnTo>
                  <a:lnTo>
                    <a:pt x="731" y="295"/>
                  </a:lnTo>
                  <a:lnTo>
                    <a:pt x="731" y="283"/>
                  </a:lnTo>
                  <a:lnTo>
                    <a:pt x="731" y="275"/>
                  </a:lnTo>
                  <a:lnTo>
                    <a:pt x="731" y="264"/>
                  </a:lnTo>
                  <a:lnTo>
                    <a:pt x="735" y="256"/>
                  </a:lnTo>
                  <a:lnTo>
                    <a:pt x="739" y="244"/>
                  </a:lnTo>
                  <a:lnTo>
                    <a:pt x="745" y="235"/>
                  </a:lnTo>
                  <a:lnTo>
                    <a:pt x="762" y="235"/>
                  </a:lnTo>
                  <a:lnTo>
                    <a:pt x="784" y="235"/>
                  </a:lnTo>
                  <a:lnTo>
                    <a:pt x="788" y="254"/>
                  </a:lnTo>
                  <a:lnTo>
                    <a:pt x="790" y="281"/>
                  </a:lnTo>
                  <a:lnTo>
                    <a:pt x="788" y="312"/>
                  </a:lnTo>
                  <a:lnTo>
                    <a:pt x="788" y="349"/>
                  </a:lnTo>
                  <a:lnTo>
                    <a:pt x="786" y="384"/>
                  </a:lnTo>
                  <a:lnTo>
                    <a:pt x="790" y="423"/>
                  </a:lnTo>
                  <a:lnTo>
                    <a:pt x="797" y="460"/>
                  </a:lnTo>
                  <a:lnTo>
                    <a:pt x="815" y="496"/>
                  </a:lnTo>
                  <a:lnTo>
                    <a:pt x="817" y="479"/>
                  </a:lnTo>
                  <a:lnTo>
                    <a:pt x="821" y="452"/>
                  </a:lnTo>
                  <a:lnTo>
                    <a:pt x="824" y="415"/>
                  </a:lnTo>
                  <a:lnTo>
                    <a:pt x="828" y="374"/>
                  </a:lnTo>
                  <a:lnTo>
                    <a:pt x="830" y="330"/>
                  </a:lnTo>
                  <a:lnTo>
                    <a:pt x="834" y="289"/>
                  </a:lnTo>
                  <a:lnTo>
                    <a:pt x="836" y="254"/>
                  </a:lnTo>
                  <a:lnTo>
                    <a:pt x="840" y="231"/>
                  </a:lnTo>
                  <a:lnTo>
                    <a:pt x="854" y="223"/>
                  </a:lnTo>
                  <a:lnTo>
                    <a:pt x="867" y="209"/>
                  </a:lnTo>
                  <a:lnTo>
                    <a:pt x="879" y="186"/>
                  </a:lnTo>
                  <a:lnTo>
                    <a:pt x="894" y="163"/>
                  </a:lnTo>
                  <a:lnTo>
                    <a:pt x="906" y="136"/>
                  </a:lnTo>
                  <a:lnTo>
                    <a:pt x="923" y="114"/>
                  </a:lnTo>
                  <a:lnTo>
                    <a:pt x="941" y="95"/>
                  </a:lnTo>
                  <a:lnTo>
                    <a:pt x="962" y="87"/>
                  </a:lnTo>
                  <a:lnTo>
                    <a:pt x="939" y="268"/>
                  </a:lnTo>
                  <a:lnTo>
                    <a:pt x="927" y="448"/>
                  </a:lnTo>
                  <a:lnTo>
                    <a:pt x="929" y="624"/>
                  </a:lnTo>
                  <a:lnTo>
                    <a:pt x="947" y="803"/>
                  </a:lnTo>
                  <a:lnTo>
                    <a:pt x="978" y="977"/>
                  </a:lnTo>
                  <a:lnTo>
                    <a:pt x="1026" y="1152"/>
                  </a:lnTo>
                  <a:lnTo>
                    <a:pt x="1092" y="1320"/>
                  </a:lnTo>
                  <a:lnTo>
                    <a:pt x="1181" y="1491"/>
                  </a:lnTo>
                  <a:lnTo>
                    <a:pt x="1201" y="1520"/>
                  </a:lnTo>
                  <a:lnTo>
                    <a:pt x="1239" y="1509"/>
                  </a:lnTo>
                  <a:lnTo>
                    <a:pt x="1288" y="1468"/>
                  </a:lnTo>
                  <a:lnTo>
                    <a:pt x="1346" y="1410"/>
                  </a:lnTo>
                  <a:lnTo>
                    <a:pt x="1400" y="1340"/>
                  </a:lnTo>
                  <a:lnTo>
                    <a:pt x="1451" y="1276"/>
                  </a:lnTo>
                  <a:lnTo>
                    <a:pt x="1488" y="1223"/>
                  </a:lnTo>
                  <a:lnTo>
                    <a:pt x="1507" y="1200"/>
                  </a:lnTo>
                  <a:lnTo>
                    <a:pt x="1587" y="1059"/>
                  </a:lnTo>
                  <a:lnTo>
                    <a:pt x="1660" y="915"/>
                  </a:lnTo>
                  <a:lnTo>
                    <a:pt x="1724" y="768"/>
                  </a:lnTo>
                  <a:lnTo>
                    <a:pt x="1783" y="620"/>
                  </a:lnTo>
                  <a:lnTo>
                    <a:pt x="1829" y="467"/>
                  </a:lnTo>
                  <a:lnTo>
                    <a:pt x="1870" y="314"/>
                  </a:lnTo>
                  <a:lnTo>
                    <a:pt x="1899" y="157"/>
                  </a:lnTo>
                  <a:lnTo>
                    <a:pt x="1922" y="0"/>
                  </a:lnTo>
                  <a:lnTo>
                    <a:pt x="1984" y="68"/>
                  </a:lnTo>
                  <a:lnTo>
                    <a:pt x="2013" y="128"/>
                  </a:lnTo>
                  <a:lnTo>
                    <a:pt x="2019" y="180"/>
                  </a:lnTo>
                  <a:lnTo>
                    <a:pt x="2007" y="231"/>
                  </a:lnTo>
                  <a:lnTo>
                    <a:pt x="1988" y="279"/>
                  </a:lnTo>
                  <a:lnTo>
                    <a:pt x="1969" y="335"/>
                  </a:lnTo>
                  <a:lnTo>
                    <a:pt x="1959" y="399"/>
                  </a:lnTo>
                  <a:lnTo>
                    <a:pt x="1971" y="479"/>
                  </a:lnTo>
                  <a:lnTo>
                    <a:pt x="1973" y="479"/>
                  </a:lnTo>
                  <a:lnTo>
                    <a:pt x="1978" y="485"/>
                  </a:lnTo>
                  <a:lnTo>
                    <a:pt x="1998" y="427"/>
                  </a:lnTo>
                  <a:lnTo>
                    <a:pt x="2011" y="372"/>
                  </a:lnTo>
                  <a:lnTo>
                    <a:pt x="2017" y="322"/>
                  </a:lnTo>
                  <a:lnTo>
                    <a:pt x="2027" y="277"/>
                  </a:lnTo>
                  <a:lnTo>
                    <a:pt x="2040" y="238"/>
                  </a:lnTo>
                  <a:lnTo>
                    <a:pt x="2066" y="211"/>
                  </a:lnTo>
                  <a:lnTo>
                    <a:pt x="2108" y="194"/>
                  </a:lnTo>
                  <a:lnTo>
                    <a:pt x="2176" y="188"/>
                  </a:lnTo>
                  <a:lnTo>
                    <a:pt x="2211" y="204"/>
                  </a:lnTo>
                  <a:lnTo>
                    <a:pt x="2231" y="225"/>
                  </a:lnTo>
                  <a:lnTo>
                    <a:pt x="2238" y="252"/>
                  </a:lnTo>
                  <a:lnTo>
                    <a:pt x="2240" y="285"/>
                  </a:lnTo>
                  <a:lnTo>
                    <a:pt x="2238" y="318"/>
                  </a:lnTo>
                  <a:lnTo>
                    <a:pt x="2240" y="357"/>
                  </a:lnTo>
                  <a:lnTo>
                    <a:pt x="2250" y="396"/>
                  </a:lnTo>
                  <a:lnTo>
                    <a:pt x="2271" y="436"/>
                  </a:lnTo>
                  <a:lnTo>
                    <a:pt x="2283" y="489"/>
                  </a:lnTo>
                  <a:lnTo>
                    <a:pt x="2304" y="541"/>
                  </a:lnTo>
                  <a:lnTo>
                    <a:pt x="2327" y="587"/>
                  </a:lnTo>
                  <a:lnTo>
                    <a:pt x="2360" y="634"/>
                  </a:lnTo>
                  <a:lnTo>
                    <a:pt x="2393" y="673"/>
                  </a:lnTo>
                  <a:lnTo>
                    <a:pt x="2434" y="714"/>
                  </a:lnTo>
                  <a:lnTo>
                    <a:pt x="2477" y="750"/>
                  </a:lnTo>
                  <a:lnTo>
                    <a:pt x="2525" y="789"/>
                  </a:lnTo>
                  <a:lnTo>
                    <a:pt x="2519" y="814"/>
                  </a:lnTo>
                  <a:lnTo>
                    <a:pt x="2502" y="845"/>
                  </a:lnTo>
                  <a:lnTo>
                    <a:pt x="2475" y="874"/>
                  </a:lnTo>
                  <a:lnTo>
                    <a:pt x="2444" y="909"/>
                  </a:lnTo>
                  <a:lnTo>
                    <a:pt x="2409" y="942"/>
                  </a:lnTo>
                  <a:lnTo>
                    <a:pt x="2382" y="977"/>
                  </a:lnTo>
                  <a:lnTo>
                    <a:pt x="2360" y="1014"/>
                  </a:lnTo>
                  <a:lnTo>
                    <a:pt x="2355" y="1051"/>
                  </a:lnTo>
                  <a:lnTo>
                    <a:pt x="2349" y="1072"/>
                  </a:lnTo>
                  <a:lnTo>
                    <a:pt x="2343" y="1101"/>
                  </a:lnTo>
                  <a:lnTo>
                    <a:pt x="2339" y="1132"/>
                  </a:lnTo>
                  <a:lnTo>
                    <a:pt x="2341" y="1167"/>
                  </a:lnTo>
                  <a:lnTo>
                    <a:pt x="2345" y="1200"/>
                  </a:lnTo>
                  <a:lnTo>
                    <a:pt x="2355" y="1231"/>
                  </a:lnTo>
                  <a:lnTo>
                    <a:pt x="2370" y="1254"/>
                  </a:lnTo>
                  <a:lnTo>
                    <a:pt x="2393" y="1274"/>
                  </a:lnTo>
                  <a:lnTo>
                    <a:pt x="2393" y="1264"/>
                  </a:lnTo>
                  <a:lnTo>
                    <a:pt x="2395" y="1249"/>
                  </a:lnTo>
                  <a:lnTo>
                    <a:pt x="2395" y="1229"/>
                  </a:lnTo>
                  <a:lnTo>
                    <a:pt x="2395" y="1208"/>
                  </a:lnTo>
                  <a:lnTo>
                    <a:pt x="2393" y="1185"/>
                  </a:lnTo>
                  <a:lnTo>
                    <a:pt x="2393" y="1165"/>
                  </a:lnTo>
                  <a:lnTo>
                    <a:pt x="2393" y="1150"/>
                  </a:lnTo>
                  <a:lnTo>
                    <a:pt x="2393" y="1142"/>
                  </a:lnTo>
                  <a:lnTo>
                    <a:pt x="2401" y="1103"/>
                  </a:lnTo>
                  <a:lnTo>
                    <a:pt x="2413" y="1064"/>
                  </a:lnTo>
                  <a:lnTo>
                    <a:pt x="2426" y="1026"/>
                  </a:lnTo>
                  <a:lnTo>
                    <a:pt x="2446" y="989"/>
                  </a:lnTo>
                  <a:lnTo>
                    <a:pt x="2465" y="952"/>
                  </a:lnTo>
                  <a:lnTo>
                    <a:pt x="2490" y="923"/>
                  </a:lnTo>
                  <a:lnTo>
                    <a:pt x="2519" y="898"/>
                  </a:lnTo>
                  <a:lnTo>
                    <a:pt x="2554" y="886"/>
                  </a:lnTo>
                  <a:lnTo>
                    <a:pt x="2539" y="921"/>
                  </a:lnTo>
                  <a:lnTo>
                    <a:pt x="2521" y="975"/>
                  </a:lnTo>
                  <a:lnTo>
                    <a:pt x="2506" y="1035"/>
                  </a:lnTo>
                  <a:lnTo>
                    <a:pt x="2496" y="1103"/>
                  </a:lnTo>
                  <a:lnTo>
                    <a:pt x="2494" y="1165"/>
                  </a:lnTo>
                  <a:lnTo>
                    <a:pt x="2510" y="1220"/>
                  </a:lnTo>
                  <a:lnTo>
                    <a:pt x="2541" y="1258"/>
                  </a:lnTo>
                  <a:lnTo>
                    <a:pt x="2599" y="1278"/>
                  </a:lnTo>
                  <a:lnTo>
                    <a:pt x="2601" y="1266"/>
                  </a:lnTo>
                  <a:lnTo>
                    <a:pt x="2597" y="1256"/>
                  </a:lnTo>
                  <a:lnTo>
                    <a:pt x="2589" y="1243"/>
                  </a:lnTo>
                  <a:lnTo>
                    <a:pt x="2582" y="1231"/>
                  </a:lnTo>
                  <a:lnTo>
                    <a:pt x="2570" y="1218"/>
                  </a:lnTo>
                  <a:lnTo>
                    <a:pt x="2560" y="1206"/>
                  </a:lnTo>
                  <a:lnTo>
                    <a:pt x="2552" y="1196"/>
                  </a:lnTo>
                  <a:lnTo>
                    <a:pt x="2551" y="1194"/>
                  </a:lnTo>
                  <a:lnTo>
                    <a:pt x="2535" y="1103"/>
                  </a:lnTo>
                  <a:lnTo>
                    <a:pt x="2537" y="1030"/>
                  </a:lnTo>
                  <a:lnTo>
                    <a:pt x="2554" y="971"/>
                  </a:lnTo>
                  <a:lnTo>
                    <a:pt x="2587" y="929"/>
                  </a:lnTo>
                  <a:lnTo>
                    <a:pt x="2630" y="892"/>
                  </a:lnTo>
                  <a:lnTo>
                    <a:pt x="2686" y="863"/>
                  </a:lnTo>
                  <a:lnTo>
                    <a:pt x="2752" y="840"/>
                  </a:lnTo>
                  <a:lnTo>
                    <a:pt x="2830" y="820"/>
                  </a:lnTo>
                  <a:lnTo>
                    <a:pt x="2808" y="902"/>
                  </a:lnTo>
                  <a:lnTo>
                    <a:pt x="2793" y="983"/>
                  </a:lnTo>
                  <a:lnTo>
                    <a:pt x="2779" y="1064"/>
                  </a:lnTo>
                  <a:lnTo>
                    <a:pt x="2774" y="1146"/>
                  </a:lnTo>
                  <a:lnTo>
                    <a:pt x="2770" y="1227"/>
                  </a:lnTo>
                  <a:lnTo>
                    <a:pt x="2772" y="1311"/>
                  </a:lnTo>
                  <a:lnTo>
                    <a:pt x="2781" y="1398"/>
                  </a:lnTo>
                  <a:lnTo>
                    <a:pt x="2799" y="1487"/>
                  </a:lnTo>
                  <a:lnTo>
                    <a:pt x="2810" y="1516"/>
                  </a:lnTo>
                  <a:lnTo>
                    <a:pt x="2836" y="1571"/>
                  </a:lnTo>
                  <a:lnTo>
                    <a:pt x="2865" y="1636"/>
                  </a:lnTo>
                  <a:lnTo>
                    <a:pt x="2892" y="1710"/>
                  </a:lnTo>
                  <a:lnTo>
                    <a:pt x="2903" y="1774"/>
                  </a:lnTo>
                  <a:lnTo>
                    <a:pt x="2900" y="1825"/>
                  </a:lnTo>
                  <a:lnTo>
                    <a:pt x="2869" y="1844"/>
                  </a:lnTo>
                  <a:lnTo>
                    <a:pt x="2805" y="1828"/>
                  </a:lnTo>
                  <a:lnTo>
                    <a:pt x="2766" y="1792"/>
                  </a:lnTo>
                  <a:lnTo>
                    <a:pt x="2737" y="1755"/>
                  </a:lnTo>
                  <a:lnTo>
                    <a:pt x="2713" y="1714"/>
                  </a:lnTo>
                  <a:lnTo>
                    <a:pt x="2698" y="1675"/>
                  </a:lnTo>
                  <a:lnTo>
                    <a:pt x="2684" y="1633"/>
                  </a:lnTo>
                  <a:lnTo>
                    <a:pt x="2673" y="1590"/>
                  </a:lnTo>
                  <a:lnTo>
                    <a:pt x="2663" y="1547"/>
                  </a:lnTo>
                  <a:lnTo>
                    <a:pt x="2655" y="1505"/>
                  </a:lnTo>
                  <a:lnTo>
                    <a:pt x="2646" y="1503"/>
                  </a:lnTo>
                  <a:lnTo>
                    <a:pt x="2638" y="1501"/>
                  </a:lnTo>
                  <a:lnTo>
                    <a:pt x="2626" y="1524"/>
                  </a:lnTo>
                  <a:lnTo>
                    <a:pt x="2622" y="1547"/>
                  </a:lnTo>
                  <a:lnTo>
                    <a:pt x="2620" y="1569"/>
                  </a:lnTo>
                  <a:lnTo>
                    <a:pt x="2622" y="1590"/>
                  </a:lnTo>
                  <a:lnTo>
                    <a:pt x="2622" y="1611"/>
                  </a:lnTo>
                  <a:lnTo>
                    <a:pt x="2626" y="1635"/>
                  </a:lnTo>
                  <a:lnTo>
                    <a:pt x="2628" y="1658"/>
                  </a:lnTo>
                  <a:lnTo>
                    <a:pt x="2630" y="1689"/>
                  </a:lnTo>
                  <a:lnTo>
                    <a:pt x="2599" y="1693"/>
                  </a:lnTo>
                  <a:lnTo>
                    <a:pt x="2576" y="1697"/>
                  </a:lnTo>
                  <a:lnTo>
                    <a:pt x="2556" y="1697"/>
                  </a:lnTo>
                  <a:lnTo>
                    <a:pt x="2539" y="1695"/>
                  </a:lnTo>
                  <a:lnTo>
                    <a:pt x="2521" y="1687"/>
                  </a:lnTo>
                  <a:lnTo>
                    <a:pt x="2504" y="1677"/>
                  </a:lnTo>
                  <a:lnTo>
                    <a:pt x="2485" y="1664"/>
                  </a:lnTo>
                  <a:lnTo>
                    <a:pt x="2467" y="1648"/>
                  </a:lnTo>
                  <a:lnTo>
                    <a:pt x="2417" y="1631"/>
                  </a:lnTo>
                  <a:lnTo>
                    <a:pt x="2372" y="1611"/>
                  </a:lnTo>
                  <a:lnTo>
                    <a:pt x="2326" y="1590"/>
                  </a:lnTo>
                  <a:lnTo>
                    <a:pt x="2285" y="1569"/>
                  </a:lnTo>
                  <a:lnTo>
                    <a:pt x="2244" y="1541"/>
                  </a:lnTo>
                  <a:lnTo>
                    <a:pt x="2203" y="1516"/>
                  </a:lnTo>
                  <a:lnTo>
                    <a:pt x="2165" y="1491"/>
                  </a:lnTo>
                  <a:lnTo>
                    <a:pt x="2128" y="1466"/>
                  </a:lnTo>
                  <a:lnTo>
                    <a:pt x="2128" y="1452"/>
                  </a:lnTo>
                  <a:lnTo>
                    <a:pt x="2128" y="1441"/>
                  </a:lnTo>
                  <a:lnTo>
                    <a:pt x="2128" y="1429"/>
                  </a:lnTo>
                  <a:lnTo>
                    <a:pt x="2128" y="1417"/>
                  </a:lnTo>
                  <a:lnTo>
                    <a:pt x="2153" y="1377"/>
                  </a:lnTo>
                  <a:lnTo>
                    <a:pt x="2172" y="1340"/>
                  </a:lnTo>
                  <a:lnTo>
                    <a:pt x="2186" y="1305"/>
                  </a:lnTo>
                  <a:lnTo>
                    <a:pt x="2196" y="1270"/>
                  </a:lnTo>
                  <a:lnTo>
                    <a:pt x="2199" y="1231"/>
                  </a:lnTo>
                  <a:lnTo>
                    <a:pt x="2201" y="1194"/>
                  </a:lnTo>
                  <a:lnTo>
                    <a:pt x="2203" y="1154"/>
                  </a:lnTo>
                  <a:lnTo>
                    <a:pt x="2205" y="1113"/>
                  </a:lnTo>
                  <a:lnTo>
                    <a:pt x="2201" y="1107"/>
                  </a:lnTo>
                  <a:lnTo>
                    <a:pt x="2198" y="1107"/>
                  </a:lnTo>
                  <a:lnTo>
                    <a:pt x="2186" y="1127"/>
                  </a:lnTo>
                  <a:lnTo>
                    <a:pt x="2176" y="1152"/>
                  </a:lnTo>
                  <a:lnTo>
                    <a:pt x="2168" y="1183"/>
                  </a:lnTo>
                  <a:lnTo>
                    <a:pt x="2163" y="1216"/>
                  </a:lnTo>
                  <a:lnTo>
                    <a:pt x="2155" y="1245"/>
                  </a:lnTo>
                  <a:lnTo>
                    <a:pt x="2147" y="1274"/>
                  </a:lnTo>
                  <a:lnTo>
                    <a:pt x="2137" y="1293"/>
                  </a:lnTo>
                  <a:lnTo>
                    <a:pt x="2128" y="1309"/>
                  </a:lnTo>
                  <a:lnTo>
                    <a:pt x="2130" y="1262"/>
                  </a:lnTo>
                  <a:lnTo>
                    <a:pt x="2134" y="1220"/>
                  </a:lnTo>
                  <a:lnTo>
                    <a:pt x="2135" y="1175"/>
                  </a:lnTo>
                  <a:lnTo>
                    <a:pt x="2141" y="1134"/>
                  </a:lnTo>
                  <a:lnTo>
                    <a:pt x="2143" y="1092"/>
                  </a:lnTo>
                  <a:lnTo>
                    <a:pt x="2145" y="1049"/>
                  </a:lnTo>
                  <a:lnTo>
                    <a:pt x="2147" y="1008"/>
                  </a:lnTo>
                  <a:lnTo>
                    <a:pt x="2149" y="968"/>
                  </a:lnTo>
                  <a:lnTo>
                    <a:pt x="2143" y="964"/>
                  </a:lnTo>
                  <a:lnTo>
                    <a:pt x="2132" y="964"/>
                  </a:lnTo>
                  <a:lnTo>
                    <a:pt x="2095" y="1076"/>
                  </a:lnTo>
                  <a:lnTo>
                    <a:pt x="2071" y="1198"/>
                  </a:lnTo>
                  <a:lnTo>
                    <a:pt x="2060" y="1324"/>
                  </a:lnTo>
                  <a:lnTo>
                    <a:pt x="2062" y="1454"/>
                  </a:lnTo>
                  <a:lnTo>
                    <a:pt x="2077" y="1580"/>
                  </a:lnTo>
                  <a:lnTo>
                    <a:pt x="2110" y="1702"/>
                  </a:lnTo>
                  <a:lnTo>
                    <a:pt x="2159" y="1819"/>
                  </a:lnTo>
                  <a:lnTo>
                    <a:pt x="2229" y="1927"/>
                  </a:lnTo>
                  <a:lnTo>
                    <a:pt x="2242" y="1991"/>
                  </a:lnTo>
                  <a:lnTo>
                    <a:pt x="2252" y="2053"/>
                  </a:lnTo>
                  <a:lnTo>
                    <a:pt x="2262" y="2112"/>
                  </a:lnTo>
                  <a:lnTo>
                    <a:pt x="2271" y="2170"/>
                  </a:lnTo>
                  <a:lnTo>
                    <a:pt x="2283" y="2226"/>
                  </a:lnTo>
                  <a:lnTo>
                    <a:pt x="2300" y="2286"/>
                  </a:lnTo>
                  <a:lnTo>
                    <a:pt x="2324" y="2348"/>
                  </a:lnTo>
                  <a:lnTo>
                    <a:pt x="2359" y="2416"/>
                  </a:lnTo>
                  <a:lnTo>
                    <a:pt x="2391" y="2464"/>
                  </a:lnTo>
                  <a:lnTo>
                    <a:pt x="2419" y="2503"/>
                  </a:lnTo>
                  <a:lnTo>
                    <a:pt x="2436" y="2530"/>
                  </a:lnTo>
                  <a:lnTo>
                    <a:pt x="2450" y="2552"/>
                  </a:lnTo>
                  <a:lnTo>
                    <a:pt x="2455" y="2563"/>
                  </a:lnTo>
                  <a:lnTo>
                    <a:pt x="2461" y="2571"/>
                  </a:lnTo>
                  <a:lnTo>
                    <a:pt x="2463" y="2577"/>
                  </a:lnTo>
                  <a:lnTo>
                    <a:pt x="2467" y="2583"/>
                  </a:lnTo>
                  <a:lnTo>
                    <a:pt x="2455" y="2581"/>
                  </a:lnTo>
                  <a:lnTo>
                    <a:pt x="2446" y="2579"/>
                  </a:lnTo>
                  <a:lnTo>
                    <a:pt x="2432" y="2577"/>
                  </a:lnTo>
                  <a:lnTo>
                    <a:pt x="2419" y="2577"/>
                  </a:lnTo>
                  <a:lnTo>
                    <a:pt x="2399" y="2573"/>
                  </a:lnTo>
                  <a:lnTo>
                    <a:pt x="2380" y="2571"/>
                  </a:lnTo>
                  <a:lnTo>
                    <a:pt x="2355" y="2569"/>
                  </a:lnTo>
                  <a:lnTo>
                    <a:pt x="2327" y="2569"/>
                  </a:lnTo>
                  <a:lnTo>
                    <a:pt x="2374" y="2585"/>
                  </a:lnTo>
                  <a:lnTo>
                    <a:pt x="2436" y="2606"/>
                  </a:lnTo>
                  <a:lnTo>
                    <a:pt x="2504" y="2635"/>
                  </a:lnTo>
                  <a:lnTo>
                    <a:pt x="2576" y="2672"/>
                  </a:lnTo>
                  <a:lnTo>
                    <a:pt x="2640" y="2713"/>
                  </a:lnTo>
                  <a:lnTo>
                    <a:pt x="2692" y="2761"/>
                  </a:lnTo>
                  <a:lnTo>
                    <a:pt x="2725" y="2815"/>
                  </a:lnTo>
                  <a:lnTo>
                    <a:pt x="2735" y="2879"/>
                  </a:lnTo>
                  <a:lnTo>
                    <a:pt x="2727" y="2879"/>
                  </a:lnTo>
                  <a:lnTo>
                    <a:pt x="2721" y="2879"/>
                  </a:lnTo>
                  <a:lnTo>
                    <a:pt x="2675" y="2856"/>
                  </a:lnTo>
                  <a:lnTo>
                    <a:pt x="2630" y="2843"/>
                  </a:lnTo>
                  <a:lnTo>
                    <a:pt x="2583" y="2833"/>
                  </a:lnTo>
                  <a:lnTo>
                    <a:pt x="2541" y="2831"/>
                  </a:lnTo>
                  <a:lnTo>
                    <a:pt x="2496" y="2829"/>
                  </a:lnTo>
                  <a:lnTo>
                    <a:pt x="2452" y="2833"/>
                  </a:lnTo>
                  <a:lnTo>
                    <a:pt x="2407" y="2835"/>
                  </a:lnTo>
                  <a:lnTo>
                    <a:pt x="2362" y="2841"/>
                  </a:lnTo>
                  <a:lnTo>
                    <a:pt x="2353" y="2846"/>
                  </a:lnTo>
                  <a:lnTo>
                    <a:pt x="2345" y="2858"/>
                  </a:lnTo>
                  <a:lnTo>
                    <a:pt x="2359" y="2864"/>
                  </a:lnTo>
                  <a:lnTo>
                    <a:pt x="2382" y="2870"/>
                  </a:lnTo>
                  <a:lnTo>
                    <a:pt x="2413" y="2874"/>
                  </a:lnTo>
                  <a:lnTo>
                    <a:pt x="2450" y="2877"/>
                  </a:lnTo>
                  <a:lnTo>
                    <a:pt x="2485" y="2877"/>
                  </a:lnTo>
                  <a:lnTo>
                    <a:pt x="2521" y="2877"/>
                  </a:lnTo>
                  <a:lnTo>
                    <a:pt x="2552" y="2877"/>
                  </a:lnTo>
                  <a:lnTo>
                    <a:pt x="2578" y="2879"/>
                  </a:lnTo>
                  <a:lnTo>
                    <a:pt x="2640" y="2901"/>
                  </a:lnTo>
                  <a:lnTo>
                    <a:pt x="2717" y="2939"/>
                  </a:lnTo>
                  <a:lnTo>
                    <a:pt x="2797" y="2990"/>
                  </a:lnTo>
                  <a:lnTo>
                    <a:pt x="2872" y="3054"/>
                  </a:lnTo>
                  <a:lnTo>
                    <a:pt x="2927" y="3120"/>
                  </a:lnTo>
                  <a:lnTo>
                    <a:pt x="2952" y="3192"/>
                  </a:lnTo>
                  <a:lnTo>
                    <a:pt x="2938" y="3261"/>
                  </a:lnTo>
                  <a:lnTo>
                    <a:pt x="2874" y="3329"/>
                  </a:lnTo>
                  <a:lnTo>
                    <a:pt x="2863" y="3329"/>
                  </a:lnTo>
                  <a:lnTo>
                    <a:pt x="2853" y="3329"/>
                  </a:lnTo>
                  <a:lnTo>
                    <a:pt x="2841" y="3329"/>
                  </a:lnTo>
                  <a:lnTo>
                    <a:pt x="2832" y="3331"/>
                  </a:lnTo>
                  <a:lnTo>
                    <a:pt x="2820" y="3331"/>
                  </a:lnTo>
                  <a:lnTo>
                    <a:pt x="2808" y="3331"/>
                  </a:lnTo>
                  <a:lnTo>
                    <a:pt x="2799" y="3331"/>
                  </a:lnTo>
                  <a:lnTo>
                    <a:pt x="2791" y="3333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reeform 19"/>
            <p:cNvSpPr/>
            <p:nvPr/>
          </p:nvSpPr>
          <p:spPr>
            <a:xfrm>
              <a:off x="7361280" y="6108480"/>
              <a:ext cx="38520" cy="345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84" h="52">
                  <a:moveTo>
                    <a:pt x="18" y="52"/>
                  </a:moveTo>
                  <a:lnTo>
                    <a:pt x="8" y="39"/>
                  </a:lnTo>
                  <a:lnTo>
                    <a:pt x="2" y="31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6" y="15"/>
                  </a:lnTo>
                  <a:lnTo>
                    <a:pt x="18" y="14"/>
                  </a:lnTo>
                  <a:lnTo>
                    <a:pt x="28" y="10"/>
                  </a:lnTo>
                  <a:lnTo>
                    <a:pt x="39" y="8"/>
                  </a:lnTo>
                  <a:lnTo>
                    <a:pt x="49" y="4"/>
                  </a:lnTo>
                  <a:lnTo>
                    <a:pt x="59" y="2"/>
                  </a:lnTo>
                  <a:lnTo>
                    <a:pt x="66" y="0"/>
                  </a:lnTo>
                  <a:lnTo>
                    <a:pt x="74" y="0"/>
                  </a:lnTo>
                  <a:lnTo>
                    <a:pt x="78" y="2"/>
                  </a:lnTo>
                  <a:lnTo>
                    <a:pt x="84" y="8"/>
                  </a:lnTo>
                  <a:lnTo>
                    <a:pt x="62" y="21"/>
                  </a:lnTo>
                  <a:lnTo>
                    <a:pt x="47" y="33"/>
                  </a:lnTo>
                  <a:lnTo>
                    <a:pt x="33" y="41"/>
                  </a:lnTo>
                  <a:lnTo>
                    <a:pt x="28" y="48"/>
                  </a:lnTo>
                  <a:lnTo>
                    <a:pt x="20" y="52"/>
                  </a:lnTo>
                  <a:lnTo>
                    <a:pt x="18" y="52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reeform 20"/>
            <p:cNvSpPr/>
            <p:nvPr/>
          </p:nvSpPr>
          <p:spPr>
            <a:xfrm>
              <a:off x="7509960" y="6045480"/>
              <a:ext cx="169560" cy="7956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358" h="124">
                  <a:moveTo>
                    <a:pt x="219" y="124"/>
                  </a:moveTo>
                  <a:lnTo>
                    <a:pt x="190" y="118"/>
                  </a:lnTo>
                  <a:lnTo>
                    <a:pt x="157" y="113"/>
                  </a:lnTo>
                  <a:lnTo>
                    <a:pt x="118" y="101"/>
                  </a:lnTo>
                  <a:lnTo>
                    <a:pt x="81" y="91"/>
                  </a:lnTo>
                  <a:lnTo>
                    <a:pt x="46" y="74"/>
                  </a:lnTo>
                  <a:lnTo>
                    <a:pt x="19" y="56"/>
                  </a:lnTo>
                  <a:lnTo>
                    <a:pt x="2" y="35"/>
                  </a:lnTo>
                  <a:lnTo>
                    <a:pt x="0" y="12"/>
                  </a:lnTo>
                  <a:lnTo>
                    <a:pt x="44" y="2"/>
                  </a:lnTo>
                  <a:lnTo>
                    <a:pt x="91" y="0"/>
                  </a:lnTo>
                  <a:lnTo>
                    <a:pt x="137" y="0"/>
                  </a:lnTo>
                  <a:lnTo>
                    <a:pt x="188" y="6"/>
                  </a:lnTo>
                  <a:lnTo>
                    <a:pt x="232" y="16"/>
                  </a:lnTo>
                  <a:lnTo>
                    <a:pt x="279" y="35"/>
                  </a:lnTo>
                  <a:lnTo>
                    <a:pt x="320" y="58"/>
                  </a:lnTo>
                  <a:lnTo>
                    <a:pt x="358" y="93"/>
                  </a:lnTo>
                  <a:lnTo>
                    <a:pt x="345" y="103"/>
                  </a:lnTo>
                  <a:lnTo>
                    <a:pt x="327" y="111"/>
                  </a:lnTo>
                  <a:lnTo>
                    <a:pt x="306" y="114"/>
                  </a:lnTo>
                  <a:lnTo>
                    <a:pt x="287" y="120"/>
                  </a:lnTo>
                  <a:lnTo>
                    <a:pt x="263" y="120"/>
                  </a:lnTo>
                  <a:lnTo>
                    <a:pt x="244" y="122"/>
                  </a:lnTo>
                  <a:lnTo>
                    <a:pt x="228" y="122"/>
                  </a:lnTo>
                  <a:lnTo>
                    <a:pt x="219" y="12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Freeform 21"/>
            <p:cNvSpPr/>
            <p:nvPr/>
          </p:nvSpPr>
          <p:spPr>
            <a:xfrm>
              <a:off x="6792480" y="5999400"/>
              <a:ext cx="205200" cy="75600"/>
            </a:xfrm>
            <a:custGeom>
              <a:avLst/>
              <a:gdLst>
                <a:gd name="textAreaLeft" fmla="*/ 0 w 205200"/>
                <a:gd name="textAreaRight" fmla="*/ 205560 w 2052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432" h="119">
                  <a:moveTo>
                    <a:pt x="157" y="119"/>
                  </a:moveTo>
                  <a:lnTo>
                    <a:pt x="130" y="113"/>
                  </a:lnTo>
                  <a:lnTo>
                    <a:pt x="107" y="109"/>
                  </a:lnTo>
                  <a:lnTo>
                    <a:pt x="81" y="101"/>
                  </a:lnTo>
                  <a:lnTo>
                    <a:pt x="58" y="95"/>
                  </a:lnTo>
                  <a:lnTo>
                    <a:pt x="35" y="86"/>
                  </a:lnTo>
                  <a:lnTo>
                    <a:pt x="19" y="74"/>
                  </a:lnTo>
                  <a:lnTo>
                    <a:pt x="6" y="59"/>
                  </a:lnTo>
                  <a:lnTo>
                    <a:pt x="0" y="43"/>
                  </a:lnTo>
                  <a:lnTo>
                    <a:pt x="54" y="24"/>
                  </a:lnTo>
                  <a:lnTo>
                    <a:pt x="109" y="12"/>
                  </a:lnTo>
                  <a:lnTo>
                    <a:pt x="159" y="4"/>
                  </a:lnTo>
                  <a:lnTo>
                    <a:pt x="211" y="2"/>
                  </a:lnTo>
                  <a:lnTo>
                    <a:pt x="262" y="0"/>
                  </a:lnTo>
                  <a:lnTo>
                    <a:pt x="316" y="2"/>
                  </a:lnTo>
                  <a:lnTo>
                    <a:pt x="370" y="6"/>
                  </a:lnTo>
                  <a:lnTo>
                    <a:pt x="432" y="14"/>
                  </a:lnTo>
                  <a:lnTo>
                    <a:pt x="409" y="43"/>
                  </a:lnTo>
                  <a:lnTo>
                    <a:pt x="380" y="68"/>
                  </a:lnTo>
                  <a:lnTo>
                    <a:pt x="345" y="88"/>
                  </a:lnTo>
                  <a:lnTo>
                    <a:pt x="308" y="101"/>
                  </a:lnTo>
                  <a:lnTo>
                    <a:pt x="268" y="107"/>
                  </a:lnTo>
                  <a:lnTo>
                    <a:pt x="229" y="115"/>
                  </a:lnTo>
                  <a:lnTo>
                    <a:pt x="190" y="117"/>
                  </a:lnTo>
                  <a:lnTo>
                    <a:pt x="157" y="11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Freeform 22"/>
            <p:cNvSpPr/>
            <p:nvPr/>
          </p:nvSpPr>
          <p:spPr>
            <a:xfrm>
              <a:off x="7181640" y="5849280"/>
              <a:ext cx="340920" cy="95760"/>
            </a:xfrm>
            <a:custGeom>
              <a:avLst/>
              <a:gdLst>
                <a:gd name="textAreaLeft" fmla="*/ 0 w 340920"/>
                <a:gd name="textAreaRight" fmla="*/ 340920 w 34092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722" h="151">
                  <a:moveTo>
                    <a:pt x="97" y="151"/>
                  </a:moveTo>
                  <a:lnTo>
                    <a:pt x="78" y="147"/>
                  </a:lnTo>
                  <a:lnTo>
                    <a:pt x="66" y="145"/>
                  </a:lnTo>
                  <a:lnTo>
                    <a:pt x="57" y="143"/>
                  </a:lnTo>
                  <a:lnTo>
                    <a:pt x="49" y="141"/>
                  </a:lnTo>
                  <a:lnTo>
                    <a:pt x="37" y="137"/>
                  </a:lnTo>
                  <a:lnTo>
                    <a:pt x="27" y="134"/>
                  </a:lnTo>
                  <a:lnTo>
                    <a:pt x="14" y="130"/>
                  </a:lnTo>
                  <a:lnTo>
                    <a:pt x="0" y="126"/>
                  </a:lnTo>
                  <a:lnTo>
                    <a:pt x="4" y="112"/>
                  </a:lnTo>
                  <a:lnTo>
                    <a:pt x="24" y="104"/>
                  </a:lnTo>
                  <a:lnTo>
                    <a:pt x="51" y="101"/>
                  </a:lnTo>
                  <a:lnTo>
                    <a:pt x="84" y="102"/>
                  </a:lnTo>
                  <a:lnTo>
                    <a:pt x="121" y="102"/>
                  </a:lnTo>
                  <a:lnTo>
                    <a:pt x="157" y="102"/>
                  </a:lnTo>
                  <a:lnTo>
                    <a:pt x="190" y="102"/>
                  </a:lnTo>
                  <a:lnTo>
                    <a:pt x="219" y="102"/>
                  </a:lnTo>
                  <a:lnTo>
                    <a:pt x="282" y="75"/>
                  </a:lnTo>
                  <a:lnTo>
                    <a:pt x="342" y="54"/>
                  </a:lnTo>
                  <a:lnTo>
                    <a:pt x="396" y="35"/>
                  </a:lnTo>
                  <a:lnTo>
                    <a:pt x="454" y="21"/>
                  </a:lnTo>
                  <a:lnTo>
                    <a:pt x="508" y="9"/>
                  </a:lnTo>
                  <a:lnTo>
                    <a:pt x="570" y="4"/>
                  </a:lnTo>
                  <a:lnTo>
                    <a:pt x="636" y="0"/>
                  </a:lnTo>
                  <a:lnTo>
                    <a:pt x="712" y="4"/>
                  </a:lnTo>
                  <a:lnTo>
                    <a:pt x="714" y="7"/>
                  </a:lnTo>
                  <a:lnTo>
                    <a:pt x="718" y="11"/>
                  </a:lnTo>
                  <a:lnTo>
                    <a:pt x="720" y="19"/>
                  </a:lnTo>
                  <a:lnTo>
                    <a:pt x="722" y="33"/>
                  </a:lnTo>
                  <a:lnTo>
                    <a:pt x="700" y="44"/>
                  </a:lnTo>
                  <a:lnTo>
                    <a:pt x="681" y="50"/>
                  </a:lnTo>
                  <a:lnTo>
                    <a:pt x="660" y="54"/>
                  </a:lnTo>
                  <a:lnTo>
                    <a:pt x="638" y="56"/>
                  </a:lnTo>
                  <a:lnTo>
                    <a:pt x="615" y="52"/>
                  </a:lnTo>
                  <a:lnTo>
                    <a:pt x="594" y="50"/>
                  </a:lnTo>
                  <a:lnTo>
                    <a:pt x="572" y="46"/>
                  </a:lnTo>
                  <a:lnTo>
                    <a:pt x="555" y="46"/>
                  </a:lnTo>
                  <a:lnTo>
                    <a:pt x="493" y="54"/>
                  </a:lnTo>
                  <a:lnTo>
                    <a:pt x="437" y="70"/>
                  </a:lnTo>
                  <a:lnTo>
                    <a:pt x="378" y="87"/>
                  </a:lnTo>
                  <a:lnTo>
                    <a:pt x="324" y="106"/>
                  </a:lnTo>
                  <a:lnTo>
                    <a:pt x="266" y="122"/>
                  </a:lnTo>
                  <a:lnTo>
                    <a:pt x="210" y="137"/>
                  </a:lnTo>
                  <a:lnTo>
                    <a:pt x="154" y="147"/>
                  </a:lnTo>
                  <a:lnTo>
                    <a:pt x="97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Freeform 23"/>
            <p:cNvSpPr/>
            <p:nvPr/>
          </p:nvSpPr>
          <p:spPr>
            <a:xfrm>
              <a:off x="7261920" y="5786280"/>
              <a:ext cx="256320" cy="9504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41" h="147">
                  <a:moveTo>
                    <a:pt x="0" y="147"/>
                  </a:moveTo>
                  <a:lnTo>
                    <a:pt x="27" y="110"/>
                  </a:lnTo>
                  <a:lnTo>
                    <a:pt x="93" y="73"/>
                  </a:lnTo>
                  <a:lnTo>
                    <a:pt x="182" y="40"/>
                  </a:lnTo>
                  <a:lnTo>
                    <a:pt x="285" y="15"/>
                  </a:lnTo>
                  <a:lnTo>
                    <a:pt x="382" y="0"/>
                  </a:lnTo>
                  <a:lnTo>
                    <a:pt x="467" y="2"/>
                  </a:lnTo>
                  <a:lnTo>
                    <a:pt x="524" y="21"/>
                  </a:lnTo>
                  <a:lnTo>
                    <a:pt x="541" y="70"/>
                  </a:lnTo>
                  <a:lnTo>
                    <a:pt x="539" y="70"/>
                  </a:lnTo>
                  <a:lnTo>
                    <a:pt x="537" y="73"/>
                  </a:lnTo>
                  <a:lnTo>
                    <a:pt x="460" y="46"/>
                  </a:lnTo>
                  <a:lnTo>
                    <a:pt x="390" y="40"/>
                  </a:lnTo>
                  <a:lnTo>
                    <a:pt x="324" y="46"/>
                  </a:lnTo>
                  <a:lnTo>
                    <a:pt x="260" y="66"/>
                  </a:lnTo>
                  <a:lnTo>
                    <a:pt x="196" y="87"/>
                  </a:lnTo>
                  <a:lnTo>
                    <a:pt x="132" y="112"/>
                  </a:lnTo>
                  <a:lnTo>
                    <a:pt x="66" y="132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reeform 24"/>
            <p:cNvSpPr/>
            <p:nvPr/>
          </p:nvSpPr>
          <p:spPr>
            <a:xfrm>
              <a:off x="6518880" y="4923000"/>
              <a:ext cx="119880" cy="32040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254" h="500">
                  <a:moveTo>
                    <a:pt x="184" y="500"/>
                  </a:moveTo>
                  <a:lnTo>
                    <a:pt x="138" y="440"/>
                  </a:lnTo>
                  <a:lnTo>
                    <a:pt x="103" y="382"/>
                  </a:lnTo>
                  <a:lnTo>
                    <a:pt x="74" y="320"/>
                  </a:lnTo>
                  <a:lnTo>
                    <a:pt x="54" y="260"/>
                  </a:lnTo>
                  <a:lnTo>
                    <a:pt x="35" y="196"/>
                  </a:lnTo>
                  <a:lnTo>
                    <a:pt x="23" y="132"/>
                  </a:lnTo>
                  <a:lnTo>
                    <a:pt x="12" y="66"/>
                  </a:lnTo>
                  <a:lnTo>
                    <a:pt x="0" y="0"/>
                  </a:lnTo>
                  <a:lnTo>
                    <a:pt x="18" y="0"/>
                  </a:lnTo>
                  <a:lnTo>
                    <a:pt x="43" y="6"/>
                  </a:lnTo>
                  <a:lnTo>
                    <a:pt x="72" y="12"/>
                  </a:lnTo>
                  <a:lnTo>
                    <a:pt x="107" y="21"/>
                  </a:lnTo>
                  <a:lnTo>
                    <a:pt x="140" y="29"/>
                  </a:lnTo>
                  <a:lnTo>
                    <a:pt x="173" y="39"/>
                  </a:lnTo>
                  <a:lnTo>
                    <a:pt x="202" y="47"/>
                  </a:lnTo>
                  <a:lnTo>
                    <a:pt x="227" y="56"/>
                  </a:lnTo>
                  <a:lnTo>
                    <a:pt x="233" y="80"/>
                  </a:lnTo>
                  <a:lnTo>
                    <a:pt x="242" y="132"/>
                  </a:lnTo>
                  <a:lnTo>
                    <a:pt x="250" y="200"/>
                  </a:lnTo>
                  <a:lnTo>
                    <a:pt x="254" y="281"/>
                  </a:lnTo>
                  <a:lnTo>
                    <a:pt x="250" y="359"/>
                  </a:lnTo>
                  <a:lnTo>
                    <a:pt x="241" y="429"/>
                  </a:lnTo>
                  <a:lnTo>
                    <a:pt x="219" y="477"/>
                  </a:lnTo>
                  <a:lnTo>
                    <a:pt x="184" y="50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reeform 25"/>
            <p:cNvSpPr/>
            <p:nvPr/>
          </p:nvSpPr>
          <p:spPr>
            <a:xfrm>
              <a:off x="7897320" y="4835880"/>
              <a:ext cx="33840" cy="2984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72" h="468">
                  <a:moveTo>
                    <a:pt x="23" y="468"/>
                  </a:moveTo>
                  <a:lnTo>
                    <a:pt x="6" y="435"/>
                  </a:lnTo>
                  <a:lnTo>
                    <a:pt x="0" y="382"/>
                  </a:lnTo>
                  <a:lnTo>
                    <a:pt x="0" y="313"/>
                  </a:lnTo>
                  <a:lnTo>
                    <a:pt x="8" y="239"/>
                  </a:lnTo>
                  <a:lnTo>
                    <a:pt x="16" y="161"/>
                  </a:lnTo>
                  <a:lnTo>
                    <a:pt x="27" y="94"/>
                  </a:lnTo>
                  <a:lnTo>
                    <a:pt x="37" y="39"/>
                  </a:lnTo>
                  <a:lnTo>
                    <a:pt x="47" y="8"/>
                  </a:lnTo>
                  <a:lnTo>
                    <a:pt x="58" y="4"/>
                  </a:lnTo>
                  <a:lnTo>
                    <a:pt x="72" y="0"/>
                  </a:lnTo>
                  <a:lnTo>
                    <a:pt x="70" y="24"/>
                  </a:lnTo>
                  <a:lnTo>
                    <a:pt x="68" y="82"/>
                  </a:lnTo>
                  <a:lnTo>
                    <a:pt x="64" y="159"/>
                  </a:lnTo>
                  <a:lnTo>
                    <a:pt x="60" y="249"/>
                  </a:lnTo>
                  <a:lnTo>
                    <a:pt x="52" y="332"/>
                  </a:lnTo>
                  <a:lnTo>
                    <a:pt x="45" y="406"/>
                  </a:lnTo>
                  <a:lnTo>
                    <a:pt x="33" y="454"/>
                  </a:lnTo>
                  <a:lnTo>
                    <a:pt x="23" y="468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Freeform 26"/>
            <p:cNvSpPr/>
            <p:nvPr/>
          </p:nvSpPr>
          <p:spPr>
            <a:xfrm>
              <a:off x="7846200" y="4849920"/>
              <a:ext cx="43560" cy="21672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216720"/>
                <a:gd name="textAreaBottom" fmla="*/ 217080 h 216720"/>
              </a:gdLst>
              <a:ahLst/>
              <a:rect l="textAreaLeft" t="textAreaTop" r="textAreaRight" b="textAreaBottom"/>
              <a:pathLst>
                <a:path w="94" h="337">
                  <a:moveTo>
                    <a:pt x="76" y="333"/>
                  </a:moveTo>
                  <a:lnTo>
                    <a:pt x="61" y="294"/>
                  </a:lnTo>
                  <a:lnTo>
                    <a:pt x="45" y="258"/>
                  </a:lnTo>
                  <a:lnTo>
                    <a:pt x="30" y="217"/>
                  </a:lnTo>
                  <a:lnTo>
                    <a:pt x="20" y="178"/>
                  </a:lnTo>
                  <a:lnTo>
                    <a:pt x="8" y="137"/>
                  </a:lnTo>
                  <a:lnTo>
                    <a:pt x="2" y="99"/>
                  </a:lnTo>
                  <a:lnTo>
                    <a:pt x="0" y="60"/>
                  </a:lnTo>
                  <a:lnTo>
                    <a:pt x="6" y="25"/>
                  </a:lnTo>
                  <a:lnTo>
                    <a:pt x="12" y="19"/>
                  </a:lnTo>
                  <a:lnTo>
                    <a:pt x="22" y="15"/>
                  </a:lnTo>
                  <a:lnTo>
                    <a:pt x="31" y="11"/>
                  </a:lnTo>
                  <a:lnTo>
                    <a:pt x="43" y="7"/>
                  </a:lnTo>
                  <a:lnTo>
                    <a:pt x="55" y="2"/>
                  </a:lnTo>
                  <a:lnTo>
                    <a:pt x="68" y="2"/>
                  </a:lnTo>
                  <a:lnTo>
                    <a:pt x="80" y="0"/>
                  </a:lnTo>
                  <a:lnTo>
                    <a:pt x="94" y="2"/>
                  </a:lnTo>
                  <a:lnTo>
                    <a:pt x="92" y="42"/>
                  </a:lnTo>
                  <a:lnTo>
                    <a:pt x="92" y="83"/>
                  </a:lnTo>
                  <a:lnTo>
                    <a:pt x="92" y="124"/>
                  </a:lnTo>
                  <a:lnTo>
                    <a:pt x="92" y="166"/>
                  </a:lnTo>
                  <a:lnTo>
                    <a:pt x="90" y="207"/>
                  </a:lnTo>
                  <a:lnTo>
                    <a:pt x="90" y="250"/>
                  </a:lnTo>
                  <a:lnTo>
                    <a:pt x="88" y="291"/>
                  </a:lnTo>
                  <a:lnTo>
                    <a:pt x="86" y="333"/>
                  </a:lnTo>
                  <a:lnTo>
                    <a:pt x="80" y="337"/>
                  </a:lnTo>
                  <a:lnTo>
                    <a:pt x="76" y="333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Freeform 27"/>
            <p:cNvSpPr/>
            <p:nvPr/>
          </p:nvSpPr>
          <p:spPr>
            <a:xfrm>
              <a:off x="6491520" y="4899960"/>
              <a:ext cx="14040" cy="1062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9" h="165">
                  <a:moveTo>
                    <a:pt x="13" y="165"/>
                  </a:moveTo>
                  <a:lnTo>
                    <a:pt x="8" y="132"/>
                  </a:lnTo>
                  <a:lnTo>
                    <a:pt x="4" y="107"/>
                  </a:lnTo>
                  <a:lnTo>
                    <a:pt x="0" y="88"/>
                  </a:lnTo>
                  <a:lnTo>
                    <a:pt x="0" y="72"/>
                  </a:lnTo>
                  <a:lnTo>
                    <a:pt x="0" y="56"/>
                  </a:lnTo>
                  <a:lnTo>
                    <a:pt x="0" y="41"/>
                  </a:lnTo>
                  <a:lnTo>
                    <a:pt x="0" y="22"/>
                  </a:lnTo>
                  <a:lnTo>
                    <a:pt x="0" y="0"/>
                  </a:lnTo>
                  <a:lnTo>
                    <a:pt x="8" y="4"/>
                  </a:lnTo>
                  <a:lnTo>
                    <a:pt x="21" y="8"/>
                  </a:lnTo>
                  <a:lnTo>
                    <a:pt x="23" y="49"/>
                  </a:lnTo>
                  <a:lnTo>
                    <a:pt x="25" y="80"/>
                  </a:lnTo>
                  <a:lnTo>
                    <a:pt x="27" y="101"/>
                  </a:lnTo>
                  <a:lnTo>
                    <a:pt x="29" y="119"/>
                  </a:lnTo>
                  <a:lnTo>
                    <a:pt x="27" y="126"/>
                  </a:lnTo>
                  <a:lnTo>
                    <a:pt x="27" y="132"/>
                  </a:lnTo>
                  <a:lnTo>
                    <a:pt x="25" y="136"/>
                  </a:lnTo>
                  <a:lnTo>
                    <a:pt x="25" y="140"/>
                  </a:lnTo>
                  <a:lnTo>
                    <a:pt x="19" y="152"/>
                  </a:lnTo>
                  <a:lnTo>
                    <a:pt x="17" y="157"/>
                  </a:lnTo>
                  <a:lnTo>
                    <a:pt x="15" y="161"/>
                  </a:lnTo>
                  <a:lnTo>
                    <a:pt x="13" y="165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28"/>
            <p:cNvSpPr/>
            <p:nvPr/>
          </p:nvSpPr>
          <p:spPr>
            <a:xfrm>
              <a:off x="6953400" y="3973680"/>
              <a:ext cx="440640" cy="990360"/>
            </a:xfrm>
            <a:custGeom>
              <a:avLst/>
              <a:gdLst>
                <a:gd name="textAreaLeft" fmla="*/ 0 w 440640"/>
                <a:gd name="textAreaRight" fmla="*/ 441000 w 440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31" h="1543">
                  <a:moveTo>
                    <a:pt x="254" y="1543"/>
                  </a:moveTo>
                  <a:lnTo>
                    <a:pt x="167" y="1373"/>
                  </a:lnTo>
                  <a:lnTo>
                    <a:pt x="101" y="1204"/>
                  </a:lnTo>
                  <a:lnTo>
                    <a:pt x="49" y="1029"/>
                  </a:lnTo>
                  <a:lnTo>
                    <a:pt x="18" y="857"/>
                  </a:lnTo>
                  <a:lnTo>
                    <a:pt x="0" y="680"/>
                  </a:lnTo>
                  <a:lnTo>
                    <a:pt x="0" y="502"/>
                  </a:lnTo>
                  <a:lnTo>
                    <a:pt x="14" y="322"/>
                  </a:lnTo>
                  <a:lnTo>
                    <a:pt x="45" y="143"/>
                  </a:lnTo>
                  <a:lnTo>
                    <a:pt x="59" y="124"/>
                  </a:lnTo>
                  <a:lnTo>
                    <a:pt x="76" y="104"/>
                  </a:lnTo>
                  <a:lnTo>
                    <a:pt x="93" y="87"/>
                  </a:lnTo>
                  <a:lnTo>
                    <a:pt x="117" y="71"/>
                  </a:lnTo>
                  <a:lnTo>
                    <a:pt x="136" y="56"/>
                  </a:lnTo>
                  <a:lnTo>
                    <a:pt x="159" y="44"/>
                  </a:lnTo>
                  <a:lnTo>
                    <a:pt x="181" y="35"/>
                  </a:lnTo>
                  <a:lnTo>
                    <a:pt x="202" y="31"/>
                  </a:lnTo>
                  <a:lnTo>
                    <a:pt x="192" y="54"/>
                  </a:lnTo>
                  <a:lnTo>
                    <a:pt x="183" y="77"/>
                  </a:lnTo>
                  <a:lnTo>
                    <a:pt x="171" y="102"/>
                  </a:lnTo>
                  <a:lnTo>
                    <a:pt x="159" y="128"/>
                  </a:lnTo>
                  <a:lnTo>
                    <a:pt x="144" y="153"/>
                  </a:lnTo>
                  <a:lnTo>
                    <a:pt x="132" y="178"/>
                  </a:lnTo>
                  <a:lnTo>
                    <a:pt x="119" y="201"/>
                  </a:lnTo>
                  <a:lnTo>
                    <a:pt x="107" y="227"/>
                  </a:lnTo>
                  <a:lnTo>
                    <a:pt x="86" y="349"/>
                  </a:lnTo>
                  <a:lnTo>
                    <a:pt x="72" y="475"/>
                  </a:lnTo>
                  <a:lnTo>
                    <a:pt x="64" y="601"/>
                  </a:lnTo>
                  <a:lnTo>
                    <a:pt x="66" y="727"/>
                  </a:lnTo>
                  <a:lnTo>
                    <a:pt x="74" y="851"/>
                  </a:lnTo>
                  <a:lnTo>
                    <a:pt x="93" y="975"/>
                  </a:lnTo>
                  <a:lnTo>
                    <a:pt x="124" y="1099"/>
                  </a:lnTo>
                  <a:lnTo>
                    <a:pt x="167" y="1225"/>
                  </a:lnTo>
                  <a:lnTo>
                    <a:pt x="169" y="1237"/>
                  </a:lnTo>
                  <a:lnTo>
                    <a:pt x="175" y="1254"/>
                  </a:lnTo>
                  <a:lnTo>
                    <a:pt x="175" y="1262"/>
                  </a:lnTo>
                  <a:lnTo>
                    <a:pt x="181" y="1272"/>
                  </a:lnTo>
                  <a:lnTo>
                    <a:pt x="185" y="1283"/>
                  </a:lnTo>
                  <a:lnTo>
                    <a:pt x="194" y="1295"/>
                  </a:lnTo>
                  <a:lnTo>
                    <a:pt x="208" y="1295"/>
                  </a:lnTo>
                  <a:lnTo>
                    <a:pt x="225" y="1295"/>
                  </a:lnTo>
                  <a:lnTo>
                    <a:pt x="231" y="1281"/>
                  </a:lnTo>
                  <a:lnTo>
                    <a:pt x="237" y="1270"/>
                  </a:lnTo>
                  <a:lnTo>
                    <a:pt x="251" y="1266"/>
                  </a:lnTo>
                  <a:lnTo>
                    <a:pt x="262" y="1268"/>
                  </a:lnTo>
                  <a:lnTo>
                    <a:pt x="272" y="1270"/>
                  </a:lnTo>
                  <a:lnTo>
                    <a:pt x="285" y="1274"/>
                  </a:lnTo>
                  <a:lnTo>
                    <a:pt x="330" y="1217"/>
                  </a:lnTo>
                  <a:lnTo>
                    <a:pt x="386" y="1159"/>
                  </a:lnTo>
                  <a:lnTo>
                    <a:pt x="446" y="1095"/>
                  </a:lnTo>
                  <a:lnTo>
                    <a:pt x="512" y="1033"/>
                  </a:lnTo>
                  <a:lnTo>
                    <a:pt x="572" y="965"/>
                  </a:lnTo>
                  <a:lnTo>
                    <a:pt x="625" y="901"/>
                  </a:lnTo>
                  <a:lnTo>
                    <a:pt x="662" y="835"/>
                  </a:lnTo>
                  <a:lnTo>
                    <a:pt x="683" y="771"/>
                  </a:lnTo>
                  <a:lnTo>
                    <a:pt x="724" y="676"/>
                  </a:lnTo>
                  <a:lnTo>
                    <a:pt x="763" y="581"/>
                  </a:lnTo>
                  <a:lnTo>
                    <a:pt x="792" y="486"/>
                  </a:lnTo>
                  <a:lnTo>
                    <a:pt x="815" y="391"/>
                  </a:lnTo>
                  <a:lnTo>
                    <a:pt x="825" y="293"/>
                  </a:lnTo>
                  <a:lnTo>
                    <a:pt x="827" y="196"/>
                  </a:lnTo>
                  <a:lnTo>
                    <a:pt x="817" y="97"/>
                  </a:lnTo>
                  <a:lnTo>
                    <a:pt x="795" y="0"/>
                  </a:lnTo>
                  <a:lnTo>
                    <a:pt x="807" y="0"/>
                  </a:lnTo>
                  <a:lnTo>
                    <a:pt x="825" y="4"/>
                  </a:lnTo>
                  <a:lnTo>
                    <a:pt x="842" y="9"/>
                  </a:lnTo>
                  <a:lnTo>
                    <a:pt x="861" y="19"/>
                  </a:lnTo>
                  <a:lnTo>
                    <a:pt x="879" y="27"/>
                  </a:lnTo>
                  <a:lnTo>
                    <a:pt x="898" y="38"/>
                  </a:lnTo>
                  <a:lnTo>
                    <a:pt x="914" y="52"/>
                  </a:lnTo>
                  <a:lnTo>
                    <a:pt x="931" y="66"/>
                  </a:lnTo>
                  <a:lnTo>
                    <a:pt x="918" y="75"/>
                  </a:lnTo>
                  <a:lnTo>
                    <a:pt x="912" y="87"/>
                  </a:lnTo>
                  <a:lnTo>
                    <a:pt x="908" y="95"/>
                  </a:lnTo>
                  <a:lnTo>
                    <a:pt x="908" y="102"/>
                  </a:lnTo>
                  <a:lnTo>
                    <a:pt x="906" y="110"/>
                  </a:lnTo>
                  <a:lnTo>
                    <a:pt x="906" y="120"/>
                  </a:lnTo>
                  <a:lnTo>
                    <a:pt x="902" y="132"/>
                  </a:lnTo>
                  <a:lnTo>
                    <a:pt x="896" y="147"/>
                  </a:lnTo>
                  <a:lnTo>
                    <a:pt x="885" y="238"/>
                  </a:lnTo>
                  <a:lnTo>
                    <a:pt x="869" y="333"/>
                  </a:lnTo>
                  <a:lnTo>
                    <a:pt x="850" y="428"/>
                  </a:lnTo>
                  <a:lnTo>
                    <a:pt x="828" y="527"/>
                  </a:lnTo>
                  <a:lnTo>
                    <a:pt x="799" y="622"/>
                  </a:lnTo>
                  <a:lnTo>
                    <a:pt x="772" y="719"/>
                  </a:lnTo>
                  <a:lnTo>
                    <a:pt x="737" y="814"/>
                  </a:lnTo>
                  <a:lnTo>
                    <a:pt x="704" y="907"/>
                  </a:lnTo>
                  <a:lnTo>
                    <a:pt x="671" y="967"/>
                  </a:lnTo>
                  <a:lnTo>
                    <a:pt x="629" y="1051"/>
                  </a:lnTo>
                  <a:lnTo>
                    <a:pt x="574" y="1150"/>
                  </a:lnTo>
                  <a:lnTo>
                    <a:pt x="514" y="1254"/>
                  </a:lnTo>
                  <a:lnTo>
                    <a:pt x="446" y="1353"/>
                  </a:lnTo>
                  <a:lnTo>
                    <a:pt x="380" y="1440"/>
                  </a:lnTo>
                  <a:lnTo>
                    <a:pt x="315" y="1506"/>
                  </a:lnTo>
                  <a:lnTo>
                    <a:pt x="254" y="154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Freeform 29"/>
            <p:cNvSpPr/>
            <p:nvPr/>
          </p:nvSpPr>
          <p:spPr>
            <a:xfrm>
              <a:off x="6515280" y="4620240"/>
              <a:ext cx="104040" cy="29088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290880"/>
                <a:gd name="textAreaBottom" fmla="*/ 291240 h 290880"/>
              </a:gdLst>
              <a:ahLst/>
              <a:rect l="textAreaLeft" t="textAreaTop" r="textAreaRight" b="textAreaBottom"/>
              <a:pathLst>
                <a:path w="221" h="454">
                  <a:moveTo>
                    <a:pt x="187" y="454"/>
                  </a:moveTo>
                  <a:lnTo>
                    <a:pt x="165" y="444"/>
                  </a:lnTo>
                  <a:lnTo>
                    <a:pt x="138" y="438"/>
                  </a:lnTo>
                  <a:lnTo>
                    <a:pt x="107" y="430"/>
                  </a:lnTo>
                  <a:lnTo>
                    <a:pt x="76" y="423"/>
                  </a:lnTo>
                  <a:lnTo>
                    <a:pt x="45" y="411"/>
                  </a:lnTo>
                  <a:lnTo>
                    <a:pt x="22" y="401"/>
                  </a:lnTo>
                  <a:lnTo>
                    <a:pt x="4" y="386"/>
                  </a:lnTo>
                  <a:lnTo>
                    <a:pt x="0" y="370"/>
                  </a:lnTo>
                  <a:lnTo>
                    <a:pt x="26" y="335"/>
                  </a:lnTo>
                  <a:lnTo>
                    <a:pt x="41" y="291"/>
                  </a:lnTo>
                  <a:lnTo>
                    <a:pt x="49" y="240"/>
                  </a:lnTo>
                  <a:lnTo>
                    <a:pt x="51" y="188"/>
                  </a:lnTo>
                  <a:lnTo>
                    <a:pt x="45" y="132"/>
                  </a:lnTo>
                  <a:lnTo>
                    <a:pt x="39" y="81"/>
                  </a:lnTo>
                  <a:lnTo>
                    <a:pt x="33" y="35"/>
                  </a:lnTo>
                  <a:lnTo>
                    <a:pt x="29" y="0"/>
                  </a:lnTo>
                  <a:lnTo>
                    <a:pt x="59" y="16"/>
                  </a:lnTo>
                  <a:lnTo>
                    <a:pt x="91" y="54"/>
                  </a:lnTo>
                  <a:lnTo>
                    <a:pt x="123" y="111"/>
                  </a:lnTo>
                  <a:lnTo>
                    <a:pt x="154" y="178"/>
                  </a:lnTo>
                  <a:lnTo>
                    <a:pt x="177" y="250"/>
                  </a:lnTo>
                  <a:lnTo>
                    <a:pt x="198" y="324"/>
                  </a:lnTo>
                  <a:lnTo>
                    <a:pt x="214" y="392"/>
                  </a:lnTo>
                  <a:lnTo>
                    <a:pt x="221" y="448"/>
                  </a:lnTo>
                  <a:lnTo>
                    <a:pt x="206" y="450"/>
                  </a:lnTo>
                  <a:lnTo>
                    <a:pt x="187" y="454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30"/>
            <p:cNvSpPr/>
            <p:nvPr/>
          </p:nvSpPr>
          <p:spPr>
            <a:xfrm>
              <a:off x="7842240" y="4527720"/>
              <a:ext cx="115200" cy="2898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289800"/>
                <a:gd name="textAreaBottom" fmla="*/ 290160 h 289800"/>
              </a:gdLst>
              <a:ahLst/>
              <a:rect l="textAreaLeft" t="textAreaTop" r="textAreaRight" b="textAreaBottom"/>
              <a:pathLst>
                <a:path w="244" h="451">
                  <a:moveTo>
                    <a:pt x="13" y="451"/>
                  </a:moveTo>
                  <a:lnTo>
                    <a:pt x="5" y="451"/>
                  </a:lnTo>
                  <a:lnTo>
                    <a:pt x="0" y="451"/>
                  </a:lnTo>
                  <a:lnTo>
                    <a:pt x="0" y="389"/>
                  </a:lnTo>
                  <a:lnTo>
                    <a:pt x="4" y="331"/>
                  </a:lnTo>
                  <a:lnTo>
                    <a:pt x="9" y="273"/>
                  </a:lnTo>
                  <a:lnTo>
                    <a:pt x="19" y="219"/>
                  </a:lnTo>
                  <a:lnTo>
                    <a:pt x="29" y="162"/>
                  </a:lnTo>
                  <a:lnTo>
                    <a:pt x="44" y="110"/>
                  </a:lnTo>
                  <a:lnTo>
                    <a:pt x="62" y="58"/>
                  </a:lnTo>
                  <a:lnTo>
                    <a:pt x="87" y="7"/>
                  </a:lnTo>
                  <a:lnTo>
                    <a:pt x="101" y="3"/>
                  </a:lnTo>
                  <a:lnTo>
                    <a:pt x="116" y="3"/>
                  </a:lnTo>
                  <a:lnTo>
                    <a:pt x="132" y="1"/>
                  </a:lnTo>
                  <a:lnTo>
                    <a:pt x="147" y="1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4" y="0"/>
                  </a:lnTo>
                  <a:lnTo>
                    <a:pt x="215" y="3"/>
                  </a:lnTo>
                  <a:lnTo>
                    <a:pt x="207" y="58"/>
                  </a:lnTo>
                  <a:lnTo>
                    <a:pt x="207" y="106"/>
                  </a:lnTo>
                  <a:lnTo>
                    <a:pt x="209" y="153"/>
                  </a:lnTo>
                  <a:lnTo>
                    <a:pt x="217" y="197"/>
                  </a:lnTo>
                  <a:lnTo>
                    <a:pt x="223" y="238"/>
                  </a:lnTo>
                  <a:lnTo>
                    <a:pt x="232" y="285"/>
                  </a:lnTo>
                  <a:lnTo>
                    <a:pt x="238" y="333"/>
                  </a:lnTo>
                  <a:lnTo>
                    <a:pt x="244" y="391"/>
                  </a:lnTo>
                  <a:lnTo>
                    <a:pt x="219" y="397"/>
                  </a:lnTo>
                  <a:lnTo>
                    <a:pt x="192" y="407"/>
                  </a:lnTo>
                  <a:lnTo>
                    <a:pt x="159" y="416"/>
                  </a:lnTo>
                  <a:lnTo>
                    <a:pt x="128" y="426"/>
                  </a:lnTo>
                  <a:lnTo>
                    <a:pt x="95" y="434"/>
                  </a:lnTo>
                  <a:lnTo>
                    <a:pt x="64" y="444"/>
                  </a:lnTo>
                  <a:lnTo>
                    <a:pt x="35" y="447"/>
                  </a:lnTo>
                  <a:lnTo>
                    <a:pt x="13" y="451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Freeform 31"/>
            <p:cNvSpPr/>
            <p:nvPr/>
          </p:nvSpPr>
          <p:spPr>
            <a:xfrm>
              <a:off x="6503760" y="4767840"/>
              <a:ext cx="11160" cy="496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77">
                  <a:moveTo>
                    <a:pt x="0" y="77"/>
                  </a:moveTo>
                  <a:lnTo>
                    <a:pt x="2" y="58"/>
                  </a:lnTo>
                  <a:lnTo>
                    <a:pt x="4" y="40"/>
                  </a:lnTo>
                  <a:lnTo>
                    <a:pt x="6" y="21"/>
                  </a:lnTo>
                  <a:lnTo>
                    <a:pt x="10" y="4"/>
                  </a:lnTo>
                  <a:lnTo>
                    <a:pt x="16" y="2"/>
                  </a:lnTo>
                  <a:lnTo>
                    <a:pt x="23" y="0"/>
                  </a:lnTo>
                  <a:lnTo>
                    <a:pt x="21" y="11"/>
                  </a:lnTo>
                  <a:lnTo>
                    <a:pt x="21" y="25"/>
                  </a:lnTo>
                  <a:lnTo>
                    <a:pt x="19" y="31"/>
                  </a:lnTo>
                  <a:lnTo>
                    <a:pt x="18" y="40"/>
                  </a:lnTo>
                  <a:lnTo>
                    <a:pt x="16" y="54"/>
                  </a:lnTo>
                  <a:lnTo>
                    <a:pt x="14" y="73"/>
                  </a:lnTo>
                  <a:lnTo>
                    <a:pt x="6" y="73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Freeform 32"/>
            <p:cNvSpPr/>
            <p:nvPr/>
          </p:nvSpPr>
          <p:spPr>
            <a:xfrm>
              <a:off x="7029000" y="4416480"/>
              <a:ext cx="146520" cy="33840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338400"/>
                <a:gd name="textAreaBottom" fmla="*/ 338760 h 338400"/>
              </a:gdLst>
              <a:ahLst/>
              <a:rect l="textAreaLeft" t="textAreaTop" r="textAreaRight" b="textAreaBottom"/>
              <a:pathLst>
                <a:path w="311" h="527">
                  <a:moveTo>
                    <a:pt x="60" y="527"/>
                  </a:moveTo>
                  <a:lnTo>
                    <a:pt x="33" y="460"/>
                  </a:lnTo>
                  <a:lnTo>
                    <a:pt x="16" y="405"/>
                  </a:lnTo>
                  <a:lnTo>
                    <a:pt x="4" y="357"/>
                  </a:lnTo>
                  <a:lnTo>
                    <a:pt x="0" y="312"/>
                  </a:lnTo>
                  <a:lnTo>
                    <a:pt x="2" y="268"/>
                  </a:lnTo>
                  <a:lnTo>
                    <a:pt x="14" y="221"/>
                  </a:lnTo>
                  <a:lnTo>
                    <a:pt x="35" y="171"/>
                  </a:lnTo>
                  <a:lnTo>
                    <a:pt x="66" y="112"/>
                  </a:lnTo>
                  <a:lnTo>
                    <a:pt x="78" y="70"/>
                  </a:lnTo>
                  <a:lnTo>
                    <a:pt x="90" y="41"/>
                  </a:lnTo>
                  <a:lnTo>
                    <a:pt x="101" y="17"/>
                  </a:lnTo>
                  <a:lnTo>
                    <a:pt x="115" y="6"/>
                  </a:lnTo>
                  <a:lnTo>
                    <a:pt x="132" y="0"/>
                  </a:lnTo>
                  <a:lnTo>
                    <a:pt x="156" y="0"/>
                  </a:lnTo>
                  <a:lnTo>
                    <a:pt x="187" y="8"/>
                  </a:lnTo>
                  <a:lnTo>
                    <a:pt x="231" y="21"/>
                  </a:lnTo>
                  <a:lnTo>
                    <a:pt x="237" y="52"/>
                  </a:lnTo>
                  <a:lnTo>
                    <a:pt x="245" y="83"/>
                  </a:lnTo>
                  <a:lnTo>
                    <a:pt x="252" y="114"/>
                  </a:lnTo>
                  <a:lnTo>
                    <a:pt x="262" y="147"/>
                  </a:lnTo>
                  <a:lnTo>
                    <a:pt x="272" y="176"/>
                  </a:lnTo>
                  <a:lnTo>
                    <a:pt x="284" y="209"/>
                  </a:lnTo>
                  <a:lnTo>
                    <a:pt x="295" y="242"/>
                  </a:lnTo>
                  <a:lnTo>
                    <a:pt x="311" y="277"/>
                  </a:lnTo>
                  <a:lnTo>
                    <a:pt x="299" y="291"/>
                  </a:lnTo>
                  <a:lnTo>
                    <a:pt x="272" y="322"/>
                  </a:lnTo>
                  <a:lnTo>
                    <a:pt x="231" y="361"/>
                  </a:lnTo>
                  <a:lnTo>
                    <a:pt x="187" y="407"/>
                  </a:lnTo>
                  <a:lnTo>
                    <a:pt x="140" y="452"/>
                  </a:lnTo>
                  <a:lnTo>
                    <a:pt x="99" y="491"/>
                  </a:lnTo>
                  <a:lnTo>
                    <a:pt x="70" y="518"/>
                  </a:lnTo>
                  <a:lnTo>
                    <a:pt x="60" y="5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33"/>
            <p:cNvSpPr/>
            <p:nvPr/>
          </p:nvSpPr>
          <p:spPr>
            <a:xfrm>
              <a:off x="5986080" y="4205880"/>
              <a:ext cx="526320" cy="515160"/>
            </a:xfrm>
            <a:custGeom>
              <a:avLst/>
              <a:gdLst>
                <a:gd name="textAreaLeft" fmla="*/ 0 w 526320"/>
                <a:gd name="textAreaRight" fmla="*/ 526680 w 526320"/>
                <a:gd name="textAreaTop" fmla="*/ 0 h 515160"/>
                <a:gd name="textAreaBottom" fmla="*/ 515520 h 515160"/>
              </a:gdLst>
              <a:ahLst/>
              <a:rect l="textAreaLeft" t="textAreaTop" r="textAreaRight" b="textAreaBottom"/>
              <a:pathLst>
                <a:path w="1112" h="803">
                  <a:moveTo>
                    <a:pt x="1082" y="803"/>
                  </a:moveTo>
                  <a:lnTo>
                    <a:pt x="1044" y="793"/>
                  </a:lnTo>
                  <a:lnTo>
                    <a:pt x="997" y="780"/>
                  </a:lnTo>
                  <a:lnTo>
                    <a:pt x="943" y="760"/>
                  </a:lnTo>
                  <a:lnTo>
                    <a:pt x="887" y="745"/>
                  </a:lnTo>
                  <a:lnTo>
                    <a:pt x="828" y="729"/>
                  </a:lnTo>
                  <a:lnTo>
                    <a:pt x="776" y="724"/>
                  </a:lnTo>
                  <a:lnTo>
                    <a:pt x="733" y="725"/>
                  </a:lnTo>
                  <a:lnTo>
                    <a:pt x="702" y="745"/>
                  </a:lnTo>
                  <a:lnTo>
                    <a:pt x="648" y="753"/>
                  </a:lnTo>
                  <a:lnTo>
                    <a:pt x="598" y="757"/>
                  </a:lnTo>
                  <a:lnTo>
                    <a:pt x="547" y="755"/>
                  </a:lnTo>
                  <a:lnTo>
                    <a:pt x="501" y="755"/>
                  </a:lnTo>
                  <a:lnTo>
                    <a:pt x="450" y="749"/>
                  </a:lnTo>
                  <a:lnTo>
                    <a:pt x="402" y="745"/>
                  </a:lnTo>
                  <a:lnTo>
                    <a:pt x="353" y="741"/>
                  </a:lnTo>
                  <a:lnTo>
                    <a:pt x="305" y="741"/>
                  </a:lnTo>
                  <a:lnTo>
                    <a:pt x="264" y="751"/>
                  </a:lnTo>
                  <a:lnTo>
                    <a:pt x="225" y="762"/>
                  </a:lnTo>
                  <a:lnTo>
                    <a:pt x="186" y="772"/>
                  </a:lnTo>
                  <a:lnTo>
                    <a:pt x="148" y="780"/>
                  </a:lnTo>
                  <a:lnTo>
                    <a:pt x="109" y="782"/>
                  </a:lnTo>
                  <a:lnTo>
                    <a:pt x="72" y="780"/>
                  </a:lnTo>
                  <a:lnTo>
                    <a:pt x="35" y="774"/>
                  </a:lnTo>
                  <a:lnTo>
                    <a:pt x="0" y="762"/>
                  </a:lnTo>
                  <a:lnTo>
                    <a:pt x="6" y="737"/>
                  </a:lnTo>
                  <a:lnTo>
                    <a:pt x="25" y="720"/>
                  </a:lnTo>
                  <a:lnTo>
                    <a:pt x="53" y="706"/>
                  </a:lnTo>
                  <a:lnTo>
                    <a:pt x="88" y="700"/>
                  </a:lnTo>
                  <a:lnTo>
                    <a:pt x="122" y="691"/>
                  </a:lnTo>
                  <a:lnTo>
                    <a:pt x="161" y="683"/>
                  </a:lnTo>
                  <a:lnTo>
                    <a:pt x="196" y="671"/>
                  </a:lnTo>
                  <a:lnTo>
                    <a:pt x="227" y="658"/>
                  </a:lnTo>
                  <a:lnTo>
                    <a:pt x="256" y="650"/>
                  </a:lnTo>
                  <a:lnTo>
                    <a:pt x="285" y="650"/>
                  </a:lnTo>
                  <a:lnTo>
                    <a:pt x="311" y="652"/>
                  </a:lnTo>
                  <a:lnTo>
                    <a:pt x="334" y="656"/>
                  </a:lnTo>
                  <a:lnTo>
                    <a:pt x="351" y="654"/>
                  </a:lnTo>
                  <a:lnTo>
                    <a:pt x="367" y="648"/>
                  </a:lnTo>
                  <a:lnTo>
                    <a:pt x="378" y="632"/>
                  </a:lnTo>
                  <a:lnTo>
                    <a:pt x="388" y="605"/>
                  </a:lnTo>
                  <a:lnTo>
                    <a:pt x="419" y="580"/>
                  </a:lnTo>
                  <a:lnTo>
                    <a:pt x="458" y="559"/>
                  </a:lnTo>
                  <a:lnTo>
                    <a:pt x="497" y="539"/>
                  </a:lnTo>
                  <a:lnTo>
                    <a:pt x="541" y="528"/>
                  </a:lnTo>
                  <a:lnTo>
                    <a:pt x="584" y="516"/>
                  </a:lnTo>
                  <a:lnTo>
                    <a:pt x="631" y="512"/>
                  </a:lnTo>
                  <a:lnTo>
                    <a:pt x="675" y="516"/>
                  </a:lnTo>
                  <a:lnTo>
                    <a:pt x="720" y="528"/>
                  </a:lnTo>
                  <a:lnTo>
                    <a:pt x="728" y="539"/>
                  </a:lnTo>
                  <a:lnTo>
                    <a:pt x="737" y="551"/>
                  </a:lnTo>
                  <a:lnTo>
                    <a:pt x="743" y="555"/>
                  </a:lnTo>
                  <a:lnTo>
                    <a:pt x="751" y="561"/>
                  </a:lnTo>
                  <a:lnTo>
                    <a:pt x="762" y="563"/>
                  </a:lnTo>
                  <a:lnTo>
                    <a:pt x="776" y="566"/>
                  </a:lnTo>
                  <a:lnTo>
                    <a:pt x="782" y="535"/>
                  </a:lnTo>
                  <a:lnTo>
                    <a:pt x="766" y="510"/>
                  </a:lnTo>
                  <a:lnTo>
                    <a:pt x="737" y="485"/>
                  </a:lnTo>
                  <a:lnTo>
                    <a:pt x="710" y="462"/>
                  </a:lnTo>
                  <a:lnTo>
                    <a:pt x="687" y="431"/>
                  </a:lnTo>
                  <a:lnTo>
                    <a:pt x="683" y="394"/>
                  </a:lnTo>
                  <a:lnTo>
                    <a:pt x="706" y="347"/>
                  </a:lnTo>
                  <a:lnTo>
                    <a:pt x="772" y="291"/>
                  </a:lnTo>
                  <a:lnTo>
                    <a:pt x="772" y="281"/>
                  </a:lnTo>
                  <a:lnTo>
                    <a:pt x="774" y="272"/>
                  </a:lnTo>
                  <a:lnTo>
                    <a:pt x="774" y="260"/>
                  </a:lnTo>
                  <a:lnTo>
                    <a:pt x="776" y="248"/>
                  </a:lnTo>
                  <a:lnTo>
                    <a:pt x="755" y="192"/>
                  </a:lnTo>
                  <a:lnTo>
                    <a:pt x="751" y="144"/>
                  </a:lnTo>
                  <a:lnTo>
                    <a:pt x="762" y="103"/>
                  </a:lnTo>
                  <a:lnTo>
                    <a:pt x="788" y="68"/>
                  </a:lnTo>
                  <a:lnTo>
                    <a:pt x="821" y="39"/>
                  </a:lnTo>
                  <a:lnTo>
                    <a:pt x="863" y="20"/>
                  </a:lnTo>
                  <a:lnTo>
                    <a:pt x="912" y="6"/>
                  </a:lnTo>
                  <a:lnTo>
                    <a:pt x="968" y="0"/>
                  </a:lnTo>
                  <a:lnTo>
                    <a:pt x="952" y="53"/>
                  </a:lnTo>
                  <a:lnTo>
                    <a:pt x="933" y="95"/>
                  </a:lnTo>
                  <a:lnTo>
                    <a:pt x="910" y="130"/>
                  </a:lnTo>
                  <a:lnTo>
                    <a:pt x="890" y="163"/>
                  </a:lnTo>
                  <a:lnTo>
                    <a:pt x="877" y="196"/>
                  </a:lnTo>
                  <a:lnTo>
                    <a:pt x="881" y="235"/>
                  </a:lnTo>
                  <a:lnTo>
                    <a:pt x="900" y="283"/>
                  </a:lnTo>
                  <a:lnTo>
                    <a:pt x="947" y="349"/>
                  </a:lnTo>
                  <a:lnTo>
                    <a:pt x="949" y="378"/>
                  </a:lnTo>
                  <a:lnTo>
                    <a:pt x="952" y="409"/>
                  </a:lnTo>
                  <a:lnTo>
                    <a:pt x="952" y="440"/>
                  </a:lnTo>
                  <a:lnTo>
                    <a:pt x="954" y="471"/>
                  </a:lnTo>
                  <a:lnTo>
                    <a:pt x="956" y="501"/>
                  </a:lnTo>
                  <a:lnTo>
                    <a:pt x="966" y="530"/>
                  </a:lnTo>
                  <a:lnTo>
                    <a:pt x="978" y="559"/>
                  </a:lnTo>
                  <a:lnTo>
                    <a:pt x="999" y="588"/>
                  </a:lnTo>
                  <a:lnTo>
                    <a:pt x="1034" y="605"/>
                  </a:lnTo>
                  <a:lnTo>
                    <a:pt x="1059" y="627"/>
                  </a:lnTo>
                  <a:lnTo>
                    <a:pt x="1077" y="646"/>
                  </a:lnTo>
                  <a:lnTo>
                    <a:pt x="1088" y="671"/>
                  </a:lnTo>
                  <a:lnTo>
                    <a:pt x="1094" y="696"/>
                  </a:lnTo>
                  <a:lnTo>
                    <a:pt x="1100" y="727"/>
                  </a:lnTo>
                  <a:lnTo>
                    <a:pt x="1104" y="762"/>
                  </a:lnTo>
                  <a:lnTo>
                    <a:pt x="1112" y="803"/>
                  </a:lnTo>
                  <a:lnTo>
                    <a:pt x="1094" y="803"/>
                  </a:lnTo>
                  <a:lnTo>
                    <a:pt x="1082" y="80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reeform 34"/>
            <p:cNvSpPr/>
            <p:nvPr/>
          </p:nvSpPr>
          <p:spPr>
            <a:xfrm>
              <a:off x="7966440" y="4117320"/>
              <a:ext cx="633960" cy="572040"/>
            </a:xfrm>
            <a:custGeom>
              <a:avLst/>
              <a:gdLst>
                <a:gd name="textAreaLeft" fmla="*/ 0 w 633960"/>
                <a:gd name="textAreaRight" fmla="*/ 634320 w 633960"/>
                <a:gd name="textAreaTop" fmla="*/ 0 h 572040"/>
                <a:gd name="textAreaBottom" fmla="*/ 572400 h 572040"/>
              </a:gdLst>
              <a:ahLst/>
              <a:rect l="textAreaLeft" t="textAreaTop" r="textAreaRight" b="textAreaBottom"/>
              <a:pathLst>
                <a:path w="1341" h="892">
                  <a:moveTo>
                    <a:pt x="14" y="892"/>
                  </a:moveTo>
                  <a:lnTo>
                    <a:pt x="4" y="828"/>
                  </a:lnTo>
                  <a:lnTo>
                    <a:pt x="0" y="769"/>
                  </a:lnTo>
                  <a:lnTo>
                    <a:pt x="0" y="717"/>
                  </a:lnTo>
                  <a:lnTo>
                    <a:pt x="10" y="672"/>
                  </a:lnTo>
                  <a:lnTo>
                    <a:pt x="30" y="632"/>
                  </a:lnTo>
                  <a:lnTo>
                    <a:pt x="63" y="601"/>
                  </a:lnTo>
                  <a:lnTo>
                    <a:pt x="109" y="577"/>
                  </a:lnTo>
                  <a:lnTo>
                    <a:pt x="175" y="560"/>
                  </a:lnTo>
                  <a:lnTo>
                    <a:pt x="187" y="543"/>
                  </a:lnTo>
                  <a:lnTo>
                    <a:pt x="194" y="529"/>
                  </a:lnTo>
                  <a:lnTo>
                    <a:pt x="196" y="515"/>
                  </a:lnTo>
                  <a:lnTo>
                    <a:pt x="198" y="504"/>
                  </a:lnTo>
                  <a:lnTo>
                    <a:pt x="185" y="475"/>
                  </a:lnTo>
                  <a:lnTo>
                    <a:pt x="189" y="440"/>
                  </a:lnTo>
                  <a:lnTo>
                    <a:pt x="202" y="397"/>
                  </a:lnTo>
                  <a:lnTo>
                    <a:pt x="225" y="354"/>
                  </a:lnTo>
                  <a:lnTo>
                    <a:pt x="251" y="308"/>
                  </a:lnTo>
                  <a:lnTo>
                    <a:pt x="276" y="267"/>
                  </a:lnTo>
                  <a:lnTo>
                    <a:pt x="295" y="232"/>
                  </a:lnTo>
                  <a:lnTo>
                    <a:pt x="311" y="207"/>
                  </a:lnTo>
                  <a:lnTo>
                    <a:pt x="307" y="174"/>
                  </a:lnTo>
                  <a:lnTo>
                    <a:pt x="301" y="147"/>
                  </a:lnTo>
                  <a:lnTo>
                    <a:pt x="291" y="118"/>
                  </a:lnTo>
                  <a:lnTo>
                    <a:pt x="284" y="95"/>
                  </a:lnTo>
                  <a:lnTo>
                    <a:pt x="274" y="69"/>
                  </a:lnTo>
                  <a:lnTo>
                    <a:pt x="266" y="46"/>
                  </a:lnTo>
                  <a:lnTo>
                    <a:pt x="260" y="25"/>
                  </a:lnTo>
                  <a:lnTo>
                    <a:pt x="262" y="5"/>
                  </a:lnTo>
                  <a:lnTo>
                    <a:pt x="299" y="0"/>
                  </a:lnTo>
                  <a:lnTo>
                    <a:pt x="338" y="11"/>
                  </a:lnTo>
                  <a:lnTo>
                    <a:pt x="375" y="35"/>
                  </a:lnTo>
                  <a:lnTo>
                    <a:pt x="408" y="71"/>
                  </a:lnTo>
                  <a:lnTo>
                    <a:pt x="427" y="112"/>
                  </a:lnTo>
                  <a:lnTo>
                    <a:pt x="437" y="159"/>
                  </a:lnTo>
                  <a:lnTo>
                    <a:pt x="427" y="207"/>
                  </a:lnTo>
                  <a:lnTo>
                    <a:pt x="402" y="254"/>
                  </a:lnTo>
                  <a:lnTo>
                    <a:pt x="400" y="267"/>
                  </a:lnTo>
                  <a:lnTo>
                    <a:pt x="398" y="285"/>
                  </a:lnTo>
                  <a:lnTo>
                    <a:pt x="421" y="329"/>
                  </a:lnTo>
                  <a:lnTo>
                    <a:pt x="439" y="370"/>
                  </a:lnTo>
                  <a:lnTo>
                    <a:pt x="448" y="405"/>
                  </a:lnTo>
                  <a:lnTo>
                    <a:pt x="452" y="440"/>
                  </a:lnTo>
                  <a:lnTo>
                    <a:pt x="445" y="471"/>
                  </a:lnTo>
                  <a:lnTo>
                    <a:pt x="427" y="508"/>
                  </a:lnTo>
                  <a:lnTo>
                    <a:pt x="400" y="544"/>
                  </a:lnTo>
                  <a:lnTo>
                    <a:pt x="363" y="591"/>
                  </a:lnTo>
                  <a:lnTo>
                    <a:pt x="363" y="608"/>
                  </a:lnTo>
                  <a:lnTo>
                    <a:pt x="367" y="626"/>
                  </a:lnTo>
                  <a:lnTo>
                    <a:pt x="375" y="630"/>
                  </a:lnTo>
                  <a:lnTo>
                    <a:pt x="383" y="632"/>
                  </a:lnTo>
                  <a:lnTo>
                    <a:pt x="386" y="632"/>
                  </a:lnTo>
                  <a:lnTo>
                    <a:pt x="394" y="632"/>
                  </a:lnTo>
                  <a:lnTo>
                    <a:pt x="402" y="632"/>
                  </a:lnTo>
                  <a:lnTo>
                    <a:pt x="415" y="634"/>
                  </a:lnTo>
                  <a:lnTo>
                    <a:pt x="435" y="618"/>
                  </a:lnTo>
                  <a:lnTo>
                    <a:pt x="462" y="614"/>
                  </a:lnTo>
                  <a:lnTo>
                    <a:pt x="491" y="616"/>
                  </a:lnTo>
                  <a:lnTo>
                    <a:pt x="524" y="626"/>
                  </a:lnTo>
                  <a:lnTo>
                    <a:pt x="553" y="638"/>
                  </a:lnTo>
                  <a:lnTo>
                    <a:pt x="582" y="657"/>
                  </a:lnTo>
                  <a:lnTo>
                    <a:pt x="607" y="676"/>
                  </a:lnTo>
                  <a:lnTo>
                    <a:pt x="629" y="700"/>
                  </a:lnTo>
                  <a:lnTo>
                    <a:pt x="681" y="702"/>
                  </a:lnTo>
                  <a:lnTo>
                    <a:pt x="734" y="709"/>
                  </a:lnTo>
                  <a:lnTo>
                    <a:pt x="786" y="719"/>
                  </a:lnTo>
                  <a:lnTo>
                    <a:pt x="838" y="731"/>
                  </a:lnTo>
                  <a:lnTo>
                    <a:pt x="889" y="740"/>
                  </a:lnTo>
                  <a:lnTo>
                    <a:pt x="941" y="750"/>
                  </a:lnTo>
                  <a:lnTo>
                    <a:pt x="995" y="754"/>
                  </a:lnTo>
                  <a:lnTo>
                    <a:pt x="1054" y="756"/>
                  </a:lnTo>
                  <a:lnTo>
                    <a:pt x="1081" y="750"/>
                  </a:lnTo>
                  <a:lnTo>
                    <a:pt x="1119" y="750"/>
                  </a:lnTo>
                  <a:lnTo>
                    <a:pt x="1164" y="754"/>
                  </a:lnTo>
                  <a:lnTo>
                    <a:pt x="1213" y="764"/>
                  </a:lnTo>
                  <a:lnTo>
                    <a:pt x="1257" y="777"/>
                  </a:lnTo>
                  <a:lnTo>
                    <a:pt x="1296" y="797"/>
                  </a:lnTo>
                  <a:lnTo>
                    <a:pt x="1323" y="822"/>
                  </a:lnTo>
                  <a:lnTo>
                    <a:pt x="1341" y="857"/>
                  </a:lnTo>
                  <a:lnTo>
                    <a:pt x="1290" y="868"/>
                  </a:lnTo>
                  <a:lnTo>
                    <a:pt x="1236" y="868"/>
                  </a:lnTo>
                  <a:lnTo>
                    <a:pt x="1176" y="859"/>
                  </a:lnTo>
                  <a:lnTo>
                    <a:pt x="1116" y="845"/>
                  </a:lnTo>
                  <a:lnTo>
                    <a:pt x="1054" y="830"/>
                  </a:lnTo>
                  <a:lnTo>
                    <a:pt x="999" y="822"/>
                  </a:lnTo>
                  <a:lnTo>
                    <a:pt x="947" y="820"/>
                  </a:lnTo>
                  <a:lnTo>
                    <a:pt x="908" y="835"/>
                  </a:lnTo>
                  <a:lnTo>
                    <a:pt x="856" y="839"/>
                  </a:lnTo>
                  <a:lnTo>
                    <a:pt x="809" y="841"/>
                  </a:lnTo>
                  <a:lnTo>
                    <a:pt x="763" y="839"/>
                  </a:lnTo>
                  <a:lnTo>
                    <a:pt x="722" y="839"/>
                  </a:lnTo>
                  <a:lnTo>
                    <a:pt x="677" y="835"/>
                  </a:lnTo>
                  <a:lnTo>
                    <a:pt x="635" y="835"/>
                  </a:lnTo>
                  <a:lnTo>
                    <a:pt x="588" y="837"/>
                  </a:lnTo>
                  <a:lnTo>
                    <a:pt x="542" y="847"/>
                  </a:lnTo>
                  <a:lnTo>
                    <a:pt x="489" y="843"/>
                  </a:lnTo>
                  <a:lnTo>
                    <a:pt x="423" y="839"/>
                  </a:lnTo>
                  <a:lnTo>
                    <a:pt x="346" y="833"/>
                  </a:lnTo>
                  <a:lnTo>
                    <a:pt x="268" y="831"/>
                  </a:lnTo>
                  <a:lnTo>
                    <a:pt x="189" y="833"/>
                  </a:lnTo>
                  <a:lnTo>
                    <a:pt x="119" y="843"/>
                  </a:lnTo>
                  <a:lnTo>
                    <a:pt x="61" y="861"/>
                  </a:lnTo>
                  <a:lnTo>
                    <a:pt x="24" y="892"/>
                  </a:lnTo>
                  <a:lnTo>
                    <a:pt x="16" y="892"/>
                  </a:lnTo>
                  <a:lnTo>
                    <a:pt x="14" y="89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Freeform 35"/>
            <p:cNvSpPr/>
            <p:nvPr/>
          </p:nvSpPr>
          <p:spPr>
            <a:xfrm>
              <a:off x="5986080" y="4553640"/>
              <a:ext cx="145440" cy="8028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309" h="126">
                  <a:moveTo>
                    <a:pt x="0" y="126"/>
                  </a:moveTo>
                  <a:lnTo>
                    <a:pt x="0" y="119"/>
                  </a:lnTo>
                  <a:lnTo>
                    <a:pt x="4" y="113"/>
                  </a:lnTo>
                  <a:lnTo>
                    <a:pt x="12" y="109"/>
                  </a:lnTo>
                  <a:lnTo>
                    <a:pt x="22" y="101"/>
                  </a:lnTo>
                  <a:lnTo>
                    <a:pt x="27" y="91"/>
                  </a:lnTo>
                  <a:lnTo>
                    <a:pt x="35" y="82"/>
                  </a:lnTo>
                  <a:lnTo>
                    <a:pt x="62" y="66"/>
                  </a:lnTo>
                  <a:lnTo>
                    <a:pt x="95" y="53"/>
                  </a:lnTo>
                  <a:lnTo>
                    <a:pt x="130" y="39"/>
                  </a:lnTo>
                  <a:lnTo>
                    <a:pt x="165" y="27"/>
                  </a:lnTo>
                  <a:lnTo>
                    <a:pt x="200" y="16"/>
                  </a:lnTo>
                  <a:lnTo>
                    <a:pt x="237" y="8"/>
                  </a:lnTo>
                  <a:lnTo>
                    <a:pt x="272" y="2"/>
                  </a:lnTo>
                  <a:lnTo>
                    <a:pt x="309" y="0"/>
                  </a:lnTo>
                  <a:lnTo>
                    <a:pt x="305" y="8"/>
                  </a:lnTo>
                  <a:lnTo>
                    <a:pt x="305" y="20"/>
                  </a:lnTo>
                  <a:lnTo>
                    <a:pt x="305" y="33"/>
                  </a:lnTo>
                  <a:lnTo>
                    <a:pt x="305" y="47"/>
                  </a:lnTo>
                  <a:lnTo>
                    <a:pt x="264" y="51"/>
                  </a:lnTo>
                  <a:lnTo>
                    <a:pt x="225" y="58"/>
                  </a:lnTo>
                  <a:lnTo>
                    <a:pt x="186" y="70"/>
                  </a:lnTo>
                  <a:lnTo>
                    <a:pt x="150" y="84"/>
                  </a:lnTo>
                  <a:lnTo>
                    <a:pt x="111" y="95"/>
                  </a:lnTo>
                  <a:lnTo>
                    <a:pt x="74" y="107"/>
                  </a:lnTo>
                  <a:lnTo>
                    <a:pt x="35" y="117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Freeform 36"/>
            <p:cNvSpPr/>
            <p:nvPr/>
          </p:nvSpPr>
          <p:spPr>
            <a:xfrm>
              <a:off x="6838920" y="4620240"/>
              <a:ext cx="1800" cy="136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4" h="21">
                  <a:moveTo>
                    <a:pt x="0" y="21"/>
                  </a:moveTo>
                  <a:lnTo>
                    <a:pt x="0" y="8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4"/>
                  </a:lnTo>
                  <a:lnTo>
                    <a:pt x="2" y="1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Freeform 37"/>
            <p:cNvSpPr/>
            <p:nvPr/>
          </p:nvSpPr>
          <p:spPr>
            <a:xfrm>
              <a:off x="8403840" y="4527720"/>
              <a:ext cx="196560" cy="741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415" h="116">
                  <a:moveTo>
                    <a:pt x="393" y="116"/>
                  </a:moveTo>
                  <a:lnTo>
                    <a:pt x="337" y="93"/>
                  </a:lnTo>
                  <a:lnTo>
                    <a:pt x="289" y="79"/>
                  </a:lnTo>
                  <a:lnTo>
                    <a:pt x="240" y="71"/>
                  </a:lnTo>
                  <a:lnTo>
                    <a:pt x="197" y="67"/>
                  </a:lnTo>
                  <a:lnTo>
                    <a:pt x="153" y="63"/>
                  </a:lnTo>
                  <a:lnTo>
                    <a:pt x="106" y="63"/>
                  </a:lnTo>
                  <a:lnTo>
                    <a:pt x="58" y="62"/>
                  </a:lnTo>
                  <a:lnTo>
                    <a:pt x="5" y="60"/>
                  </a:lnTo>
                  <a:lnTo>
                    <a:pt x="3" y="44"/>
                  </a:lnTo>
                  <a:lnTo>
                    <a:pt x="3" y="31"/>
                  </a:lnTo>
                  <a:lnTo>
                    <a:pt x="1" y="15"/>
                  </a:lnTo>
                  <a:lnTo>
                    <a:pt x="0" y="3"/>
                  </a:lnTo>
                  <a:lnTo>
                    <a:pt x="27" y="0"/>
                  </a:lnTo>
                  <a:lnTo>
                    <a:pt x="75" y="1"/>
                  </a:lnTo>
                  <a:lnTo>
                    <a:pt x="135" y="5"/>
                  </a:lnTo>
                  <a:lnTo>
                    <a:pt x="201" y="17"/>
                  </a:lnTo>
                  <a:lnTo>
                    <a:pt x="265" y="27"/>
                  </a:lnTo>
                  <a:lnTo>
                    <a:pt x="325" y="42"/>
                  </a:lnTo>
                  <a:lnTo>
                    <a:pt x="372" y="56"/>
                  </a:lnTo>
                  <a:lnTo>
                    <a:pt x="401" y="73"/>
                  </a:lnTo>
                  <a:lnTo>
                    <a:pt x="407" y="85"/>
                  </a:lnTo>
                  <a:lnTo>
                    <a:pt x="415" y="102"/>
                  </a:lnTo>
                  <a:lnTo>
                    <a:pt x="403" y="110"/>
                  </a:lnTo>
                  <a:lnTo>
                    <a:pt x="397" y="116"/>
                  </a:lnTo>
                  <a:lnTo>
                    <a:pt x="395" y="116"/>
                  </a:lnTo>
                  <a:lnTo>
                    <a:pt x="393" y="116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38"/>
            <p:cNvSpPr/>
            <p:nvPr/>
          </p:nvSpPr>
          <p:spPr>
            <a:xfrm>
              <a:off x="6836760" y="4575600"/>
              <a:ext cx="3600" cy="2268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8" h="35">
                  <a:moveTo>
                    <a:pt x="8" y="35"/>
                  </a:moveTo>
                  <a:lnTo>
                    <a:pt x="2" y="31"/>
                  </a:lnTo>
                  <a:lnTo>
                    <a:pt x="0" y="29"/>
                  </a:lnTo>
                  <a:lnTo>
                    <a:pt x="0" y="14"/>
                  </a:lnTo>
                  <a:lnTo>
                    <a:pt x="4" y="0"/>
                  </a:lnTo>
                  <a:lnTo>
                    <a:pt x="4" y="16"/>
                  </a:lnTo>
                  <a:lnTo>
                    <a:pt x="8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39"/>
            <p:cNvSpPr/>
            <p:nvPr/>
          </p:nvSpPr>
          <p:spPr>
            <a:xfrm>
              <a:off x="5989680" y="4485600"/>
              <a:ext cx="173160" cy="9216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367" h="143">
                  <a:moveTo>
                    <a:pt x="0" y="143"/>
                  </a:moveTo>
                  <a:lnTo>
                    <a:pt x="14" y="118"/>
                  </a:lnTo>
                  <a:lnTo>
                    <a:pt x="50" y="93"/>
                  </a:lnTo>
                  <a:lnTo>
                    <a:pt x="101" y="67"/>
                  </a:lnTo>
                  <a:lnTo>
                    <a:pt x="161" y="44"/>
                  </a:lnTo>
                  <a:lnTo>
                    <a:pt x="221" y="23"/>
                  </a:lnTo>
                  <a:lnTo>
                    <a:pt x="281" y="9"/>
                  </a:lnTo>
                  <a:lnTo>
                    <a:pt x="330" y="0"/>
                  </a:lnTo>
                  <a:lnTo>
                    <a:pt x="367" y="3"/>
                  </a:lnTo>
                  <a:lnTo>
                    <a:pt x="337" y="33"/>
                  </a:lnTo>
                  <a:lnTo>
                    <a:pt x="299" y="56"/>
                  </a:lnTo>
                  <a:lnTo>
                    <a:pt x="250" y="75"/>
                  </a:lnTo>
                  <a:lnTo>
                    <a:pt x="198" y="93"/>
                  </a:lnTo>
                  <a:lnTo>
                    <a:pt x="142" y="106"/>
                  </a:lnTo>
                  <a:lnTo>
                    <a:pt x="87" y="120"/>
                  </a:lnTo>
                  <a:lnTo>
                    <a:pt x="37" y="131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40"/>
            <p:cNvSpPr/>
            <p:nvPr/>
          </p:nvSpPr>
          <p:spPr>
            <a:xfrm>
              <a:off x="7162560" y="4336560"/>
              <a:ext cx="107640" cy="234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226" h="366">
                  <a:moveTo>
                    <a:pt x="65" y="366"/>
                  </a:moveTo>
                  <a:lnTo>
                    <a:pt x="32" y="304"/>
                  </a:lnTo>
                  <a:lnTo>
                    <a:pt x="11" y="254"/>
                  </a:lnTo>
                  <a:lnTo>
                    <a:pt x="0" y="209"/>
                  </a:lnTo>
                  <a:lnTo>
                    <a:pt x="0" y="171"/>
                  </a:lnTo>
                  <a:lnTo>
                    <a:pt x="5" y="130"/>
                  </a:lnTo>
                  <a:lnTo>
                    <a:pt x="21" y="93"/>
                  </a:lnTo>
                  <a:lnTo>
                    <a:pt x="42" y="50"/>
                  </a:lnTo>
                  <a:lnTo>
                    <a:pt x="69" y="6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89" y="12"/>
                  </a:lnTo>
                  <a:lnTo>
                    <a:pt x="102" y="25"/>
                  </a:lnTo>
                  <a:lnTo>
                    <a:pt x="118" y="37"/>
                  </a:lnTo>
                  <a:lnTo>
                    <a:pt x="141" y="52"/>
                  </a:lnTo>
                  <a:lnTo>
                    <a:pt x="160" y="62"/>
                  </a:lnTo>
                  <a:lnTo>
                    <a:pt x="184" y="74"/>
                  </a:lnTo>
                  <a:lnTo>
                    <a:pt x="205" y="81"/>
                  </a:lnTo>
                  <a:lnTo>
                    <a:pt x="226" y="87"/>
                  </a:lnTo>
                  <a:lnTo>
                    <a:pt x="221" y="101"/>
                  </a:lnTo>
                  <a:lnTo>
                    <a:pt x="205" y="138"/>
                  </a:lnTo>
                  <a:lnTo>
                    <a:pt x="184" y="186"/>
                  </a:lnTo>
                  <a:lnTo>
                    <a:pt x="160" y="240"/>
                  </a:lnTo>
                  <a:lnTo>
                    <a:pt x="131" y="291"/>
                  </a:lnTo>
                  <a:lnTo>
                    <a:pt x="106" y="335"/>
                  </a:lnTo>
                  <a:lnTo>
                    <a:pt x="83" y="361"/>
                  </a:lnTo>
                  <a:lnTo>
                    <a:pt x="65" y="366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41"/>
            <p:cNvSpPr/>
            <p:nvPr/>
          </p:nvSpPr>
          <p:spPr>
            <a:xfrm>
              <a:off x="6155280" y="4430520"/>
              <a:ext cx="136080" cy="13860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289" h="217">
                  <a:moveTo>
                    <a:pt x="0" y="217"/>
                  </a:moveTo>
                  <a:lnTo>
                    <a:pt x="12" y="181"/>
                  </a:lnTo>
                  <a:lnTo>
                    <a:pt x="39" y="144"/>
                  </a:lnTo>
                  <a:lnTo>
                    <a:pt x="74" y="105"/>
                  </a:lnTo>
                  <a:lnTo>
                    <a:pt x="118" y="72"/>
                  </a:lnTo>
                  <a:lnTo>
                    <a:pt x="163" y="39"/>
                  </a:lnTo>
                  <a:lnTo>
                    <a:pt x="210" y="16"/>
                  </a:lnTo>
                  <a:lnTo>
                    <a:pt x="252" y="2"/>
                  </a:lnTo>
                  <a:lnTo>
                    <a:pt x="289" y="0"/>
                  </a:lnTo>
                  <a:lnTo>
                    <a:pt x="283" y="16"/>
                  </a:lnTo>
                  <a:lnTo>
                    <a:pt x="281" y="31"/>
                  </a:lnTo>
                  <a:lnTo>
                    <a:pt x="281" y="47"/>
                  </a:lnTo>
                  <a:lnTo>
                    <a:pt x="283" y="62"/>
                  </a:lnTo>
                  <a:lnTo>
                    <a:pt x="283" y="76"/>
                  </a:lnTo>
                  <a:lnTo>
                    <a:pt x="283" y="91"/>
                  </a:lnTo>
                  <a:lnTo>
                    <a:pt x="283" y="107"/>
                  </a:lnTo>
                  <a:lnTo>
                    <a:pt x="283" y="126"/>
                  </a:lnTo>
                  <a:lnTo>
                    <a:pt x="243" y="132"/>
                  </a:lnTo>
                  <a:lnTo>
                    <a:pt x="204" y="146"/>
                  </a:lnTo>
                  <a:lnTo>
                    <a:pt x="167" y="159"/>
                  </a:lnTo>
                  <a:lnTo>
                    <a:pt x="132" y="175"/>
                  </a:lnTo>
                  <a:lnTo>
                    <a:pt x="95" y="188"/>
                  </a:lnTo>
                  <a:lnTo>
                    <a:pt x="62" y="202"/>
                  </a:lnTo>
                  <a:lnTo>
                    <a:pt x="29" y="212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42"/>
            <p:cNvSpPr/>
            <p:nvPr/>
          </p:nvSpPr>
          <p:spPr>
            <a:xfrm>
              <a:off x="8195400" y="4415040"/>
              <a:ext cx="177840" cy="13860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377" h="215">
                  <a:moveTo>
                    <a:pt x="363" y="215"/>
                  </a:moveTo>
                  <a:lnTo>
                    <a:pt x="330" y="208"/>
                  </a:lnTo>
                  <a:lnTo>
                    <a:pt x="299" y="202"/>
                  </a:lnTo>
                  <a:lnTo>
                    <a:pt x="270" y="198"/>
                  </a:lnTo>
                  <a:lnTo>
                    <a:pt x="243" y="194"/>
                  </a:lnTo>
                  <a:lnTo>
                    <a:pt x="218" y="188"/>
                  </a:lnTo>
                  <a:lnTo>
                    <a:pt x="198" y="186"/>
                  </a:lnTo>
                  <a:lnTo>
                    <a:pt x="183" y="184"/>
                  </a:lnTo>
                  <a:lnTo>
                    <a:pt x="179" y="184"/>
                  </a:lnTo>
                  <a:lnTo>
                    <a:pt x="165" y="159"/>
                  </a:lnTo>
                  <a:lnTo>
                    <a:pt x="148" y="142"/>
                  </a:lnTo>
                  <a:lnTo>
                    <a:pt x="124" y="124"/>
                  </a:lnTo>
                  <a:lnTo>
                    <a:pt x="101" y="114"/>
                  </a:lnTo>
                  <a:lnTo>
                    <a:pt x="72" y="105"/>
                  </a:lnTo>
                  <a:lnTo>
                    <a:pt x="45" y="99"/>
                  </a:lnTo>
                  <a:lnTo>
                    <a:pt x="20" y="93"/>
                  </a:lnTo>
                  <a:lnTo>
                    <a:pt x="0" y="93"/>
                  </a:lnTo>
                  <a:lnTo>
                    <a:pt x="0" y="81"/>
                  </a:lnTo>
                  <a:lnTo>
                    <a:pt x="4" y="70"/>
                  </a:lnTo>
                  <a:lnTo>
                    <a:pt x="8" y="58"/>
                  </a:lnTo>
                  <a:lnTo>
                    <a:pt x="14" y="47"/>
                  </a:lnTo>
                  <a:lnTo>
                    <a:pt x="20" y="35"/>
                  </a:lnTo>
                  <a:lnTo>
                    <a:pt x="26" y="23"/>
                  </a:lnTo>
                  <a:lnTo>
                    <a:pt x="29" y="12"/>
                  </a:lnTo>
                  <a:lnTo>
                    <a:pt x="35" y="0"/>
                  </a:lnTo>
                  <a:lnTo>
                    <a:pt x="86" y="2"/>
                  </a:lnTo>
                  <a:lnTo>
                    <a:pt x="138" y="12"/>
                  </a:lnTo>
                  <a:lnTo>
                    <a:pt x="186" y="25"/>
                  </a:lnTo>
                  <a:lnTo>
                    <a:pt x="235" y="49"/>
                  </a:lnTo>
                  <a:lnTo>
                    <a:pt x="276" y="78"/>
                  </a:lnTo>
                  <a:lnTo>
                    <a:pt x="314" y="114"/>
                  </a:lnTo>
                  <a:lnTo>
                    <a:pt x="347" y="161"/>
                  </a:lnTo>
                  <a:lnTo>
                    <a:pt x="377" y="215"/>
                  </a:lnTo>
                  <a:lnTo>
                    <a:pt x="369" y="215"/>
                  </a:lnTo>
                  <a:lnTo>
                    <a:pt x="363" y="215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43"/>
            <p:cNvSpPr/>
            <p:nvPr/>
          </p:nvSpPr>
          <p:spPr>
            <a:xfrm>
              <a:off x="7011360" y="4222800"/>
              <a:ext cx="43200" cy="3268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91" h="509">
                  <a:moveTo>
                    <a:pt x="9" y="509"/>
                  </a:moveTo>
                  <a:lnTo>
                    <a:pt x="5" y="442"/>
                  </a:lnTo>
                  <a:lnTo>
                    <a:pt x="3" y="376"/>
                  </a:lnTo>
                  <a:lnTo>
                    <a:pt x="1" y="312"/>
                  </a:lnTo>
                  <a:lnTo>
                    <a:pt x="1" y="250"/>
                  </a:lnTo>
                  <a:lnTo>
                    <a:pt x="0" y="186"/>
                  </a:lnTo>
                  <a:lnTo>
                    <a:pt x="0" y="124"/>
                  </a:lnTo>
                  <a:lnTo>
                    <a:pt x="1" y="60"/>
                  </a:lnTo>
                  <a:lnTo>
                    <a:pt x="5" y="0"/>
                  </a:lnTo>
                  <a:lnTo>
                    <a:pt x="11" y="3"/>
                  </a:lnTo>
                  <a:lnTo>
                    <a:pt x="19" y="9"/>
                  </a:lnTo>
                  <a:lnTo>
                    <a:pt x="21" y="19"/>
                  </a:lnTo>
                  <a:lnTo>
                    <a:pt x="23" y="31"/>
                  </a:lnTo>
                  <a:lnTo>
                    <a:pt x="25" y="42"/>
                  </a:lnTo>
                  <a:lnTo>
                    <a:pt x="27" y="58"/>
                  </a:lnTo>
                  <a:lnTo>
                    <a:pt x="29" y="69"/>
                  </a:lnTo>
                  <a:lnTo>
                    <a:pt x="32" y="85"/>
                  </a:lnTo>
                  <a:lnTo>
                    <a:pt x="36" y="100"/>
                  </a:lnTo>
                  <a:lnTo>
                    <a:pt x="44" y="118"/>
                  </a:lnTo>
                  <a:lnTo>
                    <a:pt x="60" y="120"/>
                  </a:lnTo>
                  <a:lnTo>
                    <a:pt x="75" y="122"/>
                  </a:lnTo>
                  <a:lnTo>
                    <a:pt x="85" y="176"/>
                  </a:lnTo>
                  <a:lnTo>
                    <a:pt x="91" y="226"/>
                  </a:lnTo>
                  <a:lnTo>
                    <a:pt x="91" y="269"/>
                  </a:lnTo>
                  <a:lnTo>
                    <a:pt x="87" y="314"/>
                  </a:lnTo>
                  <a:lnTo>
                    <a:pt x="75" y="354"/>
                  </a:lnTo>
                  <a:lnTo>
                    <a:pt x="62" y="401"/>
                  </a:lnTo>
                  <a:lnTo>
                    <a:pt x="42" y="449"/>
                  </a:lnTo>
                  <a:lnTo>
                    <a:pt x="23" y="506"/>
                  </a:lnTo>
                  <a:lnTo>
                    <a:pt x="15" y="506"/>
                  </a:lnTo>
                  <a:lnTo>
                    <a:pt x="9" y="509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44"/>
            <p:cNvSpPr/>
            <p:nvPr/>
          </p:nvSpPr>
          <p:spPr>
            <a:xfrm>
              <a:off x="8464320" y="4488120"/>
              <a:ext cx="109800" cy="306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230" h="49">
                  <a:moveTo>
                    <a:pt x="213" y="49"/>
                  </a:moveTo>
                  <a:lnTo>
                    <a:pt x="186" y="41"/>
                  </a:lnTo>
                  <a:lnTo>
                    <a:pt x="159" y="37"/>
                  </a:lnTo>
                  <a:lnTo>
                    <a:pt x="131" y="33"/>
                  </a:lnTo>
                  <a:lnTo>
                    <a:pt x="106" y="33"/>
                  </a:lnTo>
                  <a:lnTo>
                    <a:pt x="79" y="30"/>
                  </a:lnTo>
                  <a:lnTo>
                    <a:pt x="52" y="28"/>
                  </a:lnTo>
                  <a:lnTo>
                    <a:pt x="25" y="24"/>
                  </a:lnTo>
                  <a:lnTo>
                    <a:pt x="0" y="18"/>
                  </a:lnTo>
                  <a:lnTo>
                    <a:pt x="11" y="8"/>
                  </a:lnTo>
                  <a:lnTo>
                    <a:pt x="34" y="2"/>
                  </a:lnTo>
                  <a:lnTo>
                    <a:pt x="65" y="0"/>
                  </a:lnTo>
                  <a:lnTo>
                    <a:pt x="102" y="2"/>
                  </a:lnTo>
                  <a:lnTo>
                    <a:pt x="139" y="6"/>
                  </a:lnTo>
                  <a:lnTo>
                    <a:pt x="174" y="14"/>
                  </a:lnTo>
                  <a:lnTo>
                    <a:pt x="205" y="24"/>
                  </a:lnTo>
                  <a:lnTo>
                    <a:pt x="230" y="39"/>
                  </a:lnTo>
                  <a:lnTo>
                    <a:pt x="221" y="47"/>
                  </a:lnTo>
                  <a:lnTo>
                    <a:pt x="213" y="49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45"/>
            <p:cNvSpPr/>
            <p:nvPr/>
          </p:nvSpPr>
          <p:spPr>
            <a:xfrm>
              <a:off x="8373600" y="4454640"/>
              <a:ext cx="87840" cy="4464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86" h="70">
                  <a:moveTo>
                    <a:pt x="164" y="70"/>
                  </a:moveTo>
                  <a:lnTo>
                    <a:pt x="135" y="62"/>
                  </a:lnTo>
                  <a:lnTo>
                    <a:pt x="112" y="56"/>
                  </a:lnTo>
                  <a:lnTo>
                    <a:pt x="91" y="52"/>
                  </a:lnTo>
                  <a:lnTo>
                    <a:pt x="73" y="49"/>
                  </a:lnTo>
                  <a:lnTo>
                    <a:pt x="54" y="43"/>
                  </a:lnTo>
                  <a:lnTo>
                    <a:pt x="36" y="37"/>
                  </a:lnTo>
                  <a:lnTo>
                    <a:pt x="17" y="29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23" y="0"/>
                  </a:lnTo>
                  <a:lnTo>
                    <a:pt x="46" y="2"/>
                  </a:lnTo>
                  <a:lnTo>
                    <a:pt x="69" y="6"/>
                  </a:lnTo>
                  <a:lnTo>
                    <a:pt x="95" y="14"/>
                  </a:lnTo>
                  <a:lnTo>
                    <a:pt x="118" y="19"/>
                  </a:lnTo>
                  <a:lnTo>
                    <a:pt x="141" y="29"/>
                  </a:lnTo>
                  <a:lnTo>
                    <a:pt x="162" y="41"/>
                  </a:lnTo>
                  <a:lnTo>
                    <a:pt x="186" y="56"/>
                  </a:lnTo>
                  <a:lnTo>
                    <a:pt x="182" y="60"/>
                  </a:lnTo>
                  <a:lnTo>
                    <a:pt x="182" y="66"/>
                  </a:lnTo>
                  <a:lnTo>
                    <a:pt x="170" y="68"/>
                  </a:lnTo>
                  <a:lnTo>
                    <a:pt x="164" y="7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46"/>
            <p:cNvSpPr/>
            <p:nvPr/>
          </p:nvSpPr>
          <p:spPr>
            <a:xfrm>
              <a:off x="7067160" y="4163400"/>
              <a:ext cx="112320" cy="22428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224280"/>
                <a:gd name="textAreaBottom" fmla="*/ 224640 h 224280"/>
              </a:gdLst>
              <a:ahLst/>
              <a:rect l="textAreaLeft" t="textAreaTop" r="textAreaRight" b="textAreaBottom"/>
              <a:pathLst>
                <a:path w="236" h="349">
                  <a:moveTo>
                    <a:pt x="79" y="349"/>
                  </a:moveTo>
                  <a:lnTo>
                    <a:pt x="60" y="349"/>
                  </a:lnTo>
                  <a:lnTo>
                    <a:pt x="44" y="349"/>
                  </a:lnTo>
                  <a:lnTo>
                    <a:pt x="21" y="295"/>
                  </a:lnTo>
                  <a:lnTo>
                    <a:pt x="8" y="245"/>
                  </a:lnTo>
                  <a:lnTo>
                    <a:pt x="0" y="196"/>
                  </a:lnTo>
                  <a:lnTo>
                    <a:pt x="4" y="152"/>
                  </a:lnTo>
                  <a:lnTo>
                    <a:pt x="15" y="107"/>
                  </a:lnTo>
                  <a:lnTo>
                    <a:pt x="39" y="68"/>
                  </a:lnTo>
                  <a:lnTo>
                    <a:pt x="74" y="31"/>
                  </a:lnTo>
                  <a:lnTo>
                    <a:pt x="124" y="0"/>
                  </a:lnTo>
                  <a:lnTo>
                    <a:pt x="130" y="14"/>
                  </a:lnTo>
                  <a:lnTo>
                    <a:pt x="145" y="41"/>
                  </a:lnTo>
                  <a:lnTo>
                    <a:pt x="163" y="76"/>
                  </a:lnTo>
                  <a:lnTo>
                    <a:pt x="184" y="117"/>
                  </a:lnTo>
                  <a:lnTo>
                    <a:pt x="203" y="155"/>
                  </a:lnTo>
                  <a:lnTo>
                    <a:pt x="221" y="194"/>
                  </a:lnTo>
                  <a:lnTo>
                    <a:pt x="231" y="225"/>
                  </a:lnTo>
                  <a:lnTo>
                    <a:pt x="236" y="245"/>
                  </a:lnTo>
                  <a:lnTo>
                    <a:pt x="213" y="272"/>
                  </a:lnTo>
                  <a:lnTo>
                    <a:pt x="196" y="295"/>
                  </a:lnTo>
                  <a:lnTo>
                    <a:pt x="182" y="313"/>
                  </a:lnTo>
                  <a:lnTo>
                    <a:pt x="170" y="328"/>
                  </a:lnTo>
                  <a:lnTo>
                    <a:pt x="155" y="336"/>
                  </a:lnTo>
                  <a:lnTo>
                    <a:pt x="138" y="344"/>
                  </a:lnTo>
                  <a:lnTo>
                    <a:pt x="112" y="347"/>
                  </a:lnTo>
                  <a:lnTo>
                    <a:pt x="79" y="3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47"/>
            <p:cNvSpPr/>
            <p:nvPr/>
          </p:nvSpPr>
          <p:spPr>
            <a:xfrm>
              <a:off x="7152120" y="3962160"/>
              <a:ext cx="155160" cy="39240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328" h="611">
                  <a:moveTo>
                    <a:pt x="208" y="611"/>
                  </a:moveTo>
                  <a:lnTo>
                    <a:pt x="173" y="578"/>
                  </a:lnTo>
                  <a:lnTo>
                    <a:pt x="134" y="535"/>
                  </a:lnTo>
                  <a:lnTo>
                    <a:pt x="91" y="483"/>
                  </a:lnTo>
                  <a:lnTo>
                    <a:pt x="55" y="429"/>
                  </a:lnTo>
                  <a:lnTo>
                    <a:pt x="24" y="371"/>
                  </a:lnTo>
                  <a:lnTo>
                    <a:pt x="4" y="320"/>
                  </a:lnTo>
                  <a:lnTo>
                    <a:pt x="0" y="278"/>
                  </a:lnTo>
                  <a:lnTo>
                    <a:pt x="20" y="248"/>
                  </a:lnTo>
                  <a:lnTo>
                    <a:pt x="51" y="235"/>
                  </a:lnTo>
                  <a:lnTo>
                    <a:pt x="89" y="210"/>
                  </a:lnTo>
                  <a:lnTo>
                    <a:pt x="130" y="175"/>
                  </a:lnTo>
                  <a:lnTo>
                    <a:pt x="173" y="136"/>
                  </a:lnTo>
                  <a:lnTo>
                    <a:pt x="212" y="93"/>
                  </a:lnTo>
                  <a:lnTo>
                    <a:pt x="245" y="56"/>
                  </a:lnTo>
                  <a:lnTo>
                    <a:pt x="268" y="22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4"/>
                  </a:lnTo>
                  <a:lnTo>
                    <a:pt x="311" y="80"/>
                  </a:lnTo>
                  <a:lnTo>
                    <a:pt x="322" y="155"/>
                  </a:lnTo>
                  <a:lnTo>
                    <a:pt x="328" y="231"/>
                  </a:lnTo>
                  <a:lnTo>
                    <a:pt x="328" y="307"/>
                  </a:lnTo>
                  <a:lnTo>
                    <a:pt x="318" y="382"/>
                  </a:lnTo>
                  <a:lnTo>
                    <a:pt x="303" y="458"/>
                  </a:lnTo>
                  <a:lnTo>
                    <a:pt x="278" y="533"/>
                  </a:lnTo>
                  <a:lnTo>
                    <a:pt x="247" y="611"/>
                  </a:lnTo>
                  <a:lnTo>
                    <a:pt x="225" y="611"/>
                  </a:lnTo>
                  <a:lnTo>
                    <a:pt x="208" y="611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48"/>
            <p:cNvSpPr/>
            <p:nvPr/>
          </p:nvSpPr>
          <p:spPr>
            <a:xfrm>
              <a:off x="7041600" y="4018680"/>
              <a:ext cx="60480" cy="2228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128" h="349">
                  <a:moveTo>
                    <a:pt x="11" y="349"/>
                  </a:moveTo>
                  <a:lnTo>
                    <a:pt x="3" y="298"/>
                  </a:lnTo>
                  <a:lnTo>
                    <a:pt x="1" y="25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9" y="127"/>
                  </a:lnTo>
                  <a:lnTo>
                    <a:pt x="21" y="87"/>
                  </a:lnTo>
                  <a:lnTo>
                    <a:pt x="36" y="44"/>
                  </a:lnTo>
                  <a:lnTo>
                    <a:pt x="60" y="3"/>
                  </a:lnTo>
                  <a:lnTo>
                    <a:pt x="65" y="1"/>
                  </a:lnTo>
                  <a:lnTo>
                    <a:pt x="73" y="0"/>
                  </a:lnTo>
                  <a:lnTo>
                    <a:pt x="96" y="58"/>
                  </a:lnTo>
                  <a:lnTo>
                    <a:pt x="114" y="104"/>
                  </a:lnTo>
                  <a:lnTo>
                    <a:pt x="124" y="141"/>
                  </a:lnTo>
                  <a:lnTo>
                    <a:pt x="128" y="174"/>
                  </a:lnTo>
                  <a:lnTo>
                    <a:pt x="116" y="205"/>
                  </a:lnTo>
                  <a:lnTo>
                    <a:pt x="96" y="244"/>
                  </a:lnTo>
                  <a:lnTo>
                    <a:pt x="62" y="288"/>
                  </a:lnTo>
                  <a:lnTo>
                    <a:pt x="15" y="349"/>
                  </a:lnTo>
                  <a:lnTo>
                    <a:pt x="13" y="349"/>
                  </a:lnTo>
                  <a:lnTo>
                    <a:pt x="11" y="349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49"/>
            <p:cNvSpPr/>
            <p:nvPr/>
          </p:nvSpPr>
          <p:spPr>
            <a:xfrm>
              <a:off x="6543360" y="3019320"/>
              <a:ext cx="925920" cy="1086480"/>
            </a:xfrm>
            <a:custGeom>
              <a:avLst/>
              <a:gdLst>
                <a:gd name="textAreaLeft" fmla="*/ 0 w 925920"/>
                <a:gd name="textAreaRight" fmla="*/ 926280 w 925920"/>
                <a:gd name="textAreaTop" fmla="*/ 0 h 1086480"/>
                <a:gd name="textAreaBottom" fmla="*/ 1086840 h 1086480"/>
              </a:gdLst>
              <a:ahLst/>
              <a:rect l="textAreaLeft" t="textAreaTop" r="textAreaRight" b="textAreaBottom"/>
              <a:pathLst>
                <a:path w="1957" h="1692">
                  <a:moveTo>
                    <a:pt x="1240" y="1692"/>
                  </a:moveTo>
                  <a:lnTo>
                    <a:pt x="1226" y="1669"/>
                  </a:lnTo>
                  <a:lnTo>
                    <a:pt x="1214" y="1648"/>
                  </a:lnTo>
                  <a:lnTo>
                    <a:pt x="1203" y="1624"/>
                  </a:lnTo>
                  <a:lnTo>
                    <a:pt x="1191" y="1603"/>
                  </a:lnTo>
                  <a:lnTo>
                    <a:pt x="1180" y="1580"/>
                  </a:lnTo>
                  <a:lnTo>
                    <a:pt x="1172" y="1558"/>
                  </a:lnTo>
                  <a:lnTo>
                    <a:pt x="1166" y="1539"/>
                  </a:lnTo>
                  <a:lnTo>
                    <a:pt x="1162" y="1522"/>
                  </a:lnTo>
                  <a:lnTo>
                    <a:pt x="1195" y="1508"/>
                  </a:lnTo>
                  <a:lnTo>
                    <a:pt x="1226" y="1496"/>
                  </a:lnTo>
                  <a:lnTo>
                    <a:pt x="1253" y="1479"/>
                  </a:lnTo>
                  <a:lnTo>
                    <a:pt x="1280" y="1462"/>
                  </a:lnTo>
                  <a:lnTo>
                    <a:pt x="1300" y="1438"/>
                  </a:lnTo>
                  <a:lnTo>
                    <a:pt x="1319" y="1413"/>
                  </a:lnTo>
                  <a:lnTo>
                    <a:pt x="1331" y="1382"/>
                  </a:lnTo>
                  <a:lnTo>
                    <a:pt x="1341" y="1347"/>
                  </a:lnTo>
                  <a:lnTo>
                    <a:pt x="1329" y="1347"/>
                  </a:lnTo>
                  <a:lnTo>
                    <a:pt x="1319" y="1351"/>
                  </a:lnTo>
                  <a:lnTo>
                    <a:pt x="1278" y="1423"/>
                  </a:lnTo>
                  <a:lnTo>
                    <a:pt x="1232" y="1460"/>
                  </a:lnTo>
                  <a:lnTo>
                    <a:pt x="1182" y="1465"/>
                  </a:lnTo>
                  <a:lnTo>
                    <a:pt x="1131" y="1450"/>
                  </a:lnTo>
                  <a:lnTo>
                    <a:pt x="1079" y="1413"/>
                  </a:lnTo>
                  <a:lnTo>
                    <a:pt x="1032" y="1366"/>
                  </a:lnTo>
                  <a:lnTo>
                    <a:pt x="991" y="1312"/>
                  </a:lnTo>
                  <a:lnTo>
                    <a:pt x="960" y="1260"/>
                  </a:lnTo>
                  <a:lnTo>
                    <a:pt x="960" y="1246"/>
                  </a:lnTo>
                  <a:lnTo>
                    <a:pt x="960" y="1239"/>
                  </a:lnTo>
                  <a:lnTo>
                    <a:pt x="974" y="1223"/>
                  </a:lnTo>
                  <a:lnTo>
                    <a:pt x="995" y="1200"/>
                  </a:lnTo>
                  <a:lnTo>
                    <a:pt x="1021" y="1169"/>
                  </a:lnTo>
                  <a:lnTo>
                    <a:pt x="1050" y="1136"/>
                  </a:lnTo>
                  <a:lnTo>
                    <a:pt x="1073" y="1099"/>
                  </a:lnTo>
                  <a:lnTo>
                    <a:pt x="1096" y="1068"/>
                  </a:lnTo>
                  <a:lnTo>
                    <a:pt x="1112" y="1043"/>
                  </a:lnTo>
                  <a:lnTo>
                    <a:pt x="1121" y="1029"/>
                  </a:lnTo>
                  <a:lnTo>
                    <a:pt x="1106" y="1029"/>
                  </a:lnTo>
                  <a:lnTo>
                    <a:pt x="1092" y="1031"/>
                  </a:lnTo>
                  <a:lnTo>
                    <a:pt x="1075" y="1033"/>
                  </a:lnTo>
                  <a:lnTo>
                    <a:pt x="1057" y="1037"/>
                  </a:lnTo>
                  <a:lnTo>
                    <a:pt x="1040" y="1041"/>
                  </a:lnTo>
                  <a:lnTo>
                    <a:pt x="1024" y="1045"/>
                  </a:lnTo>
                  <a:lnTo>
                    <a:pt x="1011" y="1050"/>
                  </a:lnTo>
                  <a:lnTo>
                    <a:pt x="1005" y="1058"/>
                  </a:lnTo>
                  <a:lnTo>
                    <a:pt x="993" y="1118"/>
                  </a:lnTo>
                  <a:lnTo>
                    <a:pt x="968" y="1161"/>
                  </a:lnTo>
                  <a:lnTo>
                    <a:pt x="931" y="1184"/>
                  </a:lnTo>
                  <a:lnTo>
                    <a:pt x="889" y="1194"/>
                  </a:lnTo>
                  <a:lnTo>
                    <a:pt x="844" y="1186"/>
                  </a:lnTo>
                  <a:lnTo>
                    <a:pt x="805" y="1165"/>
                  </a:lnTo>
                  <a:lnTo>
                    <a:pt x="774" y="1130"/>
                  </a:lnTo>
                  <a:lnTo>
                    <a:pt x="761" y="1085"/>
                  </a:lnTo>
                  <a:lnTo>
                    <a:pt x="807" y="1089"/>
                  </a:lnTo>
                  <a:lnTo>
                    <a:pt x="844" y="1089"/>
                  </a:lnTo>
                  <a:lnTo>
                    <a:pt x="869" y="1083"/>
                  </a:lnTo>
                  <a:lnTo>
                    <a:pt x="889" y="1074"/>
                  </a:lnTo>
                  <a:lnTo>
                    <a:pt x="900" y="1056"/>
                  </a:lnTo>
                  <a:lnTo>
                    <a:pt x="908" y="1035"/>
                  </a:lnTo>
                  <a:lnTo>
                    <a:pt x="912" y="1006"/>
                  </a:lnTo>
                  <a:lnTo>
                    <a:pt x="918" y="971"/>
                  </a:lnTo>
                  <a:lnTo>
                    <a:pt x="997" y="952"/>
                  </a:lnTo>
                  <a:lnTo>
                    <a:pt x="1069" y="901"/>
                  </a:lnTo>
                  <a:lnTo>
                    <a:pt x="1127" y="831"/>
                  </a:lnTo>
                  <a:lnTo>
                    <a:pt x="1172" y="752"/>
                  </a:lnTo>
                  <a:lnTo>
                    <a:pt x="1197" y="670"/>
                  </a:lnTo>
                  <a:lnTo>
                    <a:pt x="1205" y="599"/>
                  </a:lnTo>
                  <a:lnTo>
                    <a:pt x="1185" y="546"/>
                  </a:lnTo>
                  <a:lnTo>
                    <a:pt x="1145" y="523"/>
                  </a:lnTo>
                  <a:lnTo>
                    <a:pt x="1079" y="539"/>
                  </a:lnTo>
                  <a:lnTo>
                    <a:pt x="1024" y="562"/>
                  </a:lnTo>
                  <a:lnTo>
                    <a:pt x="978" y="581"/>
                  </a:lnTo>
                  <a:lnTo>
                    <a:pt x="939" y="597"/>
                  </a:lnTo>
                  <a:lnTo>
                    <a:pt x="902" y="599"/>
                  </a:lnTo>
                  <a:lnTo>
                    <a:pt x="865" y="585"/>
                  </a:lnTo>
                  <a:lnTo>
                    <a:pt x="829" y="550"/>
                  </a:lnTo>
                  <a:lnTo>
                    <a:pt x="790" y="492"/>
                  </a:lnTo>
                  <a:lnTo>
                    <a:pt x="757" y="451"/>
                  </a:lnTo>
                  <a:lnTo>
                    <a:pt x="732" y="420"/>
                  </a:lnTo>
                  <a:lnTo>
                    <a:pt x="710" y="393"/>
                  </a:lnTo>
                  <a:lnTo>
                    <a:pt x="697" y="368"/>
                  </a:lnTo>
                  <a:lnTo>
                    <a:pt x="683" y="339"/>
                  </a:lnTo>
                  <a:lnTo>
                    <a:pt x="673" y="306"/>
                  </a:lnTo>
                  <a:lnTo>
                    <a:pt x="664" y="265"/>
                  </a:lnTo>
                  <a:lnTo>
                    <a:pt x="656" y="217"/>
                  </a:lnTo>
                  <a:lnTo>
                    <a:pt x="631" y="201"/>
                  </a:lnTo>
                  <a:lnTo>
                    <a:pt x="604" y="190"/>
                  </a:lnTo>
                  <a:lnTo>
                    <a:pt x="576" y="182"/>
                  </a:lnTo>
                  <a:lnTo>
                    <a:pt x="551" y="182"/>
                  </a:lnTo>
                  <a:lnTo>
                    <a:pt x="524" y="184"/>
                  </a:lnTo>
                  <a:lnTo>
                    <a:pt x="501" y="193"/>
                  </a:lnTo>
                  <a:lnTo>
                    <a:pt x="479" y="207"/>
                  </a:lnTo>
                  <a:lnTo>
                    <a:pt x="464" y="230"/>
                  </a:lnTo>
                  <a:lnTo>
                    <a:pt x="470" y="232"/>
                  </a:lnTo>
                  <a:lnTo>
                    <a:pt x="485" y="232"/>
                  </a:lnTo>
                  <a:lnTo>
                    <a:pt x="503" y="228"/>
                  </a:lnTo>
                  <a:lnTo>
                    <a:pt x="526" y="226"/>
                  </a:lnTo>
                  <a:lnTo>
                    <a:pt x="547" y="222"/>
                  </a:lnTo>
                  <a:lnTo>
                    <a:pt x="571" y="226"/>
                  </a:lnTo>
                  <a:lnTo>
                    <a:pt x="590" y="234"/>
                  </a:lnTo>
                  <a:lnTo>
                    <a:pt x="607" y="255"/>
                  </a:lnTo>
                  <a:lnTo>
                    <a:pt x="592" y="296"/>
                  </a:lnTo>
                  <a:lnTo>
                    <a:pt x="567" y="316"/>
                  </a:lnTo>
                  <a:lnTo>
                    <a:pt x="530" y="319"/>
                  </a:lnTo>
                  <a:lnTo>
                    <a:pt x="491" y="317"/>
                  </a:lnTo>
                  <a:lnTo>
                    <a:pt x="452" y="314"/>
                  </a:lnTo>
                  <a:lnTo>
                    <a:pt x="419" y="317"/>
                  </a:lnTo>
                  <a:lnTo>
                    <a:pt x="396" y="335"/>
                  </a:lnTo>
                  <a:lnTo>
                    <a:pt x="388" y="378"/>
                  </a:lnTo>
                  <a:lnTo>
                    <a:pt x="355" y="389"/>
                  </a:lnTo>
                  <a:lnTo>
                    <a:pt x="315" y="401"/>
                  </a:lnTo>
                  <a:lnTo>
                    <a:pt x="266" y="407"/>
                  </a:lnTo>
                  <a:lnTo>
                    <a:pt x="218" y="409"/>
                  </a:lnTo>
                  <a:lnTo>
                    <a:pt x="167" y="405"/>
                  </a:lnTo>
                  <a:lnTo>
                    <a:pt x="123" y="395"/>
                  </a:lnTo>
                  <a:lnTo>
                    <a:pt x="88" y="380"/>
                  </a:lnTo>
                  <a:lnTo>
                    <a:pt x="66" y="360"/>
                  </a:lnTo>
                  <a:lnTo>
                    <a:pt x="16" y="298"/>
                  </a:lnTo>
                  <a:lnTo>
                    <a:pt x="0" y="242"/>
                  </a:lnTo>
                  <a:lnTo>
                    <a:pt x="8" y="190"/>
                  </a:lnTo>
                  <a:lnTo>
                    <a:pt x="39" y="145"/>
                  </a:lnTo>
                  <a:lnTo>
                    <a:pt x="84" y="106"/>
                  </a:lnTo>
                  <a:lnTo>
                    <a:pt x="142" y="81"/>
                  </a:lnTo>
                  <a:lnTo>
                    <a:pt x="206" y="67"/>
                  </a:lnTo>
                  <a:lnTo>
                    <a:pt x="272" y="69"/>
                  </a:lnTo>
                  <a:lnTo>
                    <a:pt x="297" y="127"/>
                  </a:lnTo>
                  <a:lnTo>
                    <a:pt x="324" y="168"/>
                  </a:lnTo>
                  <a:lnTo>
                    <a:pt x="351" y="190"/>
                  </a:lnTo>
                  <a:lnTo>
                    <a:pt x="379" y="193"/>
                  </a:lnTo>
                  <a:lnTo>
                    <a:pt x="400" y="178"/>
                  </a:lnTo>
                  <a:lnTo>
                    <a:pt x="421" y="145"/>
                  </a:lnTo>
                  <a:lnTo>
                    <a:pt x="435" y="95"/>
                  </a:lnTo>
                  <a:lnTo>
                    <a:pt x="446" y="29"/>
                  </a:lnTo>
                  <a:lnTo>
                    <a:pt x="487" y="1"/>
                  </a:lnTo>
                  <a:lnTo>
                    <a:pt x="574" y="0"/>
                  </a:lnTo>
                  <a:lnTo>
                    <a:pt x="693" y="13"/>
                  </a:lnTo>
                  <a:lnTo>
                    <a:pt x="834" y="40"/>
                  </a:lnTo>
                  <a:lnTo>
                    <a:pt x="980" y="73"/>
                  </a:lnTo>
                  <a:lnTo>
                    <a:pt x="1121" y="112"/>
                  </a:lnTo>
                  <a:lnTo>
                    <a:pt x="1246" y="149"/>
                  </a:lnTo>
                  <a:lnTo>
                    <a:pt x="1341" y="182"/>
                  </a:lnTo>
                  <a:lnTo>
                    <a:pt x="1323" y="195"/>
                  </a:lnTo>
                  <a:lnTo>
                    <a:pt x="1294" y="222"/>
                  </a:lnTo>
                  <a:lnTo>
                    <a:pt x="1261" y="254"/>
                  </a:lnTo>
                  <a:lnTo>
                    <a:pt x="1230" y="292"/>
                  </a:lnTo>
                  <a:lnTo>
                    <a:pt x="1205" y="325"/>
                  </a:lnTo>
                  <a:lnTo>
                    <a:pt x="1197" y="356"/>
                  </a:lnTo>
                  <a:lnTo>
                    <a:pt x="1213" y="378"/>
                  </a:lnTo>
                  <a:lnTo>
                    <a:pt x="1257" y="387"/>
                  </a:lnTo>
                  <a:lnTo>
                    <a:pt x="1271" y="378"/>
                  </a:lnTo>
                  <a:lnTo>
                    <a:pt x="1288" y="370"/>
                  </a:lnTo>
                  <a:lnTo>
                    <a:pt x="1296" y="366"/>
                  </a:lnTo>
                  <a:lnTo>
                    <a:pt x="1306" y="364"/>
                  </a:lnTo>
                  <a:lnTo>
                    <a:pt x="1317" y="364"/>
                  </a:lnTo>
                  <a:lnTo>
                    <a:pt x="1331" y="366"/>
                  </a:lnTo>
                  <a:lnTo>
                    <a:pt x="1329" y="403"/>
                  </a:lnTo>
                  <a:lnTo>
                    <a:pt x="1331" y="445"/>
                  </a:lnTo>
                  <a:lnTo>
                    <a:pt x="1335" y="486"/>
                  </a:lnTo>
                  <a:lnTo>
                    <a:pt x="1344" y="521"/>
                  </a:lnTo>
                  <a:lnTo>
                    <a:pt x="1358" y="540"/>
                  </a:lnTo>
                  <a:lnTo>
                    <a:pt x="1381" y="544"/>
                  </a:lnTo>
                  <a:lnTo>
                    <a:pt x="1410" y="523"/>
                  </a:lnTo>
                  <a:lnTo>
                    <a:pt x="1453" y="475"/>
                  </a:lnTo>
                  <a:lnTo>
                    <a:pt x="1461" y="476"/>
                  </a:lnTo>
                  <a:lnTo>
                    <a:pt x="1469" y="478"/>
                  </a:lnTo>
                  <a:lnTo>
                    <a:pt x="1470" y="478"/>
                  </a:lnTo>
                  <a:lnTo>
                    <a:pt x="1476" y="482"/>
                  </a:lnTo>
                  <a:lnTo>
                    <a:pt x="1463" y="496"/>
                  </a:lnTo>
                  <a:lnTo>
                    <a:pt x="1449" y="511"/>
                  </a:lnTo>
                  <a:lnTo>
                    <a:pt x="1438" y="525"/>
                  </a:lnTo>
                  <a:lnTo>
                    <a:pt x="1428" y="542"/>
                  </a:lnTo>
                  <a:lnTo>
                    <a:pt x="1416" y="556"/>
                  </a:lnTo>
                  <a:lnTo>
                    <a:pt x="1410" y="573"/>
                  </a:lnTo>
                  <a:lnTo>
                    <a:pt x="1406" y="591"/>
                  </a:lnTo>
                  <a:lnTo>
                    <a:pt x="1406" y="614"/>
                  </a:lnTo>
                  <a:lnTo>
                    <a:pt x="1408" y="616"/>
                  </a:lnTo>
                  <a:lnTo>
                    <a:pt x="1410" y="618"/>
                  </a:lnTo>
                  <a:lnTo>
                    <a:pt x="1467" y="554"/>
                  </a:lnTo>
                  <a:lnTo>
                    <a:pt x="1527" y="496"/>
                  </a:lnTo>
                  <a:lnTo>
                    <a:pt x="1587" y="442"/>
                  </a:lnTo>
                  <a:lnTo>
                    <a:pt x="1651" y="405"/>
                  </a:lnTo>
                  <a:lnTo>
                    <a:pt x="1715" y="385"/>
                  </a:lnTo>
                  <a:lnTo>
                    <a:pt x="1787" y="389"/>
                  </a:lnTo>
                  <a:lnTo>
                    <a:pt x="1856" y="424"/>
                  </a:lnTo>
                  <a:lnTo>
                    <a:pt x="1934" y="496"/>
                  </a:lnTo>
                  <a:lnTo>
                    <a:pt x="1938" y="515"/>
                  </a:lnTo>
                  <a:lnTo>
                    <a:pt x="1944" y="535"/>
                  </a:lnTo>
                  <a:lnTo>
                    <a:pt x="1948" y="554"/>
                  </a:lnTo>
                  <a:lnTo>
                    <a:pt x="1953" y="575"/>
                  </a:lnTo>
                  <a:lnTo>
                    <a:pt x="1955" y="597"/>
                  </a:lnTo>
                  <a:lnTo>
                    <a:pt x="1957" y="620"/>
                  </a:lnTo>
                  <a:lnTo>
                    <a:pt x="1955" y="645"/>
                  </a:lnTo>
                  <a:lnTo>
                    <a:pt x="1955" y="674"/>
                  </a:lnTo>
                  <a:lnTo>
                    <a:pt x="1917" y="723"/>
                  </a:lnTo>
                  <a:lnTo>
                    <a:pt x="1872" y="769"/>
                  </a:lnTo>
                  <a:lnTo>
                    <a:pt x="1822" y="814"/>
                  </a:lnTo>
                  <a:lnTo>
                    <a:pt x="1765" y="855"/>
                  </a:lnTo>
                  <a:lnTo>
                    <a:pt x="1705" y="888"/>
                  </a:lnTo>
                  <a:lnTo>
                    <a:pt x="1645" y="917"/>
                  </a:lnTo>
                  <a:lnTo>
                    <a:pt x="1585" y="938"/>
                  </a:lnTo>
                  <a:lnTo>
                    <a:pt x="1529" y="953"/>
                  </a:lnTo>
                  <a:lnTo>
                    <a:pt x="1517" y="946"/>
                  </a:lnTo>
                  <a:lnTo>
                    <a:pt x="1505" y="942"/>
                  </a:lnTo>
                  <a:lnTo>
                    <a:pt x="1494" y="940"/>
                  </a:lnTo>
                  <a:lnTo>
                    <a:pt x="1484" y="940"/>
                  </a:lnTo>
                  <a:lnTo>
                    <a:pt x="1465" y="940"/>
                  </a:lnTo>
                  <a:lnTo>
                    <a:pt x="1449" y="942"/>
                  </a:lnTo>
                  <a:lnTo>
                    <a:pt x="1430" y="924"/>
                  </a:lnTo>
                  <a:lnTo>
                    <a:pt x="1414" y="909"/>
                  </a:lnTo>
                  <a:lnTo>
                    <a:pt x="1401" y="891"/>
                  </a:lnTo>
                  <a:lnTo>
                    <a:pt x="1391" y="876"/>
                  </a:lnTo>
                  <a:lnTo>
                    <a:pt x="1379" y="858"/>
                  </a:lnTo>
                  <a:lnTo>
                    <a:pt x="1372" y="843"/>
                  </a:lnTo>
                  <a:lnTo>
                    <a:pt x="1364" y="826"/>
                  </a:lnTo>
                  <a:lnTo>
                    <a:pt x="1362" y="810"/>
                  </a:lnTo>
                  <a:lnTo>
                    <a:pt x="1333" y="827"/>
                  </a:lnTo>
                  <a:lnTo>
                    <a:pt x="1329" y="855"/>
                  </a:lnTo>
                  <a:lnTo>
                    <a:pt x="1339" y="884"/>
                  </a:lnTo>
                  <a:lnTo>
                    <a:pt x="1360" y="917"/>
                  </a:lnTo>
                  <a:lnTo>
                    <a:pt x="1379" y="948"/>
                  </a:lnTo>
                  <a:lnTo>
                    <a:pt x="1395" y="979"/>
                  </a:lnTo>
                  <a:lnTo>
                    <a:pt x="1401" y="1004"/>
                  </a:lnTo>
                  <a:lnTo>
                    <a:pt x="1389" y="1023"/>
                  </a:lnTo>
                  <a:lnTo>
                    <a:pt x="1389" y="1031"/>
                  </a:lnTo>
                  <a:lnTo>
                    <a:pt x="1389" y="1041"/>
                  </a:lnTo>
                  <a:lnTo>
                    <a:pt x="1405" y="1033"/>
                  </a:lnTo>
                  <a:lnTo>
                    <a:pt x="1422" y="1027"/>
                  </a:lnTo>
                  <a:lnTo>
                    <a:pt x="1439" y="1021"/>
                  </a:lnTo>
                  <a:lnTo>
                    <a:pt x="1459" y="1016"/>
                  </a:lnTo>
                  <a:lnTo>
                    <a:pt x="1447" y="1060"/>
                  </a:lnTo>
                  <a:lnTo>
                    <a:pt x="1438" y="1111"/>
                  </a:lnTo>
                  <a:lnTo>
                    <a:pt x="1434" y="1161"/>
                  </a:lnTo>
                  <a:lnTo>
                    <a:pt x="1436" y="1213"/>
                  </a:lnTo>
                  <a:lnTo>
                    <a:pt x="1441" y="1264"/>
                  </a:lnTo>
                  <a:lnTo>
                    <a:pt x="1461" y="1312"/>
                  </a:lnTo>
                  <a:lnTo>
                    <a:pt x="1488" y="1357"/>
                  </a:lnTo>
                  <a:lnTo>
                    <a:pt x="1529" y="1396"/>
                  </a:lnTo>
                  <a:lnTo>
                    <a:pt x="1519" y="1438"/>
                  </a:lnTo>
                  <a:lnTo>
                    <a:pt x="1498" y="1489"/>
                  </a:lnTo>
                  <a:lnTo>
                    <a:pt x="1465" y="1537"/>
                  </a:lnTo>
                  <a:lnTo>
                    <a:pt x="1426" y="1586"/>
                  </a:lnTo>
                  <a:lnTo>
                    <a:pt x="1379" y="1626"/>
                  </a:lnTo>
                  <a:lnTo>
                    <a:pt x="1331" y="1661"/>
                  </a:lnTo>
                  <a:lnTo>
                    <a:pt x="1282" y="1683"/>
                  </a:lnTo>
                  <a:lnTo>
                    <a:pt x="1240" y="169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Freeform 50"/>
            <p:cNvSpPr/>
            <p:nvPr/>
          </p:nvSpPr>
          <p:spPr>
            <a:xfrm>
              <a:off x="6526440" y="3274560"/>
              <a:ext cx="568800" cy="50652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1202" h="789">
                  <a:moveTo>
                    <a:pt x="327" y="789"/>
                  </a:moveTo>
                  <a:lnTo>
                    <a:pt x="285" y="748"/>
                  </a:lnTo>
                  <a:lnTo>
                    <a:pt x="254" y="706"/>
                  </a:lnTo>
                  <a:lnTo>
                    <a:pt x="234" y="661"/>
                  </a:lnTo>
                  <a:lnTo>
                    <a:pt x="223" y="617"/>
                  </a:lnTo>
                  <a:lnTo>
                    <a:pt x="211" y="570"/>
                  </a:lnTo>
                  <a:lnTo>
                    <a:pt x="203" y="529"/>
                  </a:lnTo>
                  <a:lnTo>
                    <a:pt x="192" y="491"/>
                  </a:lnTo>
                  <a:lnTo>
                    <a:pt x="178" y="461"/>
                  </a:lnTo>
                  <a:lnTo>
                    <a:pt x="164" y="461"/>
                  </a:lnTo>
                  <a:lnTo>
                    <a:pt x="155" y="461"/>
                  </a:lnTo>
                  <a:lnTo>
                    <a:pt x="147" y="461"/>
                  </a:lnTo>
                  <a:lnTo>
                    <a:pt x="143" y="465"/>
                  </a:lnTo>
                  <a:lnTo>
                    <a:pt x="137" y="467"/>
                  </a:lnTo>
                  <a:lnTo>
                    <a:pt x="133" y="473"/>
                  </a:lnTo>
                  <a:lnTo>
                    <a:pt x="129" y="481"/>
                  </a:lnTo>
                  <a:lnTo>
                    <a:pt x="126" y="493"/>
                  </a:lnTo>
                  <a:lnTo>
                    <a:pt x="122" y="481"/>
                  </a:lnTo>
                  <a:lnTo>
                    <a:pt x="124" y="465"/>
                  </a:lnTo>
                  <a:lnTo>
                    <a:pt x="129" y="446"/>
                  </a:lnTo>
                  <a:lnTo>
                    <a:pt x="135" y="427"/>
                  </a:lnTo>
                  <a:lnTo>
                    <a:pt x="141" y="403"/>
                  </a:lnTo>
                  <a:lnTo>
                    <a:pt x="149" y="384"/>
                  </a:lnTo>
                  <a:lnTo>
                    <a:pt x="153" y="365"/>
                  </a:lnTo>
                  <a:lnTo>
                    <a:pt x="157" y="353"/>
                  </a:lnTo>
                  <a:lnTo>
                    <a:pt x="143" y="343"/>
                  </a:lnTo>
                  <a:lnTo>
                    <a:pt x="135" y="341"/>
                  </a:lnTo>
                  <a:lnTo>
                    <a:pt x="128" y="341"/>
                  </a:lnTo>
                  <a:lnTo>
                    <a:pt x="122" y="343"/>
                  </a:lnTo>
                  <a:lnTo>
                    <a:pt x="110" y="351"/>
                  </a:lnTo>
                  <a:lnTo>
                    <a:pt x="98" y="365"/>
                  </a:lnTo>
                  <a:lnTo>
                    <a:pt x="81" y="380"/>
                  </a:lnTo>
                  <a:lnTo>
                    <a:pt x="64" y="396"/>
                  </a:lnTo>
                  <a:lnTo>
                    <a:pt x="44" y="407"/>
                  </a:lnTo>
                  <a:lnTo>
                    <a:pt x="27" y="419"/>
                  </a:lnTo>
                  <a:lnTo>
                    <a:pt x="9" y="425"/>
                  </a:lnTo>
                  <a:lnTo>
                    <a:pt x="0" y="427"/>
                  </a:lnTo>
                  <a:lnTo>
                    <a:pt x="7" y="372"/>
                  </a:lnTo>
                  <a:lnTo>
                    <a:pt x="29" y="320"/>
                  </a:lnTo>
                  <a:lnTo>
                    <a:pt x="58" y="268"/>
                  </a:lnTo>
                  <a:lnTo>
                    <a:pt x="95" y="221"/>
                  </a:lnTo>
                  <a:lnTo>
                    <a:pt x="133" y="175"/>
                  </a:lnTo>
                  <a:lnTo>
                    <a:pt x="176" y="134"/>
                  </a:lnTo>
                  <a:lnTo>
                    <a:pt x="219" y="95"/>
                  </a:lnTo>
                  <a:lnTo>
                    <a:pt x="261" y="64"/>
                  </a:lnTo>
                  <a:lnTo>
                    <a:pt x="279" y="60"/>
                  </a:lnTo>
                  <a:lnTo>
                    <a:pt x="300" y="56"/>
                  </a:lnTo>
                  <a:lnTo>
                    <a:pt x="318" y="52"/>
                  </a:lnTo>
                  <a:lnTo>
                    <a:pt x="339" y="50"/>
                  </a:lnTo>
                  <a:lnTo>
                    <a:pt x="358" y="47"/>
                  </a:lnTo>
                  <a:lnTo>
                    <a:pt x="378" y="45"/>
                  </a:lnTo>
                  <a:lnTo>
                    <a:pt x="397" y="43"/>
                  </a:lnTo>
                  <a:lnTo>
                    <a:pt x="418" y="43"/>
                  </a:lnTo>
                  <a:lnTo>
                    <a:pt x="438" y="12"/>
                  </a:lnTo>
                  <a:lnTo>
                    <a:pt x="479" y="0"/>
                  </a:lnTo>
                  <a:lnTo>
                    <a:pt x="531" y="4"/>
                  </a:lnTo>
                  <a:lnTo>
                    <a:pt x="591" y="19"/>
                  </a:lnTo>
                  <a:lnTo>
                    <a:pt x="651" y="43"/>
                  </a:lnTo>
                  <a:lnTo>
                    <a:pt x="707" y="72"/>
                  </a:lnTo>
                  <a:lnTo>
                    <a:pt x="754" y="101"/>
                  </a:lnTo>
                  <a:lnTo>
                    <a:pt x="785" y="130"/>
                  </a:lnTo>
                  <a:lnTo>
                    <a:pt x="820" y="190"/>
                  </a:lnTo>
                  <a:lnTo>
                    <a:pt x="863" y="229"/>
                  </a:lnTo>
                  <a:lnTo>
                    <a:pt x="905" y="244"/>
                  </a:lnTo>
                  <a:lnTo>
                    <a:pt x="954" y="246"/>
                  </a:lnTo>
                  <a:lnTo>
                    <a:pt x="1004" y="233"/>
                  </a:lnTo>
                  <a:lnTo>
                    <a:pt x="1060" y="217"/>
                  </a:lnTo>
                  <a:lnTo>
                    <a:pt x="1122" y="196"/>
                  </a:lnTo>
                  <a:lnTo>
                    <a:pt x="1190" y="182"/>
                  </a:lnTo>
                  <a:lnTo>
                    <a:pt x="1202" y="213"/>
                  </a:lnTo>
                  <a:lnTo>
                    <a:pt x="1196" y="258"/>
                  </a:lnTo>
                  <a:lnTo>
                    <a:pt x="1179" y="308"/>
                  </a:lnTo>
                  <a:lnTo>
                    <a:pt x="1152" y="365"/>
                  </a:lnTo>
                  <a:lnTo>
                    <a:pt x="1115" y="417"/>
                  </a:lnTo>
                  <a:lnTo>
                    <a:pt x="1078" y="465"/>
                  </a:lnTo>
                  <a:lnTo>
                    <a:pt x="1039" y="502"/>
                  </a:lnTo>
                  <a:lnTo>
                    <a:pt x="1008" y="527"/>
                  </a:lnTo>
                  <a:lnTo>
                    <a:pt x="971" y="524"/>
                  </a:lnTo>
                  <a:lnTo>
                    <a:pt x="938" y="516"/>
                  </a:lnTo>
                  <a:lnTo>
                    <a:pt x="907" y="506"/>
                  </a:lnTo>
                  <a:lnTo>
                    <a:pt x="886" y="502"/>
                  </a:lnTo>
                  <a:lnTo>
                    <a:pt x="870" y="502"/>
                  </a:lnTo>
                  <a:lnTo>
                    <a:pt x="866" y="516"/>
                  </a:lnTo>
                  <a:lnTo>
                    <a:pt x="874" y="543"/>
                  </a:lnTo>
                  <a:lnTo>
                    <a:pt x="899" y="588"/>
                  </a:lnTo>
                  <a:lnTo>
                    <a:pt x="899" y="599"/>
                  </a:lnTo>
                  <a:lnTo>
                    <a:pt x="899" y="613"/>
                  </a:lnTo>
                  <a:lnTo>
                    <a:pt x="899" y="626"/>
                  </a:lnTo>
                  <a:lnTo>
                    <a:pt x="903" y="640"/>
                  </a:lnTo>
                  <a:lnTo>
                    <a:pt x="882" y="650"/>
                  </a:lnTo>
                  <a:lnTo>
                    <a:pt x="855" y="651"/>
                  </a:lnTo>
                  <a:lnTo>
                    <a:pt x="822" y="646"/>
                  </a:lnTo>
                  <a:lnTo>
                    <a:pt x="791" y="636"/>
                  </a:lnTo>
                  <a:lnTo>
                    <a:pt x="756" y="624"/>
                  </a:lnTo>
                  <a:lnTo>
                    <a:pt x="725" y="615"/>
                  </a:lnTo>
                  <a:lnTo>
                    <a:pt x="698" y="605"/>
                  </a:lnTo>
                  <a:lnTo>
                    <a:pt x="676" y="605"/>
                  </a:lnTo>
                  <a:lnTo>
                    <a:pt x="676" y="619"/>
                  </a:lnTo>
                  <a:lnTo>
                    <a:pt x="676" y="634"/>
                  </a:lnTo>
                  <a:lnTo>
                    <a:pt x="676" y="648"/>
                  </a:lnTo>
                  <a:lnTo>
                    <a:pt x="678" y="663"/>
                  </a:lnTo>
                  <a:lnTo>
                    <a:pt x="678" y="679"/>
                  </a:lnTo>
                  <a:lnTo>
                    <a:pt x="680" y="694"/>
                  </a:lnTo>
                  <a:lnTo>
                    <a:pt x="682" y="710"/>
                  </a:lnTo>
                  <a:lnTo>
                    <a:pt x="684" y="727"/>
                  </a:lnTo>
                  <a:lnTo>
                    <a:pt x="661" y="754"/>
                  </a:lnTo>
                  <a:lnTo>
                    <a:pt x="634" y="764"/>
                  </a:lnTo>
                  <a:lnTo>
                    <a:pt x="599" y="754"/>
                  </a:lnTo>
                  <a:lnTo>
                    <a:pt x="564" y="737"/>
                  </a:lnTo>
                  <a:lnTo>
                    <a:pt x="527" y="710"/>
                  </a:lnTo>
                  <a:lnTo>
                    <a:pt x="496" y="683"/>
                  </a:lnTo>
                  <a:lnTo>
                    <a:pt x="469" y="657"/>
                  </a:lnTo>
                  <a:lnTo>
                    <a:pt x="453" y="640"/>
                  </a:lnTo>
                  <a:lnTo>
                    <a:pt x="440" y="640"/>
                  </a:lnTo>
                  <a:lnTo>
                    <a:pt x="428" y="640"/>
                  </a:lnTo>
                  <a:lnTo>
                    <a:pt x="415" y="663"/>
                  </a:lnTo>
                  <a:lnTo>
                    <a:pt x="409" y="686"/>
                  </a:lnTo>
                  <a:lnTo>
                    <a:pt x="407" y="710"/>
                  </a:lnTo>
                  <a:lnTo>
                    <a:pt x="405" y="733"/>
                  </a:lnTo>
                  <a:lnTo>
                    <a:pt x="397" y="752"/>
                  </a:lnTo>
                  <a:lnTo>
                    <a:pt x="385" y="770"/>
                  </a:lnTo>
                  <a:lnTo>
                    <a:pt x="362" y="781"/>
                  </a:lnTo>
                  <a:lnTo>
                    <a:pt x="327" y="789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51"/>
            <p:cNvSpPr/>
            <p:nvPr/>
          </p:nvSpPr>
          <p:spPr>
            <a:xfrm>
              <a:off x="7852680" y="3511800"/>
              <a:ext cx="195840" cy="197280"/>
            </a:xfrm>
            <a:custGeom>
              <a:avLst/>
              <a:gdLst>
                <a:gd name="textAreaLeft" fmla="*/ 0 w 195840"/>
                <a:gd name="textAreaRight" fmla="*/ 196200 w 19584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13" h="309">
                  <a:moveTo>
                    <a:pt x="297" y="305"/>
                  </a:moveTo>
                  <a:lnTo>
                    <a:pt x="285" y="289"/>
                  </a:lnTo>
                  <a:lnTo>
                    <a:pt x="273" y="276"/>
                  </a:lnTo>
                  <a:lnTo>
                    <a:pt x="262" y="260"/>
                  </a:lnTo>
                  <a:lnTo>
                    <a:pt x="252" y="249"/>
                  </a:lnTo>
                  <a:lnTo>
                    <a:pt x="240" y="233"/>
                  </a:lnTo>
                  <a:lnTo>
                    <a:pt x="231" y="219"/>
                  </a:lnTo>
                  <a:lnTo>
                    <a:pt x="219" y="206"/>
                  </a:lnTo>
                  <a:lnTo>
                    <a:pt x="209" y="192"/>
                  </a:lnTo>
                  <a:lnTo>
                    <a:pt x="202" y="192"/>
                  </a:lnTo>
                  <a:lnTo>
                    <a:pt x="196" y="192"/>
                  </a:lnTo>
                  <a:lnTo>
                    <a:pt x="182" y="202"/>
                  </a:lnTo>
                  <a:lnTo>
                    <a:pt x="174" y="212"/>
                  </a:lnTo>
                  <a:lnTo>
                    <a:pt x="169" y="219"/>
                  </a:lnTo>
                  <a:lnTo>
                    <a:pt x="167" y="229"/>
                  </a:lnTo>
                  <a:lnTo>
                    <a:pt x="165" y="237"/>
                  </a:lnTo>
                  <a:lnTo>
                    <a:pt x="167" y="250"/>
                  </a:lnTo>
                  <a:lnTo>
                    <a:pt x="169" y="266"/>
                  </a:lnTo>
                  <a:lnTo>
                    <a:pt x="174" y="287"/>
                  </a:lnTo>
                  <a:lnTo>
                    <a:pt x="169" y="287"/>
                  </a:lnTo>
                  <a:lnTo>
                    <a:pt x="165" y="291"/>
                  </a:lnTo>
                  <a:lnTo>
                    <a:pt x="159" y="274"/>
                  </a:lnTo>
                  <a:lnTo>
                    <a:pt x="155" y="258"/>
                  </a:lnTo>
                  <a:lnTo>
                    <a:pt x="153" y="245"/>
                  </a:lnTo>
                  <a:lnTo>
                    <a:pt x="151" y="229"/>
                  </a:lnTo>
                  <a:lnTo>
                    <a:pt x="149" y="208"/>
                  </a:lnTo>
                  <a:lnTo>
                    <a:pt x="147" y="183"/>
                  </a:lnTo>
                  <a:lnTo>
                    <a:pt x="122" y="175"/>
                  </a:lnTo>
                  <a:lnTo>
                    <a:pt x="103" y="179"/>
                  </a:lnTo>
                  <a:lnTo>
                    <a:pt x="85" y="192"/>
                  </a:lnTo>
                  <a:lnTo>
                    <a:pt x="74" y="212"/>
                  </a:lnTo>
                  <a:lnTo>
                    <a:pt x="58" y="233"/>
                  </a:lnTo>
                  <a:lnTo>
                    <a:pt x="43" y="254"/>
                  </a:lnTo>
                  <a:lnTo>
                    <a:pt x="23" y="272"/>
                  </a:lnTo>
                  <a:lnTo>
                    <a:pt x="0" y="283"/>
                  </a:lnTo>
                  <a:lnTo>
                    <a:pt x="2" y="268"/>
                  </a:lnTo>
                  <a:lnTo>
                    <a:pt x="10" y="252"/>
                  </a:lnTo>
                  <a:lnTo>
                    <a:pt x="19" y="237"/>
                  </a:lnTo>
                  <a:lnTo>
                    <a:pt x="33" y="223"/>
                  </a:lnTo>
                  <a:lnTo>
                    <a:pt x="45" y="208"/>
                  </a:lnTo>
                  <a:lnTo>
                    <a:pt x="58" y="194"/>
                  </a:lnTo>
                  <a:lnTo>
                    <a:pt x="68" y="179"/>
                  </a:lnTo>
                  <a:lnTo>
                    <a:pt x="78" y="165"/>
                  </a:lnTo>
                  <a:lnTo>
                    <a:pt x="87" y="144"/>
                  </a:lnTo>
                  <a:lnTo>
                    <a:pt x="99" y="124"/>
                  </a:lnTo>
                  <a:lnTo>
                    <a:pt x="107" y="103"/>
                  </a:lnTo>
                  <a:lnTo>
                    <a:pt x="114" y="84"/>
                  </a:lnTo>
                  <a:lnTo>
                    <a:pt x="118" y="60"/>
                  </a:lnTo>
                  <a:lnTo>
                    <a:pt x="124" y="39"/>
                  </a:lnTo>
                  <a:lnTo>
                    <a:pt x="126" y="18"/>
                  </a:lnTo>
                  <a:lnTo>
                    <a:pt x="130" y="0"/>
                  </a:lnTo>
                  <a:lnTo>
                    <a:pt x="136" y="0"/>
                  </a:lnTo>
                  <a:lnTo>
                    <a:pt x="147" y="0"/>
                  </a:lnTo>
                  <a:lnTo>
                    <a:pt x="145" y="22"/>
                  </a:lnTo>
                  <a:lnTo>
                    <a:pt x="143" y="41"/>
                  </a:lnTo>
                  <a:lnTo>
                    <a:pt x="142" y="57"/>
                  </a:lnTo>
                  <a:lnTo>
                    <a:pt x="142" y="72"/>
                  </a:lnTo>
                  <a:lnTo>
                    <a:pt x="138" y="86"/>
                  </a:lnTo>
                  <a:lnTo>
                    <a:pt x="136" y="105"/>
                  </a:lnTo>
                  <a:lnTo>
                    <a:pt x="132" y="130"/>
                  </a:lnTo>
                  <a:lnTo>
                    <a:pt x="130" y="161"/>
                  </a:lnTo>
                  <a:lnTo>
                    <a:pt x="140" y="161"/>
                  </a:lnTo>
                  <a:lnTo>
                    <a:pt x="151" y="161"/>
                  </a:lnTo>
                  <a:lnTo>
                    <a:pt x="159" y="146"/>
                  </a:lnTo>
                  <a:lnTo>
                    <a:pt x="167" y="130"/>
                  </a:lnTo>
                  <a:lnTo>
                    <a:pt x="171" y="109"/>
                  </a:lnTo>
                  <a:lnTo>
                    <a:pt x="176" y="88"/>
                  </a:lnTo>
                  <a:lnTo>
                    <a:pt x="178" y="64"/>
                  </a:lnTo>
                  <a:lnTo>
                    <a:pt x="182" y="41"/>
                  </a:lnTo>
                  <a:lnTo>
                    <a:pt x="184" y="22"/>
                  </a:lnTo>
                  <a:lnTo>
                    <a:pt x="186" y="8"/>
                  </a:lnTo>
                  <a:lnTo>
                    <a:pt x="192" y="8"/>
                  </a:lnTo>
                  <a:lnTo>
                    <a:pt x="200" y="8"/>
                  </a:lnTo>
                  <a:lnTo>
                    <a:pt x="200" y="18"/>
                  </a:lnTo>
                  <a:lnTo>
                    <a:pt x="200" y="33"/>
                  </a:lnTo>
                  <a:lnTo>
                    <a:pt x="200" y="51"/>
                  </a:lnTo>
                  <a:lnTo>
                    <a:pt x="202" y="70"/>
                  </a:lnTo>
                  <a:lnTo>
                    <a:pt x="202" y="88"/>
                  </a:lnTo>
                  <a:lnTo>
                    <a:pt x="207" y="105"/>
                  </a:lnTo>
                  <a:lnTo>
                    <a:pt x="211" y="119"/>
                  </a:lnTo>
                  <a:lnTo>
                    <a:pt x="221" y="134"/>
                  </a:lnTo>
                  <a:lnTo>
                    <a:pt x="227" y="130"/>
                  </a:lnTo>
                  <a:lnTo>
                    <a:pt x="235" y="130"/>
                  </a:lnTo>
                  <a:lnTo>
                    <a:pt x="235" y="113"/>
                  </a:lnTo>
                  <a:lnTo>
                    <a:pt x="237" y="97"/>
                  </a:lnTo>
                  <a:lnTo>
                    <a:pt x="237" y="80"/>
                  </a:lnTo>
                  <a:lnTo>
                    <a:pt x="238" y="64"/>
                  </a:lnTo>
                  <a:lnTo>
                    <a:pt x="238" y="47"/>
                  </a:lnTo>
                  <a:lnTo>
                    <a:pt x="238" y="31"/>
                  </a:lnTo>
                  <a:lnTo>
                    <a:pt x="240" y="16"/>
                  </a:lnTo>
                  <a:lnTo>
                    <a:pt x="244" y="0"/>
                  </a:lnTo>
                  <a:lnTo>
                    <a:pt x="256" y="0"/>
                  </a:lnTo>
                  <a:lnTo>
                    <a:pt x="273" y="0"/>
                  </a:lnTo>
                  <a:lnTo>
                    <a:pt x="271" y="16"/>
                  </a:lnTo>
                  <a:lnTo>
                    <a:pt x="271" y="31"/>
                  </a:lnTo>
                  <a:lnTo>
                    <a:pt x="270" y="47"/>
                  </a:lnTo>
                  <a:lnTo>
                    <a:pt x="271" y="64"/>
                  </a:lnTo>
                  <a:lnTo>
                    <a:pt x="273" y="82"/>
                  </a:lnTo>
                  <a:lnTo>
                    <a:pt x="281" y="99"/>
                  </a:lnTo>
                  <a:lnTo>
                    <a:pt x="289" y="117"/>
                  </a:lnTo>
                  <a:lnTo>
                    <a:pt x="304" y="134"/>
                  </a:lnTo>
                  <a:lnTo>
                    <a:pt x="316" y="140"/>
                  </a:lnTo>
                  <a:lnTo>
                    <a:pt x="334" y="150"/>
                  </a:lnTo>
                  <a:lnTo>
                    <a:pt x="351" y="159"/>
                  </a:lnTo>
                  <a:lnTo>
                    <a:pt x="372" y="173"/>
                  </a:lnTo>
                  <a:lnTo>
                    <a:pt x="388" y="186"/>
                  </a:lnTo>
                  <a:lnTo>
                    <a:pt x="403" y="206"/>
                  </a:lnTo>
                  <a:lnTo>
                    <a:pt x="411" y="225"/>
                  </a:lnTo>
                  <a:lnTo>
                    <a:pt x="413" y="249"/>
                  </a:lnTo>
                  <a:lnTo>
                    <a:pt x="392" y="245"/>
                  </a:lnTo>
                  <a:lnTo>
                    <a:pt x="374" y="239"/>
                  </a:lnTo>
                  <a:lnTo>
                    <a:pt x="361" y="231"/>
                  </a:lnTo>
                  <a:lnTo>
                    <a:pt x="349" y="221"/>
                  </a:lnTo>
                  <a:lnTo>
                    <a:pt x="337" y="208"/>
                  </a:lnTo>
                  <a:lnTo>
                    <a:pt x="332" y="194"/>
                  </a:lnTo>
                  <a:lnTo>
                    <a:pt x="326" y="179"/>
                  </a:lnTo>
                  <a:lnTo>
                    <a:pt x="326" y="165"/>
                  </a:lnTo>
                  <a:lnTo>
                    <a:pt x="289" y="167"/>
                  </a:lnTo>
                  <a:lnTo>
                    <a:pt x="271" y="179"/>
                  </a:lnTo>
                  <a:lnTo>
                    <a:pt x="268" y="194"/>
                  </a:lnTo>
                  <a:lnTo>
                    <a:pt x="277" y="216"/>
                  </a:lnTo>
                  <a:lnTo>
                    <a:pt x="287" y="239"/>
                  </a:lnTo>
                  <a:lnTo>
                    <a:pt x="301" y="262"/>
                  </a:lnTo>
                  <a:lnTo>
                    <a:pt x="306" y="285"/>
                  </a:lnTo>
                  <a:lnTo>
                    <a:pt x="308" y="309"/>
                  </a:lnTo>
                  <a:lnTo>
                    <a:pt x="302" y="307"/>
                  </a:lnTo>
                  <a:lnTo>
                    <a:pt x="297" y="30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52"/>
            <p:cNvSpPr/>
            <p:nvPr/>
          </p:nvSpPr>
          <p:spPr>
            <a:xfrm>
              <a:off x="7237440" y="3328200"/>
              <a:ext cx="182880" cy="25272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386" h="396">
                  <a:moveTo>
                    <a:pt x="62" y="396"/>
                  </a:moveTo>
                  <a:lnTo>
                    <a:pt x="48" y="388"/>
                  </a:lnTo>
                  <a:lnTo>
                    <a:pt x="35" y="384"/>
                  </a:lnTo>
                  <a:lnTo>
                    <a:pt x="21" y="380"/>
                  </a:lnTo>
                  <a:lnTo>
                    <a:pt x="9" y="378"/>
                  </a:lnTo>
                  <a:lnTo>
                    <a:pt x="3" y="367"/>
                  </a:lnTo>
                  <a:lnTo>
                    <a:pt x="3" y="357"/>
                  </a:lnTo>
                  <a:lnTo>
                    <a:pt x="2" y="349"/>
                  </a:lnTo>
                  <a:lnTo>
                    <a:pt x="2" y="342"/>
                  </a:lnTo>
                  <a:lnTo>
                    <a:pt x="0" y="328"/>
                  </a:lnTo>
                  <a:lnTo>
                    <a:pt x="0" y="316"/>
                  </a:lnTo>
                  <a:lnTo>
                    <a:pt x="48" y="280"/>
                  </a:lnTo>
                  <a:lnTo>
                    <a:pt x="79" y="254"/>
                  </a:lnTo>
                  <a:lnTo>
                    <a:pt x="95" y="229"/>
                  </a:lnTo>
                  <a:lnTo>
                    <a:pt x="100" y="210"/>
                  </a:lnTo>
                  <a:lnTo>
                    <a:pt x="97" y="185"/>
                  </a:lnTo>
                  <a:lnTo>
                    <a:pt x="91" y="157"/>
                  </a:lnTo>
                  <a:lnTo>
                    <a:pt x="85" y="123"/>
                  </a:lnTo>
                  <a:lnTo>
                    <a:pt x="83" y="78"/>
                  </a:lnTo>
                  <a:lnTo>
                    <a:pt x="180" y="8"/>
                  </a:lnTo>
                  <a:lnTo>
                    <a:pt x="265" y="0"/>
                  </a:lnTo>
                  <a:lnTo>
                    <a:pt x="329" y="37"/>
                  </a:lnTo>
                  <a:lnTo>
                    <a:pt x="372" y="103"/>
                  </a:lnTo>
                  <a:lnTo>
                    <a:pt x="386" y="179"/>
                  </a:lnTo>
                  <a:lnTo>
                    <a:pt x="366" y="252"/>
                  </a:lnTo>
                  <a:lnTo>
                    <a:pt x="308" y="303"/>
                  </a:lnTo>
                  <a:lnTo>
                    <a:pt x="209" y="316"/>
                  </a:lnTo>
                  <a:lnTo>
                    <a:pt x="209" y="311"/>
                  </a:lnTo>
                  <a:lnTo>
                    <a:pt x="209" y="305"/>
                  </a:lnTo>
                  <a:lnTo>
                    <a:pt x="234" y="278"/>
                  </a:lnTo>
                  <a:lnTo>
                    <a:pt x="261" y="258"/>
                  </a:lnTo>
                  <a:lnTo>
                    <a:pt x="285" y="239"/>
                  </a:lnTo>
                  <a:lnTo>
                    <a:pt x="304" y="223"/>
                  </a:lnTo>
                  <a:lnTo>
                    <a:pt x="316" y="202"/>
                  </a:lnTo>
                  <a:lnTo>
                    <a:pt x="322" y="177"/>
                  </a:lnTo>
                  <a:lnTo>
                    <a:pt x="318" y="146"/>
                  </a:lnTo>
                  <a:lnTo>
                    <a:pt x="306" y="107"/>
                  </a:lnTo>
                  <a:lnTo>
                    <a:pt x="287" y="86"/>
                  </a:lnTo>
                  <a:lnTo>
                    <a:pt x="269" y="72"/>
                  </a:lnTo>
                  <a:lnTo>
                    <a:pt x="252" y="62"/>
                  </a:lnTo>
                  <a:lnTo>
                    <a:pt x="234" y="60"/>
                  </a:lnTo>
                  <a:lnTo>
                    <a:pt x="213" y="59"/>
                  </a:lnTo>
                  <a:lnTo>
                    <a:pt x="195" y="64"/>
                  </a:lnTo>
                  <a:lnTo>
                    <a:pt x="174" y="72"/>
                  </a:lnTo>
                  <a:lnTo>
                    <a:pt x="157" y="86"/>
                  </a:lnTo>
                  <a:lnTo>
                    <a:pt x="161" y="109"/>
                  </a:lnTo>
                  <a:lnTo>
                    <a:pt x="172" y="136"/>
                  </a:lnTo>
                  <a:lnTo>
                    <a:pt x="186" y="165"/>
                  </a:lnTo>
                  <a:lnTo>
                    <a:pt x="201" y="194"/>
                  </a:lnTo>
                  <a:lnTo>
                    <a:pt x="207" y="221"/>
                  </a:lnTo>
                  <a:lnTo>
                    <a:pt x="203" y="251"/>
                  </a:lnTo>
                  <a:lnTo>
                    <a:pt x="182" y="276"/>
                  </a:lnTo>
                  <a:lnTo>
                    <a:pt x="143" y="299"/>
                  </a:lnTo>
                  <a:lnTo>
                    <a:pt x="131" y="309"/>
                  </a:lnTo>
                  <a:lnTo>
                    <a:pt x="122" y="322"/>
                  </a:lnTo>
                  <a:lnTo>
                    <a:pt x="108" y="332"/>
                  </a:lnTo>
                  <a:lnTo>
                    <a:pt x="97" y="344"/>
                  </a:lnTo>
                  <a:lnTo>
                    <a:pt x="97" y="349"/>
                  </a:lnTo>
                  <a:lnTo>
                    <a:pt x="97" y="361"/>
                  </a:lnTo>
                  <a:lnTo>
                    <a:pt x="100" y="361"/>
                  </a:lnTo>
                  <a:lnTo>
                    <a:pt x="108" y="361"/>
                  </a:lnTo>
                  <a:lnTo>
                    <a:pt x="108" y="373"/>
                  </a:lnTo>
                  <a:lnTo>
                    <a:pt x="108" y="386"/>
                  </a:lnTo>
                  <a:lnTo>
                    <a:pt x="93" y="390"/>
                  </a:lnTo>
                  <a:lnTo>
                    <a:pt x="85" y="394"/>
                  </a:lnTo>
                  <a:lnTo>
                    <a:pt x="75" y="394"/>
                  </a:lnTo>
                  <a:lnTo>
                    <a:pt x="62" y="3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53"/>
            <p:cNvSpPr/>
            <p:nvPr/>
          </p:nvSpPr>
          <p:spPr>
            <a:xfrm>
              <a:off x="7893360" y="3352680"/>
              <a:ext cx="87120" cy="130680"/>
            </a:xfrm>
            <a:custGeom>
              <a:avLst/>
              <a:gdLst>
                <a:gd name="textAreaLeft" fmla="*/ 0 w 87120"/>
                <a:gd name="textAreaRight" fmla="*/ 87120 w 8712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85" h="204">
                  <a:moveTo>
                    <a:pt x="107" y="204"/>
                  </a:moveTo>
                  <a:lnTo>
                    <a:pt x="43" y="177"/>
                  </a:lnTo>
                  <a:lnTo>
                    <a:pt x="10" y="132"/>
                  </a:lnTo>
                  <a:lnTo>
                    <a:pt x="0" y="80"/>
                  </a:lnTo>
                  <a:lnTo>
                    <a:pt x="12" y="33"/>
                  </a:lnTo>
                  <a:lnTo>
                    <a:pt x="39" y="2"/>
                  </a:lnTo>
                  <a:lnTo>
                    <a:pt x="80" y="0"/>
                  </a:lnTo>
                  <a:lnTo>
                    <a:pt x="128" y="41"/>
                  </a:lnTo>
                  <a:lnTo>
                    <a:pt x="185" y="138"/>
                  </a:lnTo>
                  <a:lnTo>
                    <a:pt x="185" y="149"/>
                  </a:lnTo>
                  <a:lnTo>
                    <a:pt x="185" y="163"/>
                  </a:lnTo>
                  <a:lnTo>
                    <a:pt x="185" y="177"/>
                  </a:lnTo>
                  <a:lnTo>
                    <a:pt x="185" y="190"/>
                  </a:lnTo>
                  <a:lnTo>
                    <a:pt x="163" y="198"/>
                  </a:lnTo>
                  <a:lnTo>
                    <a:pt x="144" y="202"/>
                  </a:lnTo>
                  <a:lnTo>
                    <a:pt x="122" y="202"/>
                  </a:lnTo>
                  <a:lnTo>
                    <a:pt x="107" y="204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54"/>
            <p:cNvSpPr/>
            <p:nvPr/>
          </p:nvSpPr>
          <p:spPr>
            <a:xfrm>
              <a:off x="7131600" y="3155400"/>
              <a:ext cx="173880" cy="184680"/>
            </a:xfrm>
            <a:custGeom>
              <a:avLst/>
              <a:gdLst>
                <a:gd name="textAreaLeft" fmla="*/ 0 w 173880"/>
                <a:gd name="textAreaRight" fmla="*/ 173880 w 173880"/>
                <a:gd name="textAreaTop" fmla="*/ 0 h 184680"/>
                <a:gd name="textAreaBottom" fmla="*/ 185040 h 184680"/>
              </a:gdLst>
              <a:ahLst/>
              <a:rect l="textAreaLeft" t="textAreaTop" r="textAreaRight" b="textAreaBottom"/>
              <a:pathLst>
                <a:path w="366" h="289">
                  <a:moveTo>
                    <a:pt x="128" y="289"/>
                  </a:moveTo>
                  <a:lnTo>
                    <a:pt x="128" y="260"/>
                  </a:lnTo>
                  <a:lnTo>
                    <a:pt x="130" y="233"/>
                  </a:lnTo>
                  <a:lnTo>
                    <a:pt x="133" y="205"/>
                  </a:lnTo>
                  <a:lnTo>
                    <a:pt x="139" y="182"/>
                  </a:lnTo>
                  <a:lnTo>
                    <a:pt x="143" y="157"/>
                  </a:lnTo>
                  <a:lnTo>
                    <a:pt x="147" y="134"/>
                  </a:lnTo>
                  <a:lnTo>
                    <a:pt x="151" y="112"/>
                  </a:lnTo>
                  <a:lnTo>
                    <a:pt x="153" y="93"/>
                  </a:lnTo>
                  <a:lnTo>
                    <a:pt x="130" y="83"/>
                  </a:lnTo>
                  <a:lnTo>
                    <a:pt x="110" y="85"/>
                  </a:lnTo>
                  <a:lnTo>
                    <a:pt x="93" y="91"/>
                  </a:lnTo>
                  <a:lnTo>
                    <a:pt x="75" y="103"/>
                  </a:lnTo>
                  <a:lnTo>
                    <a:pt x="58" y="114"/>
                  </a:lnTo>
                  <a:lnTo>
                    <a:pt x="40" y="126"/>
                  </a:lnTo>
                  <a:lnTo>
                    <a:pt x="21" y="132"/>
                  </a:lnTo>
                  <a:lnTo>
                    <a:pt x="0" y="132"/>
                  </a:lnTo>
                  <a:lnTo>
                    <a:pt x="17" y="66"/>
                  </a:lnTo>
                  <a:lnTo>
                    <a:pt x="50" y="25"/>
                  </a:lnTo>
                  <a:lnTo>
                    <a:pt x="95" y="4"/>
                  </a:lnTo>
                  <a:lnTo>
                    <a:pt x="149" y="0"/>
                  </a:lnTo>
                  <a:lnTo>
                    <a:pt x="205" y="8"/>
                  </a:lnTo>
                  <a:lnTo>
                    <a:pt x="263" y="25"/>
                  </a:lnTo>
                  <a:lnTo>
                    <a:pt x="318" y="48"/>
                  </a:lnTo>
                  <a:lnTo>
                    <a:pt x="366" y="75"/>
                  </a:lnTo>
                  <a:lnTo>
                    <a:pt x="362" y="81"/>
                  </a:lnTo>
                  <a:lnTo>
                    <a:pt x="358" y="85"/>
                  </a:lnTo>
                  <a:lnTo>
                    <a:pt x="347" y="75"/>
                  </a:lnTo>
                  <a:lnTo>
                    <a:pt x="339" y="77"/>
                  </a:lnTo>
                  <a:lnTo>
                    <a:pt x="331" y="83"/>
                  </a:lnTo>
                  <a:lnTo>
                    <a:pt x="327" y="89"/>
                  </a:lnTo>
                  <a:lnTo>
                    <a:pt x="327" y="108"/>
                  </a:lnTo>
                  <a:lnTo>
                    <a:pt x="327" y="132"/>
                  </a:lnTo>
                  <a:lnTo>
                    <a:pt x="325" y="155"/>
                  </a:lnTo>
                  <a:lnTo>
                    <a:pt x="322" y="180"/>
                  </a:lnTo>
                  <a:lnTo>
                    <a:pt x="312" y="200"/>
                  </a:lnTo>
                  <a:lnTo>
                    <a:pt x="298" y="219"/>
                  </a:lnTo>
                  <a:lnTo>
                    <a:pt x="281" y="233"/>
                  </a:lnTo>
                  <a:lnTo>
                    <a:pt x="258" y="242"/>
                  </a:lnTo>
                  <a:lnTo>
                    <a:pt x="254" y="229"/>
                  </a:lnTo>
                  <a:lnTo>
                    <a:pt x="250" y="217"/>
                  </a:lnTo>
                  <a:lnTo>
                    <a:pt x="246" y="205"/>
                  </a:lnTo>
                  <a:lnTo>
                    <a:pt x="244" y="194"/>
                  </a:lnTo>
                  <a:lnTo>
                    <a:pt x="234" y="174"/>
                  </a:lnTo>
                  <a:lnTo>
                    <a:pt x="223" y="159"/>
                  </a:lnTo>
                  <a:lnTo>
                    <a:pt x="207" y="165"/>
                  </a:lnTo>
                  <a:lnTo>
                    <a:pt x="197" y="176"/>
                  </a:lnTo>
                  <a:lnTo>
                    <a:pt x="190" y="192"/>
                  </a:lnTo>
                  <a:lnTo>
                    <a:pt x="182" y="211"/>
                  </a:lnTo>
                  <a:lnTo>
                    <a:pt x="172" y="231"/>
                  </a:lnTo>
                  <a:lnTo>
                    <a:pt x="162" y="252"/>
                  </a:lnTo>
                  <a:lnTo>
                    <a:pt x="147" y="269"/>
                  </a:lnTo>
                  <a:lnTo>
                    <a:pt x="128" y="289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55"/>
            <p:cNvSpPr/>
            <p:nvPr/>
          </p:nvSpPr>
          <p:spPr>
            <a:xfrm>
              <a:off x="6834240" y="3249000"/>
              <a:ext cx="18720" cy="190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1" h="31">
                  <a:moveTo>
                    <a:pt x="18" y="31"/>
                  </a:moveTo>
                  <a:lnTo>
                    <a:pt x="8" y="24"/>
                  </a:lnTo>
                  <a:lnTo>
                    <a:pt x="0" y="22"/>
                  </a:lnTo>
                  <a:lnTo>
                    <a:pt x="0" y="10"/>
                  </a:lnTo>
                  <a:lnTo>
                    <a:pt x="6" y="0"/>
                  </a:lnTo>
                  <a:lnTo>
                    <a:pt x="16" y="0"/>
                  </a:lnTo>
                  <a:lnTo>
                    <a:pt x="27" y="0"/>
                  </a:lnTo>
                  <a:lnTo>
                    <a:pt x="33" y="8"/>
                  </a:lnTo>
                  <a:lnTo>
                    <a:pt x="41" y="22"/>
                  </a:lnTo>
                  <a:lnTo>
                    <a:pt x="35" y="25"/>
                  </a:lnTo>
                  <a:lnTo>
                    <a:pt x="33" y="29"/>
                  </a:lnTo>
                  <a:lnTo>
                    <a:pt x="25" y="29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56"/>
            <p:cNvSpPr/>
            <p:nvPr/>
          </p:nvSpPr>
          <p:spPr>
            <a:xfrm>
              <a:off x="7305480" y="3210480"/>
              <a:ext cx="30960" cy="291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66" h="47">
                  <a:moveTo>
                    <a:pt x="10" y="47"/>
                  </a:moveTo>
                  <a:lnTo>
                    <a:pt x="6" y="27"/>
                  </a:lnTo>
                  <a:lnTo>
                    <a:pt x="0" y="8"/>
                  </a:lnTo>
                  <a:lnTo>
                    <a:pt x="6" y="2"/>
                  </a:lnTo>
                  <a:lnTo>
                    <a:pt x="14" y="0"/>
                  </a:lnTo>
                  <a:lnTo>
                    <a:pt x="25" y="6"/>
                  </a:lnTo>
                  <a:lnTo>
                    <a:pt x="39" y="12"/>
                  </a:lnTo>
                  <a:lnTo>
                    <a:pt x="45" y="16"/>
                  </a:lnTo>
                  <a:lnTo>
                    <a:pt x="52" y="20"/>
                  </a:lnTo>
                  <a:lnTo>
                    <a:pt x="60" y="25"/>
                  </a:lnTo>
                  <a:lnTo>
                    <a:pt x="66" y="35"/>
                  </a:lnTo>
                  <a:lnTo>
                    <a:pt x="51" y="39"/>
                  </a:lnTo>
                  <a:lnTo>
                    <a:pt x="37" y="43"/>
                  </a:lnTo>
                  <a:lnTo>
                    <a:pt x="21" y="45"/>
                  </a:lnTo>
                  <a:lnTo>
                    <a:pt x="10" y="4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57"/>
            <p:cNvSpPr/>
            <p:nvPr/>
          </p:nvSpPr>
          <p:spPr>
            <a:xfrm>
              <a:off x="6798960" y="2637000"/>
              <a:ext cx="642600" cy="56700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567000"/>
                <a:gd name="textAreaBottom" fmla="*/ 567360 h 567000"/>
              </a:gdLst>
              <a:ahLst/>
              <a:rect l="textAreaLeft" t="textAreaTop" r="textAreaRight" b="textAreaBottom"/>
              <a:pathLst>
                <a:path w="1357" h="884">
                  <a:moveTo>
                    <a:pt x="1183" y="884"/>
                  </a:moveTo>
                  <a:lnTo>
                    <a:pt x="1039" y="815"/>
                  </a:lnTo>
                  <a:lnTo>
                    <a:pt x="896" y="756"/>
                  </a:lnTo>
                  <a:lnTo>
                    <a:pt x="748" y="704"/>
                  </a:lnTo>
                  <a:lnTo>
                    <a:pt x="601" y="663"/>
                  </a:lnTo>
                  <a:lnTo>
                    <a:pt x="449" y="625"/>
                  </a:lnTo>
                  <a:lnTo>
                    <a:pt x="298" y="596"/>
                  </a:lnTo>
                  <a:lnTo>
                    <a:pt x="147" y="570"/>
                  </a:lnTo>
                  <a:lnTo>
                    <a:pt x="0" y="553"/>
                  </a:lnTo>
                  <a:lnTo>
                    <a:pt x="3" y="487"/>
                  </a:lnTo>
                  <a:lnTo>
                    <a:pt x="17" y="423"/>
                  </a:lnTo>
                  <a:lnTo>
                    <a:pt x="36" y="357"/>
                  </a:lnTo>
                  <a:lnTo>
                    <a:pt x="64" y="291"/>
                  </a:lnTo>
                  <a:lnTo>
                    <a:pt x="91" y="223"/>
                  </a:lnTo>
                  <a:lnTo>
                    <a:pt x="118" y="159"/>
                  </a:lnTo>
                  <a:lnTo>
                    <a:pt x="143" y="93"/>
                  </a:lnTo>
                  <a:lnTo>
                    <a:pt x="166" y="33"/>
                  </a:lnTo>
                  <a:lnTo>
                    <a:pt x="238" y="12"/>
                  </a:lnTo>
                  <a:lnTo>
                    <a:pt x="360" y="2"/>
                  </a:lnTo>
                  <a:lnTo>
                    <a:pt x="512" y="0"/>
                  </a:lnTo>
                  <a:lnTo>
                    <a:pt x="678" y="12"/>
                  </a:lnTo>
                  <a:lnTo>
                    <a:pt x="841" y="31"/>
                  </a:lnTo>
                  <a:lnTo>
                    <a:pt x="989" y="66"/>
                  </a:lnTo>
                  <a:lnTo>
                    <a:pt x="1099" y="111"/>
                  </a:lnTo>
                  <a:lnTo>
                    <a:pt x="1165" y="173"/>
                  </a:lnTo>
                  <a:lnTo>
                    <a:pt x="1184" y="179"/>
                  </a:lnTo>
                  <a:lnTo>
                    <a:pt x="1212" y="198"/>
                  </a:lnTo>
                  <a:lnTo>
                    <a:pt x="1241" y="225"/>
                  </a:lnTo>
                  <a:lnTo>
                    <a:pt x="1274" y="258"/>
                  </a:lnTo>
                  <a:lnTo>
                    <a:pt x="1301" y="293"/>
                  </a:lnTo>
                  <a:lnTo>
                    <a:pt x="1326" y="330"/>
                  </a:lnTo>
                  <a:lnTo>
                    <a:pt x="1345" y="363"/>
                  </a:lnTo>
                  <a:lnTo>
                    <a:pt x="1357" y="392"/>
                  </a:lnTo>
                  <a:lnTo>
                    <a:pt x="1340" y="433"/>
                  </a:lnTo>
                  <a:lnTo>
                    <a:pt x="1316" y="501"/>
                  </a:lnTo>
                  <a:lnTo>
                    <a:pt x="1287" y="580"/>
                  </a:lnTo>
                  <a:lnTo>
                    <a:pt x="1260" y="667"/>
                  </a:lnTo>
                  <a:lnTo>
                    <a:pt x="1231" y="749"/>
                  </a:lnTo>
                  <a:lnTo>
                    <a:pt x="1210" y="819"/>
                  </a:lnTo>
                  <a:lnTo>
                    <a:pt x="1190" y="865"/>
                  </a:lnTo>
                  <a:lnTo>
                    <a:pt x="1183" y="884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58"/>
            <p:cNvSpPr/>
            <p:nvPr/>
          </p:nvSpPr>
          <p:spPr>
            <a:xfrm>
              <a:off x="6359760" y="2036520"/>
              <a:ext cx="1551240" cy="111708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117080"/>
                <a:gd name="textAreaBottom" fmla="*/ 1117440 h 1117080"/>
              </a:gdLst>
              <a:ahLst/>
              <a:rect l="textAreaLeft" t="textAreaTop" r="textAreaRight" b="textAreaBottom"/>
              <a:pathLst>
                <a:path w="3277" h="1741">
                  <a:moveTo>
                    <a:pt x="2212" y="1741"/>
                  </a:moveTo>
                  <a:lnTo>
                    <a:pt x="2241" y="1632"/>
                  </a:lnTo>
                  <a:lnTo>
                    <a:pt x="2273" y="1541"/>
                  </a:lnTo>
                  <a:lnTo>
                    <a:pt x="2298" y="1460"/>
                  </a:lnTo>
                  <a:lnTo>
                    <a:pt x="2317" y="1388"/>
                  </a:lnTo>
                  <a:lnTo>
                    <a:pt x="2319" y="1316"/>
                  </a:lnTo>
                  <a:lnTo>
                    <a:pt x="2300" y="1245"/>
                  </a:lnTo>
                  <a:lnTo>
                    <a:pt x="2255" y="1169"/>
                  </a:lnTo>
                  <a:lnTo>
                    <a:pt x="2177" y="1086"/>
                  </a:lnTo>
                  <a:lnTo>
                    <a:pt x="2065" y="1016"/>
                  </a:lnTo>
                  <a:lnTo>
                    <a:pt x="1931" y="958"/>
                  </a:lnTo>
                  <a:lnTo>
                    <a:pt x="1778" y="913"/>
                  </a:lnTo>
                  <a:lnTo>
                    <a:pt x="1619" y="884"/>
                  </a:lnTo>
                  <a:lnTo>
                    <a:pt x="1456" y="868"/>
                  </a:lnTo>
                  <a:lnTo>
                    <a:pt x="1303" y="870"/>
                  </a:lnTo>
                  <a:lnTo>
                    <a:pt x="1163" y="890"/>
                  </a:lnTo>
                  <a:lnTo>
                    <a:pt x="1047" y="932"/>
                  </a:lnTo>
                  <a:lnTo>
                    <a:pt x="1037" y="971"/>
                  </a:lnTo>
                  <a:lnTo>
                    <a:pt x="1024" y="1022"/>
                  </a:lnTo>
                  <a:lnTo>
                    <a:pt x="1006" y="1076"/>
                  </a:lnTo>
                  <a:lnTo>
                    <a:pt x="987" y="1134"/>
                  </a:lnTo>
                  <a:lnTo>
                    <a:pt x="963" y="1184"/>
                  </a:lnTo>
                  <a:lnTo>
                    <a:pt x="940" y="1229"/>
                  </a:lnTo>
                  <a:lnTo>
                    <a:pt x="917" y="1258"/>
                  </a:lnTo>
                  <a:lnTo>
                    <a:pt x="897" y="1270"/>
                  </a:lnTo>
                  <a:lnTo>
                    <a:pt x="783" y="1217"/>
                  </a:lnTo>
                  <a:lnTo>
                    <a:pt x="669" y="1169"/>
                  </a:lnTo>
                  <a:lnTo>
                    <a:pt x="550" y="1122"/>
                  </a:lnTo>
                  <a:lnTo>
                    <a:pt x="434" y="1076"/>
                  </a:lnTo>
                  <a:lnTo>
                    <a:pt x="316" y="1025"/>
                  </a:lnTo>
                  <a:lnTo>
                    <a:pt x="205" y="975"/>
                  </a:lnTo>
                  <a:lnTo>
                    <a:pt x="97" y="919"/>
                  </a:lnTo>
                  <a:lnTo>
                    <a:pt x="0" y="859"/>
                  </a:lnTo>
                  <a:lnTo>
                    <a:pt x="0" y="851"/>
                  </a:lnTo>
                  <a:lnTo>
                    <a:pt x="0" y="845"/>
                  </a:lnTo>
                  <a:lnTo>
                    <a:pt x="122" y="800"/>
                  </a:lnTo>
                  <a:lnTo>
                    <a:pt x="246" y="752"/>
                  </a:lnTo>
                  <a:lnTo>
                    <a:pt x="370" y="698"/>
                  </a:lnTo>
                  <a:lnTo>
                    <a:pt x="496" y="642"/>
                  </a:lnTo>
                  <a:lnTo>
                    <a:pt x="620" y="583"/>
                  </a:lnTo>
                  <a:lnTo>
                    <a:pt x="744" y="525"/>
                  </a:lnTo>
                  <a:lnTo>
                    <a:pt x="866" y="469"/>
                  </a:lnTo>
                  <a:lnTo>
                    <a:pt x="991" y="415"/>
                  </a:lnTo>
                  <a:lnTo>
                    <a:pt x="1101" y="358"/>
                  </a:lnTo>
                  <a:lnTo>
                    <a:pt x="1216" y="306"/>
                  </a:lnTo>
                  <a:lnTo>
                    <a:pt x="1330" y="256"/>
                  </a:lnTo>
                  <a:lnTo>
                    <a:pt x="1446" y="205"/>
                  </a:lnTo>
                  <a:lnTo>
                    <a:pt x="1561" y="153"/>
                  </a:lnTo>
                  <a:lnTo>
                    <a:pt x="1675" y="102"/>
                  </a:lnTo>
                  <a:lnTo>
                    <a:pt x="1790" y="50"/>
                  </a:lnTo>
                  <a:lnTo>
                    <a:pt x="1906" y="0"/>
                  </a:lnTo>
                  <a:lnTo>
                    <a:pt x="1935" y="2"/>
                  </a:lnTo>
                  <a:lnTo>
                    <a:pt x="1972" y="17"/>
                  </a:lnTo>
                  <a:lnTo>
                    <a:pt x="2009" y="42"/>
                  </a:lnTo>
                  <a:lnTo>
                    <a:pt x="2048" y="73"/>
                  </a:lnTo>
                  <a:lnTo>
                    <a:pt x="2084" y="106"/>
                  </a:lnTo>
                  <a:lnTo>
                    <a:pt x="2121" y="141"/>
                  </a:lnTo>
                  <a:lnTo>
                    <a:pt x="2156" y="172"/>
                  </a:lnTo>
                  <a:lnTo>
                    <a:pt x="2185" y="199"/>
                  </a:lnTo>
                  <a:lnTo>
                    <a:pt x="2319" y="351"/>
                  </a:lnTo>
                  <a:lnTo>
                    <a:pt x="2457" y="504"/>
                  </a:lnTo>
                  <a:lnTo>
                    <a:pt x="2593" y="655"/>
                  </a:lnTo>
                  <a:lnTo>
                    <a:pt x="2730" y="808"/>
                  </a:lnTo>
                  <a:lnTo>
                    <a:pt x="2866" y="959"/>
                  </a:lnTo>
                  <a:lnTo>
                    <a:pt x="3004" y="1111"/>
                  </a:lnTo>
                  <a:lnTo>
                    <a:pt x="3139" y="1262"/>
                  </a:lnTo>
                  <a:lnTo>
                    <a:pt x="3277" y="1413"/>
                  </a:lnTo>
                  <a:lnTo>
                    <a:pt x="3170" y="1446"/>
                  </a:lnTo>
                  <a:lnTo>
                    <a:pt x="3066" y="1479"/>
                  </a:lnTo>
                  <a:lnTo>
                    <a:pt x="2959" y="1510"/>
                  </a:lnTo>
                  <a:lnTo>
                    <a:pt x="2854" y="1543"/>
                  </a:lnTo>
                  <a:lnTo>
                    <a:pt x="2750" y="1574"/>
                  </a:lnTo>
                  <a:lnTo>
                    <a:pt x="2645" y="1605"/>
                  </a:lnTo>
                  <a:lnTo>
                    <a:pt x="2540" y="1634"/>
                  </a:lnTo>
                  <a:lnTo>
                    <a:pt x="2439" y="1665"/>
                  </a:lnTo>
                  <a:lnTo>
                    <a:pt x="2404" y="1667"/>
                  </a:lnTo>
                  <a:lnTo>
                    <a:pt x="2373" y="1677"/>
                  </a:lnTo>
                  <a:lnTo>
                    <a:pt x="2344" y="1687"/>
                  </a:lnTo>
                  <a:lnTo>
                    <a:pt x="2319" y="1700"/>
                  </a:lnTo>
                  <a:lnTo>
                    <a:pt x="2292" y="1712"/>
                  </a:lnTo>
                  <a:lnTo>
                    <a:pt x="2267" y="1723"/>
                  </a:lnTo>
                  <a:lnTo>
                    <a:pt x="2240" y="1733"/>
                  </a:lnTo>
                  <a:lnTo>
                    <a:pt x="2212" y="1741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59"/>
            <p:cNvSpPr/>
            <p:nvPr/>
          </p:nvSpPr>
          <p:spPr>
            <a:xfrm>
              <a:off x="6691320" y="3035880"/>
              <a:ext cx="48240" cy="8712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02" h="135">
                  <a:moveTo>
                    <a:pt x="54" y="135"/>
                  </a:moveTo>
                  <a:lnTo>
                    <a:pt x="37" y="122"/>
                  </a:lnTo>
                  <a:lnTo>
                    <a:pt x="25" y="110"/>
                  </a:lnTo>
                  <a:lnTo>
                    <a:pt x="15" y="97"/>
                  </a:lnTo>
                  <a:lnTo>
                    <a:pt x="9" y="85"/>
                  </a:lnTo>
                  <a:lnTo>
                    <a:pt x="4" y="71"/>
                  </a:lnTo>
                  <a:lnTo>
                    <a:pt x="2" y="58"/>
                  </a:lnTo>
                  <a:lnTo>
                    <a:pt x="0" y="44"/>
                  </a:lnTo>
                  <a:lnTo>
                    <a:pt x="2" y="31"/>
                  </a:lnTo>
                  <a:lnTo>
                    <a:pt x="13" y="25"/>
                  </a:lnTo>
                  <a:lnTo>
                    <a:pt x="25" y="19"/>
                  </a:lnTo>
                  <a:lnTo>
                    <a:pt x="37" y="15"/>
                  </a:lnTo>
                  <a:lnTo>
                    <a:pt x="50" y="13"/>
                  </a:lnTo>
                  <a:lnTo>
                    <a:pt x="62" y="7"/>
                  </a:lnTo>
                  <a:lnTo>
                    <a:pt x="75" y="6"/>
                  </a:lnTo>
                  <a:lnTo>
                    <a:pt x="89" y="2"/>
                  </a:lnTo>
                  <a:lnTo>
                    <a:pt x="102" y="0"/>
                  </a:lnTo>
                  <a:lnTo>
                    <a:pt x="101" y="4"/>
                  </a:lnTo>
                  <a:lnTo>
                    <a:pt x="99" y="21"/>
                  </a:lnTo>
                  <a:lnTo>
                    <a:pt x="93" y="44"/>
                  </a:lnTo>
                  <a:lnTo>
                    <a:pt x="89" y="73"/>
                  </a:lnTo>
                  <a:lnTo>
                    <a:pt x="81" y="99"/>
                  </a:lnTo>
                  <a:lnTo>
                    <a:pt x="73" y="120"/>
                  </a:lnTo>
                  <a:lnTo>
                    <a:pt x="64" y="133"/>
                  </a:lnTo>
                  <a:lnTo>
                    <a:pt x="54" y="135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Управляющая кнопка: в конец 59"/>
          <p:cNvSpPr/>
          <p:nvPr/>
        </p:nvSpPr>
        <p:spPr>
          <a:xfrm>
            <a:off x="8358120" y="6000840"/>
            <a:ext cx="500040" cy="57132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320"/>
              <a:gd name="textAreaBottom" fmla="*/ 538920 h 571320"/>
            </a:gdLst>
            <a:ahLst/>
            <a:rect l="textAreaLeft" t="textAreaTop" r="textAreaRight" b="textAreaBottom"/>
            <a:pathLst>
              <a:path w="21600" h="24677">
                <a:moveTo>
                  <a:pt x="0" y="0"/>
                </a:moveTo>
                <a:lnTo>
                  <a:pt x="21600" y="0"/>
                </a:lnTo>
                <a:lnTo>
                  <a:pt x="21600" y="24677"/>
                </a:lnTo>
                <a:lnTo>
                  <a:pt x="0" y="24677"/>
                </a:lnTo>
                <a:close/>
              </a:path>
              <a:path fill="lightenLess" w="21600" h="24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7">
                <a:moveTo>
                  <a:pt x="21600" y="0"/>
                </a:moveTo>
                <a:lnTo>
                  <a:pt x="21600" y="24677"/>
                </a:lnTo>
                <a:lnTo>
                  <a:pt x="20200" y="23277"/>
                </a:lnTo>
                <a:lnTo>
                  <a:pt x="20200" y="1400"/>
                </a:lnTo>
                <a:close/>
              </a:path>
              <a:path fill="darkenLess" w="21600" h="24677">
                <a:moveTo>
                  <a:pt x="21600" y="24677"/>
                </a:moveTo>
                <a:lnTo>
                  <a:pt x="0" y="24677"/>
                </a:lnTo>
                <a:lnTo>
                  <a:pt x="1400" y="23277"/>
                </a:lnTo>
                <a:lnTo>
                  <a:pt x="20200" y="23277"/>
                </a:lnTo>
                <a:close/>
              </a:path>
              <a:path fill="lighten" w="21600" h="24677">
                <a:moveTo>
                  <a:pt x="0" y="24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7"/>
                </a:lnTo>
                <a:close/>
              </a:path>
              <a:path fill="darken" w="21600" h="24677">
                <a:moveTo>
                  <a:pt x="14299" y="12338"/>
                </a:moveTo>
                <a:lnTo>
                  <a:pt x="3794" y="19345"/>
                </a:lnTo>
                <a:lnTo>
                  <a:pt x="3794" y="5332"/>
                </a:lnTo>
                <a:close/>
              </a:path>
              <a:path fill="darken" w="21600" h="24677">
                <a:moveTo>
                  <a:pt x="16144" y="5332"/>
                </a:moveTo>
                <a:lnTo>
                  <a:pt x="16144" y="19345"/>
                </a:lnTo>
                <a:lnTo>
                  <a:pt x="17806" y="19345"/>
                </a:lnTo>
                <a:lnTo>
                  <a:pt x="17806" y="5332"/>
                </a:lnTo>
                <a:close/>
              </a:path>
            </a:pathLst>
          </a:custGeom>
          <a:gradFill rotWithShape="0">
            <a:gsLst>
              <a:gs pos="0">
                <a:srgbClr val="799542"/>
              </a:gs>
              <a:gs pos="100000">
                <a:srgbClr val="a1c658"/>
              </a:gs>
            </a:gsLst>
            <a:lin ang="16200000"/>
          </a:gradFill>
          <a:ln w="9360">
            <a:solidFill>
              <a:srgbClr val="9ebb6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4" descr="arg-3-25-trans-y[1]"/>
          <p:cNvPicPr/>
          <p:nvPr/>
        </p:nvPicPr>
        <p:blipFill>
          <a:blip r:embed="rId1"/>
          <a:stretch/>
        </p:blipFill>
        <p:spPr>
          <a:xfrm>
            <a:off x="2195640" y="1197000"/>
            <a:ext cx="4319640" cy="41799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8" descr="36_2_19[1]"/>
          <p:cNvPicPr/>
          <p:nvPr/>
        </p:nvPicPr>
        <p:blipFill>
          <a:blip r:embed="rId2"/>
          <a:stretch/>
        </p:blipFill>
        <p:spPr>
          <a:xfrm>
            <a:off x="857160" y="357120"/>
            <a:ext cx="1152720" cy="1152720"/>
          </a:xfrm>
          <a:prstGeom prst="rect">
            <a:avLst/>
          </a:prstGeom>
          <a:ln w="0">
            <a:noFill/>
          </a:ln>
        </p:spPr>
      </p:pic>
      <p:sp>
        <p:nvSpPr>
          <p:cNvPr id="302" name="Управляющая кнопка: назад 3"/>
          <p:cNvSpPr/>
          <p:nvPr/>
        </p:nvSpPr>
        <p:spPr>
          <a:xfrm>
            <a:off x="214200" y="6143760"/>
            <a:ext cx="1000080" cy="500040"/>
          </a:xfrm>
          <a:custGeom>
            <a:avLst/>
            <a:gdLst>
              <a:gd name="textAreaLeft" fmla="*/ 32400 w 1000080"/>
              <a:gd name="textAreaRight" fmla="*/ 967680 w 10000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4" h="21600">
                <a:moveTo>
                  <a:pt x="14586" y="10800"/>
                </a:moveTo>
                <a:lnTo>
                  <a:pt x="28599" y="3794"/>
                </a:lnTo>
                <a:lnTo>
                  <a:pt x="28599" y="17806"/>
                </a:lnTo>
                <a:close/>
              </a:path>
            </a:pathLst>
          </a:custGeom>
          <a:gradFill rotWithShape="0">
            <a:gsLst>
              <a:gs pos="0">
                <a:srgbClr val="bebeaf"/>
              </a:gs>
              <a:gs pos="100000">
                <a:srgbClr val="fafae6"/>
              </a:gs>
            </a:gsLst>
            <a:lin ang="16200000"/>
          </a:gradFill>
          <a:ln w="9360">
            <a:solidFill>
              <a:srgbClr val="f9f9e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4" descr="arg-2-25-trans-y[1]"/>
          <p:cNvPicPr/>
          <p:nvPr/>
        </p:nvPicPr>
        <p:blipFill>
          <a:blip r:embed="rId1"/>
          <a:stretch/>
        </p:blipFill>
        <p:spPr>
          <a:xfrm>
            <a:off x="2916360" y="1617840"/>
            <a:ext cx="3384360" cy="27478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8" descr="36_2_18[1]"/>
          <p:cNvPicPr/>
          <p:nvPr/>
        </p:nvPicPr>
        <p:blipFill>
          <a:blip r:embed="rId2"/>
          <a:stretch/>
        </p:blipFill>
        <p:spPr>
          <a:xfrm>
            <a:off x="857160" y="357120"/>
            <a:ext cx="1390680" cy="1225440"/>
          </a:xfrm>
          <a:prstGeom prst="rect">
            <a:avLst/>
          </a:prstGeom>
          <a:ln w="0">
            <a:noFill/>
          </a:ln>
        </p:spPr>
      </p:pic>
      <p:sp>
        <p:nvSpPr>
          <p:cNvPr id="305" name="Управляющая кнопка: назад 3"/>
          <p:cNvSpPr/>
          <p:nvPr/>
        </p:nvSpPr>
        <p:spPr>
          <a:xfrm>
            <a:off x="214200" y="5929200"/>
            <a:ext cx="857520" cy="571680"/>
          </a:xfrm>
          <a:custGeom>
            <a:avLst/>
            <a:gdLst>
              <a:gd name="textAreaLeft" fmla="*/ 36720 w 857520"/>
              <a:gd name="textAreaRight" fmla="*/ 820800 w 85752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32393" h="21600">
                <a:moveTo>
                  <a:pt x="0" y="0"/>
                </a:moveTo>
                <a:lnTo>
                  <a:pt x="32393" y="0"/>
                </a:lnTo>
                <a:lnTo>
                  <a:pt x="32393" y="21600"/>
                </a:lnTo>
                <a:lnTo>
                  <a:pt x="0" y="21600"/>
                </a:lnTo>
                <a:close/>
              </a:path>
              <a:path fill="lightenLess" w="32393" h="21600">
                <a:moveTo>
                  <a:pt x="0" y="0"/>
                </a:moveTo>
                <a:lnTo>
                  <a:pt x="32393" y="0"/>
                </a:lnTo>
                <a:lnTo>
                  <a:pt x="30993" y="1400"/>
                </a:lnTo>
                <a:lnTo>
                  <a:pt x="1400" y="1400"/>
                </a:lnTo>
                <a:close/>
              </a:path>
              <a:path fill="darken" w="32393" h="21600">
                <a:moveTo>
                  <a:pt x="32393" y="0"/>
                </a:moveTo>
                <a:lnTo>
                  <a:pt x="32393" y="21600"/>
                </a:lnTo>
                <a:lnTo>
                  <a:pt x="30993" y="20200"/>
                </a:lnTo>
                <a:lnTo>
                  <a:pt x="30993" y="1400"/>
                </a:lnTo>
                <a:close/>
              </a:path>
              <a:path fill="darkenLess" w="32393" h="21600">
                <a:moveTo>
                  <a:pt x="32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3" y="20200"/>
                </a:lnTo>
                <a:close/>
              </a:path>
              <a:path fill="lighten" w="32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3" h="21600">
                <a:moveTo>
                  <a:pt x="9190" y="10800"/>
                </a:moveTo>
                <a:lnTo>
                  <a:pt x="23203" y="3794"/>
                </a:lnTo>
                <a:lnTo>
                  <a:pt x="23203" y="17806"/>
                </a:lnTo>
                <a:close/>
              </a:path>
            </a:pathLst>
          </a:custGeom>
          <a:gradFill rotWithShape="0">
            <a:gsLst>
              <a:gs pos="0">
                <a:srgbClr val="bebeaf"/>
              </a:gs>
              <a:gs pos="100000">
                <a:srgbClr val="fafae6"/>
              </a:gs>
            </a:gsLst>
            <a:lin ang="16200000"/>
          </a:gradFill>
          <a:ln w="9360">
            <a:solidFill>
              <a:srgbClr val="f9f9e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1857240" y="428760"/>
            <a:ext cx="761976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050"/>
                </a:solidFill>
                <a:uFillTx/>
                <a:latin typeface="Times New Roman"/>
              </a:rPr>
              <a:t>Задачи: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28480" y="928800"/>
            <a:ext cx="7715160" cy="51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обучающ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научить решать задачи с помощью квадратных уравнений по формулам корне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- повторить графический способ  решения квадратных уравнений и  формулы для нахождения их корне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развивающие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-развитие навыков работы с графиками функц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- развитие познавательных интересов,  самоконтро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воспитательные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воспитание внимательности, аккуратности при построении графиков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- воспитание эстетических качеств и умения общать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6" descr="j0432645"/>
          <p:cNvPicPr/>
          <p:nvPr/>
        </p:nvPicPr>
        <p:blipFill>
          <a:blip r:embed="rId1"/>
          <a:stretch/>
        </p:blipFill>
        <p:spPr>
          <a:xfrm>
            <a:off x="500040" y="5643720"/>
            <a:ext cx="1214640" cy="1214280"/>
          </a:xfrm>
          <a:prstGeom prst="rect">
            <a:avLst/>
          </a:prstGeom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08" name="Picture 8" descr="36_2_19[1]"/>
          <p:cNvPicPr/>
          <p:nvPr/>
        </p:nvPicPr>
        <p:blipFill>
          <a:blip r:embed="rId2"/>
          <a:stretch/>
        </p:blipFill>
        <p:spPr>
          <a:xfrm>
            <a:off x="7143840" y="14292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</a:rPr>
              <a:t>ПЛАН УРОКА.</a:t>
            </a:r>
            <a:r>
              <a:rPr b="0" lang="ru-RU" sz="60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spcBef>
                <a:spcPts val="601"/>
              </a:spcBef>
              <a:buClr>
                <a:srgbClr val="24647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647c"/>
                </a:solidFill>
                <a:latin typeface="Times New Roman"/>
              </a:rPr>
              <a:t>Проверка домашнего зада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spcBef>
                <a:spcPts val="601"/>
              </a:spcBef>
              <a:buClr>
                <a:srgbClr val="24647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647c"/>
                </a:solidFill>
                <a:latin typeface="Times New Roman"/>
              </a:rPr>
              <a:t>Устная работа с класс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spcBef>
                <a:spcPts val="601"/>
              </a:spcBef>
              <a:buClr>
                <a:srgbClr val="24647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647c"/>
                </a:solidFill>
                <a:latin typeface="Times New Roman"/>
              </a:rPr>
              <a:t>Самостоятельная работа на персональных компьюте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spcBef>
                <a:spcPts val="601"/>
              </a:spcBef>
              <a:buClr>
                <a:srgbClr val="24647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647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24647c"/>
                </a:solidFill>
                <a:latin typeface="Times New Roman"/>
              </a:rPr>
              <a:t>Решение квадратных уравнений графическим способ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spcBef>
                <a:spcPts val="601"/>
              </a:spcBef>
              <a:buClr>
                <a:srgbClr val="24647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647c"/>
                </a:solidFill>
                <a:latin typeface="Times New Roman"/>
              </a:rPr>
              <a:t>Решения задач с использованием кв.уравн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spcBef>
                <a:spcPts val="601"/>
              </a:spcBef>
              <a:buClr>
                <a:srgbClr val="24647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647c"/>
                </a:solidFill>
                <a:latin typeface="Times New Roman"/>
              </a:rPr>
              <a:t>Историческая справ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spcBef>
                <a:spcPts val="601"/>
              </a:spcBef>
              <a:buClr>
                <a:srgbClr val="24647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647c"/>
                </a:solidFill>
                <a:latin typeface="Times New Roman"/>
              </a:rPr>
              <a:t>Задание на д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spcBef>
                <a:spcPts val="601"/>
              </a:spcBef>
              <a:buClr>
                <a:srgbClr val="24647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647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24647c"/>
                </a:solidFill>
                <a:latin typeface="Times New Roman"/>
              </a:rPr>
              <a:t>Итог уро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spcBef>
                <a:spcPts val="601"/>
              </a:spcBef>
              <a:buClr>
                <a:srgbClr val="24647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647c"/>
                </a:solidFill>
                <a:latin typeface="Times New Roman"/>
              </a:rPr>
              <a:t>Рефлекс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DA09-5362-49B1-AB13-8B52A783C8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6572160" y="4786200"/>
            <a:ext cx="21909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Содержимое 2" descr=""/>
          <p:cNvPicPr/>
          <p:nvPr/>
        </p:nvPicPr>
        <p:blipFill>
          <a:blip r:embed="rId1"/>
          <a:stretch/>
        </p:blipFill>
        <p:spPr>
          <a:xfrm>
            <a:off x="1060560" y="603360"/>
            <a:ext cx="7650000" cy="527364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3" descr="Рисунок1.png"/>
          <p:cNvPicPr/>
          <p:nvPr/>
        </p:nvPicPr>
        <p:blipFill>
          <a:blip r:embed="rId2"/>
          <a:stretch/>
        </p:blipFill>
        <p:spPr>
          <a:xfrm>
            <a:off x="7000920" y="2643120"/>
            <a:ext cx="2571840" cy="391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Заголовок 1" descr=""/>
          <p:cNvPicPr/>
          <p:nvPr/>
        </p:nvPicPr>
        <p:blipFill>
          <a:blip r:embed="rId1"/>
          <a:stretch/>
        </p:blipFill>
        <p:spPr>
          <a:xfrm>
            <a:off x="1006560" y="328680"/>
            <a:ext cx="7735680" cy="1238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2060"/>
                </a:solidFill>
                <a:latin typeface="Monotype Corsiva"/>
              </a:rPr>
              <a:t>Посредством уравнений, теорем</a:t>
            </a:r>
            <a:br>
              <a:rPr sz="5400"/>
            </a:br>
            <a:r>
              <a:rPr b="0" i="1" lang="ru-RU" sz="5400" spc="-1" strike="noStrike">
                <a:solidFill>
                  <a:srgbClr val="002060"/>
                </a:solidFill>
                <a:latin typeface="Monotype Corsiva"/>
              </a:rPr>
              <a:t>Я уйму всяки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0" i="1" lang="ru-RU" sz="5400" spc="-1" strike="noStrike">
                <a:solidFill>
                  <a:srgbClr val="002060"/>
                </a:solidFill>
                <a:latin typeface="Monotype Corsiva"/>
              </a:rPr>
              <a:t>разрешил проблем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20" descr="C:\Documents and Settings\home\Мои документы\Мои рисунки\Организатор клипов (Microsoft)\j0398143.wmf"/>
          <p:cNvPicPr/>
          <p:nvPr/>
        </p:nvPicPr>
        <p:blipFill>
          <a:blip r:embed="rId2"/>
          <a:stretch/>
        </p:blipFill>
        <p:spPr>
          <a:xfrm>
            <a:off x="6286680" y="2357280"/>
            <a:ext cx="2646360" cy="32148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роверка домашнего задания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8аб «Найди ошибку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5DEB-B5B9-4552-91FE-59D17FDAE3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6429240" y="1571760"/>
            <a:ext cx="2190960" cy="1643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2" name="Object 8"/>
              <p:cNvSpPr txBox="1"/>
              <p:nvPr/>
            </p:nvSpPr>
            <p:spPr>
              <a:xfrm>
                <a:off x="1071720" y="2292480"/>
                <a:ext cx="3646440" cy="34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∗</m:t>
                        </m:r>
                        <m:r>
                          <m:t xml:space="preserve">4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6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9"/>
              <p:cNvSpPr txBox="1"/>
              <p:nvPr/>
            </p:nvSpPr>
            <p:spPr>
              <a:xfrm>
                <a:off x="5286240" y="3357720"/>
                <a:ext cx="3143520" cy="29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∗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4" name="Прямоугольник 9"/>
          <p:cNvSpPr/>
          <p:nvPr/>
        </p:nvSpPr>
        <p:spPr>
          <a:xfrm>
            <a:off x="1071720" y="642960"/>
            <a:ext cx="7358040" cy="785880"/>
          </a:xfrm>
          <a:prstGeom prst="rect">
            <a:avLst/>
          </a:prstGeom>
          <a:gradFill rotWithShape="0">
            <a:gsLst>
              <a:gs pos="0">
                <a:srgbClr val="bebeaf"/>
              </a:gs>
              <a:gs pos="100000">
                <a:srgbClr val="fafae6"/>
              </a:gs>
            </a:gsLst>
            <a:lin ang="16200000"/>
          </a:gradFill>
          <a:ln w="9360">
            <a:solidFill>
              <a:srgbClr val="f9f9e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Times New Roman"/>
              </a:rPr>
              <a:t>Проверка домашнего зада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1" descr=""/>
          <p:cNvPicPr/>
          <p:nvPr/>
        </p:nvPicPr>
        <p:blipFill>
          <a:blip r:embed="rId2"/>
          <a:stretch/>
        </p:blipFill>
        <p:spPr>
          <a:xfrm>
            <a:off x="6429240" y="1571760"/>
            <a:ext cx="2190960" cy="16430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роверка домашнего задани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0аб «Найди ошибку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Дата 3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26E8-9435-4885-AE61-32EE257111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1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2190960" cy="1643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1" name="Object 8"/>
              <p:cNvSpPr txBox="1"/>
              <p:nvPr/>
            </p:nvSpPr>
            <p:spPr>
              <a:xfrm>
                <a:off x="1571760" y="3071880"/>
                <a:ext cx="3000240" cy="30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∗</m:t>
                        </m:r>
                        <m:r>
                          <m:t xml:space="preserve">1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±</m:t>
                            </m:r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9"/>
              <p:cNvSpPr txBox="1"/>
              <p:nvPr/>
            </p:nvSpPr>
            <p:spPr>
              <a:xfrm>
                <a:off x="5072040" y="2428920"/>
                <a:ext cx="3691080" cy="35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±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3" name="Прямоугольник 9"/>
          <p:cNvSpPr/>
          <p:nvPr/>
        </p:nvSpPr>
        <p:spPr>
          <a:xfrm>
            <a:off x="1071720" y="642960"/>
            <a:ext cx="7358040" cy="785880"/>
          </a:xfrm>
          <a:prstGeom prst="rect">
            <a:avLst/>
          </a:prstGeom>
          <a:gradFill rotWithShape="0">
            <a:gsLst>
              <a:gs pos="0">
                <a:srgbClr val="bebeaf"/>
              </a:gs>
              <a:gs pos="100000">
                <a:srgbClr val="fafae6"/>
              </a:gs>
            </a:gsLst>
            <a:lin ang="16200000"/>
          </a:gradFill>
          <a:ln w="9360">
            <a:solidFill>
              <a:srgbClr val="f9f9e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Times New Roman"/>
              </a:rPr>
              <a:t>Проверка домашнего зада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Times New Roman"/>
              </a:rPr>
              <a:t>Согласны ли вы с тем, что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Человеку, изучающему алгебру, часто полезнее решить одну и ту же задачу тремя различными способами, чем решить три-четыре различные задачи. Решая одну задачу различными методами, можно путем сравнения выяснить, какой из них короче и эффективне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йер 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Рисунок 3" descr="13866980792f.gif"/>
          <p:cNvPicPr/>
          <p:nvPr/>
        </p:nvPicPr>
        <p:blipFill>
          <a:blip r:embed="rId1"/>
          <a:stretch/>
        </p:blipFill>
        <p:spPr>
          <a:xfrm>
            <a:off x="6715080" y="4500720"/>
            <a:ext cx="2071800" cy="2043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6" descr="j0432645"/>
          <p:cNvPicPr/>
          <p:nvPr/>
        </p:nvPicPr>
        <p:blipFill>
          <a:blip r:embed="rId2"/>
          <a:stretch/>
        </p:blipFill>
        <p:spPr>
          <a:xfrm>
            <a:off x="642960" y="5143680"/>
            <a:ext cx="1714320" cy="1714320"/>
          </a:xfrm>
          <a:prstGeom prst="rect">
            <a:avLst/>
          </a:prstGeom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38" name="Управляющая кнопка: далее 5"/>
          <p:cNvGrpSpPr/>
          <p:nvPr/>
        </p:nvGrpSpPr>
        <p:grpSpPr>
          <a:xfrm>
            <a:off x="5937120" y="5821200"/>
            <a:ext cx="689040" cy="536760"/>
            <a:chOff x="5937120" y="5821200"/>
            <a:chExt cx="689040" cy="536760"/>
          </a:xfrm>
        </p:grpSpPr>
        <p:pic>
          <p:nvPicPr>
            <p:cNvPr id="139" name="Управляющая кнопка: далее 5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5937120" y="5821200"/>
              <a:ext cx="689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6000840" y="5857920"/>
              <a:ext cx="5713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zer</cp:lastModifiedBy>
  <dcterms:modified xsi:type="dcterms:W3CDTF">2021-02-03T13:03:55Z</dcterms:modified>
  <cp:revision>85</cp:revision>
  <dc:subject/>
  <dc:title>Презентация PowerPoint</dc:title>
</cp:coreProperties>
</file>